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42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46.png" ContentType="image/png"/>
  <Override PartName="/ppt/media/image32.jpeg" ContentType="image/jpeg"/>
  <Override PartName="/ppt/media/image5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68A-9146-4460-830F-10CFAE17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4CF-F47C-45E5-BB87-FB1D56D0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036-CFF7-47CA-AD76-6D90E942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D01-D81A-409A-8B1D-485CD3F2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403-AB6F-4334-AF8E-F9701D76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52D-E94D-4D51-A355-B95CFBB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997-AC33-436D-9C98-865580D3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D09-C511-4086-8410-5936AD8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D7A-9854-44B5-8623-D95D2F45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BF5-ABAA-4C10-85A4-B618AF0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C41-DA6D-4D41-BFDC-EFCBFA5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BD1-068C-47BA-8A3C-DFC4D04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B02D-E1C0-43DA-B941-C5E04DE39D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852640"/>
            <a:ext cx="7925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ma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istema de Ob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n Meteor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1278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8880" y="1278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68360" y="2421000"/>
            <a:ext cx="5112000" cy="4103640"/>
            <a:chOff x="2268360" y="2421000"/>
            <a:chExt cx="5112000" cy="4103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268360" y="2421000"/>
              <a:ext cx="5112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268360" y="2421000"/>
              <a:ext cx="1625400" cy="205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755640" y="126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Nefobasimetr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Ceilomet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: Envia y recibe pulso laser. Retorno depende de existencia de nubes, permitiendo conocer la altura de su base. Uso en aeropuert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menos 3 en Chile (DMC, UCH). US$ 3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1880" y="69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00360" y="692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 NEFOBASI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@ DGF-UCH (en operación desde Enero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755720"/>
            <a:ext cx="8424720" cy="474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321440" cy="404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I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laser. Su disperción y retorno depende de la presencia de aerosoles, permitiendo conocer la altura de la capa de mezcla. Uso en estudios de calida del aire. US$ 100.000. No hay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360" y="76212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1152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4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SO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acustico. Su disperción y retorno depende de la velocidad del viento, permitiendo conocer su perfil vertical (</a:t>
            </a:r>
            <a:r>
              <a:rPr b="1" lang="es-CL" sz="1800" spc="-1" strike="noStrike">
                <a:solidFill>
                  <a:srgbClr val="ff9999"/>
                </a:solidFill>
                <a:latin typeface="Arial"/>
              </a:rPr>
              <a:t>wind profil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. Uso en estudios de calida del aire, generación eolica, etc. US$ 200.000. Varios en Chile (Paipote, Ventana, Chuqicam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356000" y="2997360"/>
            <a:ext cx="4356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48428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RAS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(Radio Acoustic Sounding System): Emite y recibe ondas de radio, cuya disperción depende de la temperatura y turbulencia, permitiendo estimar el perfil de temperatura. Uso en estudios de calida del air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S$ 200.000. No hay en Chile ac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60036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10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340000" y="2637000"/>
            <a:ext cx="4463640" cy="3847680"/>
            <a:chOff x="2340000" y="2637000"/>
            <a:chExt cx="4463640" cy="38476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340000" y="2637000"/>
              <a:ext cx="446364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40000" y="2637000"/>
              <a:ext cx="1782360" cy="17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900000" y="1413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es meteorológic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emplean dispersión de microondas por hidrometeoros y efecto doppler para determinar precipitación y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US$ 60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1880" y="76500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85800"/>
            <a:ext cx="8610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ción Rem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aformas satel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ómetros y radares en orbita nos permiten conocer variables atmosféricas a una escala global y con resolución de mesoescala. Particularmente bienvenidos donde datos superficiales / radiosondas son escasos (e.g., Pacifico s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os satélites meteorológicos (TIROS) datan de los 50’, pero desde los años 90’ hay un aumento increíble de la capacidad y diversidad de “satélites ambiental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jemplos mas notabl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76520" y="4486320"/>
            <a:ext cx="5429160" cy="1380960"/>
            <a:chOff x="1676520" y="4486320"/>
            <a:chExt cx="5429160" cy="13809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676520" y="4486320"/>
              <a:ext cx="213336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886200" y="4486320"/>
              <a:ext cx="18288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791320" y="4486320"/>
              <a:ext cx="13143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118960" y="59547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8160" y="5943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6920" y="59436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1008000"/>
            <a:ext cx="6019920" cy="501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5791320"/>
            <a:ext cx="6019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..pero hay muchos 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2819520" cy="199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23880" y="41990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34080" y="91440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ES: Geostationary environmental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see un radiometro multicanal: VIS, IR, 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204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452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3524400" cy="4505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uiendo los ragos nubosos de GOES se puede inferir el campo de viento a distintos nive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784080"/>
            <a:ext cx="7772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Preguntas cla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conocemos las condiciones en superificie y al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quién se encarga de todo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nos ayudan los satelites a conocer el tiem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representamos la atmó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760" y="1447920"/>
            <a:ext cx="39560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6560" y="66024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: Tropical Rainfall Measuremen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523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 (microondas) a bordo del satelite de orbita polar permite cuantificar el numero y tamaño de los hidrometeo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341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4286160" cy="4762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58000" y="6602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 (seawind) y otras 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caterometer (mide rugo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perficie del mar) a bordo del satelite de orbita polar permite estimar viento en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71640" y="620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REDES DE OBSER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268280"/>
          <a:ext cx="8713800" cy="5040360"/>
        </p:xfrm>
        <a:graphic>
          <a:graphicData uri="http://schemas.openxmlformats.org/drawingml/2006/table">
            <a:tbl>
              <a:tblPr/>
              <a:tblGrid>
                <a:gridCol w="1800000"/>
                <a:gridCol w="2376720"/>
                <a:gridCol w="2089080"/>
                <a:gridCol w="2448000"/>
              </a:tblGrid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as p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óp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para diagnóstico y pronóstico del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Td, Pres, Precip, Viento, Tiempo, etc. </a:t>
                      </a: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os de a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un registro continuo, largo y homogéneo de variables atmosfé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precip., pres.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aire y contaminación atmosf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calidad del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viento, turbulencia, etc. + Observaciones de calidad de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ambientales (e.g., CONAMA) y empresas privadas (e.g., CODEL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, Caudal,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hidrológicas (e.g., DGA) y empresas privadas (e.g, ENDES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agrí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radiación solar, evapotranspiración, humedad del suelo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y empresas privadas (e.g., DO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2692440"/>
            <a:ext cx="7086600" cy="378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762120"/>
            <a:ext cx="746748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estaciones de Sinóptic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tierra + ocea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servaciones met. cada 6 horas (UTC): 0, 6, 12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hile HL=UTC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29520" cy="261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36640" y="1335240"/>
            <a:ext cx="60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do es coordinado por la O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raves de los servicios met. 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9800" y="606888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eather.uwyo.edu/surface/mete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6095880"/>
            <a:ext cx="49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fomet.dgf.uchile.cl/OBSERVACIONES/observacion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33480" y="60948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se transmiten en tiempo real a traves del GTS...disponible via intern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3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933960" cy="377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143000"/>
            <a:ext cx="78483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Radiosondas (OMM, G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20 km) de T, HR, viento, presión, cada 12 / 24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16318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17840" y="609480"/>
            <a:ext cx="48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eather.uwyo.edu/upperair/soundin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639880"/>
            <a:ext cx="7407360" cy="3760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488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observación local (CONAMA-D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486400"/>
            <a:ext cx="3944880" cy="800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: red de CONAMA-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servaciones horarias de T, HR, vi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. Solar y calidad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858000" cy="49528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18288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x, T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dad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rometro / Psicr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s pa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ometro / Niv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ro / Vel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f,dd) o (u,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 Atmosf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ro / Alt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fc, P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 sol, inten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, dif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infraroja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IR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suel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s niv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 calor al sub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s turbul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. s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LE,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multi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68320" y="53352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bservaciones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6095880"/>
            <a:ext cx="6111720" cy="337320"/>
            <a:chOff x="1600200" y="6095880"/>
            <a:chExt cx="6111720" cy="337320"/>
          </a:xfrm>
        </p:grpSpPr>
        <p:sp>
          <p:nvSpPr>
            <p:cNvPr id="51" name=""/>
            <p:cNvSpPr/>
            <p:nvPr/>
          </p:nvSpPr>
          <p:spPr>
            <a:xfrm>
              <a:off x="160020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g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456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3160" y="617184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in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2120" y="617184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60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ic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4480" y="6171840"/>
              <a:ext cx="22860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19720" cy="346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4720" y="104148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ción meteorologica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960" y="2514600"/>
            <a:ext cx="3698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bertizo meteoroló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(Hg) normal y max/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de bulbo húmedo/seco (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i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tro de cabello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rómetro (pres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Heliógrafo (horas de s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51468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4360" y="1295280"/>
            <a:ext cx="41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ón Meteorológica automá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ómetro e higr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r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ro (Rad. Solar / 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sen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logger – modulo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transmisión (tel., radio, s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4600" y="4724280"/>
            <a:ext cx="485784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preci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frecuentes (1h, 1min, 1seg, 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en tiempo real / remoto /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t-procesamiento de la información (aler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9144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: Globos Pilotos (P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económica de vientos en altura a través del seguimiento óptico (az,el) de un globo de H o H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486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84360" y="2971440"/>
            <a:ext cx="4298400" cy="3073680"/>
            <a:chOff x="684360" y="2971440"/>
            <a:chExt cx="4298400" cy="30736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84360" y="2971800"/>
              <a:ext cx="2031480" cy="30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198600" y="2971800"/>
              <a:ext cx="17841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446120" y="2971440"/>
              <a:ext cx="17521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2080" y="5257440"/>
              <a:ext cx="167616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371600" y="9144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I: Radioso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prox. US$ 200 / 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527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10080" y="1219320"/>
            <a:ext cx="2799000" cy="414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858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II: Globos Ca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lcance lim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4876560" cy="209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308240" cy="14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510000" cy="2603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492280"/>
            <a:ext cx="2592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46:14Z</dcterms:created>
  <dc:creator>U. de Chile</dc:creator>
  <dc:description/>
  <dc:language>en-US</dc:language>
  <cp:lastModifiedBy>Ingrid</cp:lastModifiedBy>
  <dcterms:modified xsi:type="dcterms:W3CDTF">2007-08-29T18:45:39Z</dcterms:modified>
  <cp:revision>91</cp:revision>
  <dc:subject/>
  <dc:title>Diapositiva 1</dc:title>
</cp:coreProperties>
</file>