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166-C6A1-4A98-8A6D-ABD8ABC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5D4-37EA-4248-ADBD-F110429B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E86-8759-417F-A3FC-B91ED9B6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58D-96E9-45E6-9024-E1173801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958-04EE-4E3E-81B7-2567BD9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E29-66C2-4046-A3E5-C478B0B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11C-59DB-48C3-B8E4-637FDB4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0C3-3AE3-4878-B871-8B2A7A07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E5F-E2A3-4781-87B3-61664FF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FD8-8C1C-4091-A541-9E1B201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58D-139E-4058-BBB0-CA52FFC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98A-99AD-4D10-8168-3DC00F4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21FA-9A13-4202-8CCB-4FABEE77F2F8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ase Auxiliar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P. Auxiliar: Ricardo Olivares Q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" y="260280"/>
            <a:ext cx="782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24960" cy="5846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Arial"/>
              </a:rPr>
              <a:t>Principios de construcción de balances de masa y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Mater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686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Los balances de materiales pueden ser descritos en términos d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tot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total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atómi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especies atómic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un proceso en estado – estable continuo la acumulación = 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NTRADA = SALI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819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Temario Clase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Datos estadísticos de fundiciones en Chi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Flowsheets de fundiciones chilen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Mas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Total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fund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aire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oxigen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ga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A causa que el proceso no es continuo, no hay estado estacionario de entrada y salida de materiales y debe estar referido a la unidad de tiempo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,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: acumulación de escoria y mata en el Reactor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de Cobre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ios de construcción de balance de mas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ción Gráfica – Diagrama de Sanke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lance de materiales para una masa desconocida de producto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Suposiciones y procedimient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polvos es conocida como un porcentaje de la alimentació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composición química de los productos es conocid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la escoria y mata de cobre es calculada por la comparación del balance de fierro y cobr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cobre se verifica por balance de síl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saber la utilización de oxígeno, la masa de gases de salida se calcula basado en los balances de azufre y oxígen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acumulación de mata de cobre y escoria es conocida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álculo de masa de escoria y mat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Cobr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Fierr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Con dos ecuaciones y dos incógnitas es posible resolver el sistema y obtener las masas buscadas.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n concentrado húmedo que contiene 8% H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O, 89,2% CuFeS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y 2,8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se funde en un horno de reverbero, obteniéndose un eje compuesto de Cu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 y FeS (42 % Cu) y una escoria con 65% FeO y 35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 El calor y oxígeno necesario para producir estos productos, es suministrado por un quemador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Arial"/>
              </a:rPr>
              <a:t>Calcul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Peso del metal blanco, de la escoria y fundente necesari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Volumen de oxígeno requerido y de SO</a:t>
            </a:r>
            <a:r>
              <a:rPr b="0" lang="es-MX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 producido. (no considere nitrógeno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romedio del valor de la capacidad calorífica en el rango de temperatura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21264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El calor necesario para calentar una masa de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de una especie i desde la temperatur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calor, J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masa de la especie i, kg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p(i)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promedio de la capacidad calorífica de la especie i, J Kg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 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 u="sng">
                <a:solidFill>
                  <a:srgbClr val="f8f8f8"/>
                </a:solidFill>
                <a:uFillTx/>
                <a:latin typeface="Arial"/>
              </a:rPr>
              <a:t>Nota: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p también se puede trabajar en unidades de 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capacidad calorífica molar, con unidades de J mol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 K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En este último caso deberemos trabajar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on unidades de mol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92360" y="3645000"/>
                <a:ext cx="267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80000" y="1628640"/>
                <a:ext cx="1714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8f8f8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Encuentre el calor necesario para calentar y fundir 1 kg. de cobre desde 500 K a 1500 K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.14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57 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s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7.3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l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45.2 J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PM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63.55 gr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i="1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 = 1330 MJ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0760" y="4365720"/>
                <a:ext cx="6256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sió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Principios de construcción de balances de energí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alor de Reacción: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 FeS + 5 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= Fe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+ 3 S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2637000"/>
                <a:ext cx="3311640" cy="19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1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S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55640" y="5013360"/>
                <a:ext cx="770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ción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0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1016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4581360"/>
                <a:ext cx="7162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to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tante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umulad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érdid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El balance de energía puede ser descrito en términos d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talpía de todas las especies (fases) en la entrada y salida de materia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mbios relativos de entalpía de todas las especies con su masa y temperatura.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1. Calcular el calor estándar  de formación de PbO desde sus componentes Pb y O2 a 227 ºC (500 K), considerando los siguientes datos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H0 298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- 52,4  kcal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10,6 + 4,0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 5,63 + 2,33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Cp (O2)         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7,16 + 1,00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T - 0,4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2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cal/K mol</a:t>
            </a:r>
            <a:br>
              <a:rPr sz="2000"/>
            </a:b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siendo,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sólido, ( ) g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f8f8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s pérdidas de calor de reactores metalúrgicos pueden ser determinadas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sde el balance de energí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lujo de calor a través de las paredes del hor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lor transferido desde la carcaza del horno o del agente refrigeran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010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31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Catedra de Pirometalurgia</cp:lastModifiedBy>
  <dcterms:modified xsi:type="dcterms:W3CDTF">2007-03-26T19:19:19Z</dcterms:modified>
  <cp:revision>82</cp:revision>
  <dc:subject/>
  <dc:title>Clases Auxiliares MI 51A - Pirometalurgia</dc:title>
</cp:coreProperties>
</file>