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3731-BAC8-4A67-AD53-93E14244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0858-A95D-47FC-9AAB-2672ABA4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0F48-5665-40B8-852E-EB188AE0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C038-6151-4F25-AF7C-FEF31960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D362-FE71-4944-9375-0F239512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42F5-14ED-47E9-B4FF-3FDF5DFB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A7C3-833C-4A4F-90EA-F0F8A5C8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5A86-2A39-4A0E-A747-536C9595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9D18-B51C-4DFE-8413-EF50FDD0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E423-2DA7-4989-8AB3-3569E0AB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C58E-2E17-4979-BC08-C4EA3FB5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D19C-2BCE-45E2-8E63-CC0BF45D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2D80-6740-4B61-A53E-A4B8AD430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6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oladuras tipo Cráter</a:t>
            </a:r>
            <a:br>
              <a:rPr sz="4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carga concentr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so de Est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Tesor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K. H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971640" y="1484280"/>
                <a:ext cx="69850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=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+  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s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+ </m:t>
                                    </m:r>
                                    <m:s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+  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7956720" cy="57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195640" y="3284640"/>
                <a:ext cx="468000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=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/n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 + 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26920" y="4923000"/>
            <a:ext cx="79203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K. H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777080" cy="3112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rcRect l="0" t="0" r="0" b="5454"/>
          <a:stretch/>
        </p:blipFill>
        <p:spPr>
          <a:xfrm>
            <a:off x="900000" y="4508640"/>
            <a:ext cx="7272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K. H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2560" y="1773360"/>
            <a:ext cx="7561440" cy="4136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4360" y="12430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estiona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84360" y="1844640"/>
          <a:ext cx="3673440" cy="35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844640"/>
                    <a:ext cx="3673440" cy="35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3"/>
          <a:srcRect l="37912" t="0" r="35899" b="-28309"/>
          <a:stretch/>
        </p:blipFill>
        <p:spPr>
          <a:xfrm>
            <a:off x="4716360" y="1557360"/>
            <a:ext cx="2809800" cy="719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rcRect l="-1211" t="0" r="78214" b="18313"/>
          <a:stretch/>
        </p:blipFill>
        <p:spPr>
          <a:xfrm>
            <a:off x="5651640" y="2492280"/>
            <a:ext cx="2736720" cy="303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rcRect l="-1391" t="0" r="78214" b="-5291"/>
          <a:stretch/>
        </p:blipFill>
        <p:spPr>
          <a:xfrm>
            <a:off x="6443640" y="3284640"/>
            <a:ext cx="2397240" cy="396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148360" y="4797360"/>
                <a:ext cx="2519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=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  <m:r>
                          <m:t xml:space="preserve">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/3 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05" name=""/>
          <p:cNvCxnSpPr>
            <a:endCxn id="100" idx="1"/>
          </p:cNvCxnSpPr>
          <p:nvPr/>
        </p:nvCxnSpPr>
        <p:spPr>
          <a:xfrm flipV="1">
            <a:off x="4357800" y="1917360"/>
            <a:ext cx="358920" cy="16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endCxn id="101" idx="1"/>
          </p:cNvCxnSpPr>
          <p:nvPr/>
        </p:nvCxnSpPr>
        <p:spPr>
          <a:xfrm flipV="1">
            <a:off x="4357800" y="2644560"/>
            <a:ext cx="1294560" cy="96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endCxn id="102" idx="1"/>
          </p:cNvCxnSpPr>
          <p:nvPr/>
        </p:nvCxnSpPr>
        <p:spPr>
          <a:xfrm flipV="1">
            <a:off x="4357800" y="3482640"/>
            <a:ext cx="208656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971640" y="1700280"/>
                <a:ext cx="2519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=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  <m:r>
                          <m:t xml:space="preserve">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/3 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09" name=""/>
          <p:cNvCxnSpPr>
            <a:stCxn id="110" idx="0"/>
            <a:endCxn id="111" idx="1"/>
          </p:cNvCxnSpPr>
          <p:nvPr/>
        </p:nvCxnSpPr>
        <p:spPr>
          <a:xfrm>
            <a:off x="3203640" y="1483920"/>
            <a:ext cx="721440" cy="113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392436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te =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484280"/>
            <a:ext cx="1224000" cy="1152720"/>
          </a:xfrm>
          <a:custGeom>
            <a:avLst/>
            <a:gdLst/>
            <a:ahLst/>
            <a:rect l="l" t="t" r="r" b="b"/>
            <a:pathLst>
              <a:path w="771" h="726">
                <a:moveTo>
                  <a:pt x="0" y="680"/>
                </a:moveTo>
                <a:lnTo>
                  <a:pt x="0" y="408"/>
                </a:lnTo>
                <a:lnTo>
                  <a:pt x="499" y="408"/>
                </a:lnTo>
                <a:lnTo>
                  <a:pt x="499" y="0"/>
                </a:lnTo>
                <a:lnTo>
                  <a:pt x="771" y="0"/>
                </a:lnTo>
                <a:lnTo>
                  <a:pt x="771" y="363"/>
                </a:lnTo>
                <a:lnTo>
                  <a:pt x="590" y="363"/>
                </a:lnTo>
                <a:lnTo>
                  <a:pt x="590" y="726"/>
                </a:lnTo>
                <a:lnTo>
                  <a:pt x="91" y="726"/>
                </a:lnTo>
                <a:lnTo>
                  <a:pt x="0" y="68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37167" b="5595"/>
          <a:stretch/>
        </p:blipFill>
        <p:spPr>
          <a:xfrm>
            <a:off x="2627280" y="2781360"/>
            <a:ext cx="5796000" cy="708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>
            <a:alphaModFix amt="42000"/>
          </a:blip>
          <a:srcRect l="35188" t="16168" r="33329" b="19402"/>
          <a:stretch/>
        </p:blipFill>
        <p:spPr>
          <a:xfrm>
            <a:off x="2843280" y="4076640"/>
            <a:ext cx="3457440" cy="560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826920" y="4844880"/>
            <a:ext cx="78487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1649520"/>
            <a:ext cx="7777080" cy="1563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>
            <a:alphaModFix amt="30000"/>
          </a:blip>
          <a:srcRect l="30765" t="7774" r="30765" b="21201"/>
          <a:stretch/>
        </p:blipFill>
        <p:spPr>
          <a:xfrm>
            <a:off x="2916360" y="3927600"/>
            <a:ext cx="3243240" cy="54288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3708360" y="4935600"/>
            <a:ext cx="2736720" cy="871560"/>
            <a:chOff x="3708360" y="4935600"/>
            <a:chExt cx="2736720" cy="871560"/>
          </a:xfrm>
        </p:grpSpPr>
        <p:pic>
          <p:nvPicPr>
            <p:cNvPr id="120" name="" descr=""/>
            <p:cNvPicPr/>
            <p:nvPr/>
          </p:nvPicPr>
          <p:blipFill>
            <a:blip r:embed="rId3"/>
            <a:srcRect l="33329" t="14892" r="35893" b="11169"/>
            <a:stretch/>
          </p:blipFill>
          <p:spPr>
            <a:xfrm>
              <a:off x="3708360" y="4935600"/>
              <a:ext cx="27367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213080" y="5438880"/>
              <a:ext cx="187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Ley de Similitu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140360" y="3927600"/>
            <a:ext cx="647640" cy="647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4575240"/>
            <a:ext cx="64764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valores de  "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"  y  "E"  se obtienen, para una determinada combin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explosivo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roc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mediante una serie de ensayos o pruebas, que consisten en medir el volumen del cráter que se forma al hacer detonar una misma cantidad de explosivo (Q) a diferentes profundidades (B)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050920" y="3274920"/>
          <a:ext cx="5257800" cy="33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274920"/>
                    <a:ext cx="5257800" cy="33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" name=""/>
          <p:cNvGrpSpPr/>
          <p:nvPr/>
        </p:nvGrpSpPr>
        <p:grpSpPr>
          <a:xfrm>
            <a:off x="108000" y="5013000"/>
            <a:ext cx="2879640" cy="1073160"/>
            <a:chOff x="108000" y="5013000"/>
            <a:chExt cx="2879640" cy="1073160"/>
          </a:xfrm>
        </p:grpSpPr>
        <p:sp>
          <p:nvSpPr>
            <p:cNvPr id="130" name=""/>
            <p:cNvSpPr/>
            <p:nvPr/>
          </p:nvSpPr>
          <p:spPr>
            <a:xfrm>
              <a:off x="108000" y="5300640"/>
              <a:ext cx="1944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isparo al a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Onda expans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908000" y="5013000"/>
              <a:ext cx="107964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6360" y="3284640"/>
            <a:ext cx="3888000" cy="1334160"/>
            <a:chOff x="36360" y="3284640"/>
            <a:chExt cx="3888000" cy="1334160"/>
          </a:xfrm>
        </p:grpSpPr>
        <p:sp>
          <p:nvSpPr>
            <p:cNvPr id="133" name=""/>
            <p:cNvSpPr/>
            <p:nvPr/>
          </p:nvSpPr>
          <p:spPr>
            <a:xfrm>
              <a:off x="36360" y="3284640"/>
              <a:ext cx="208764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ráter inferior al ópti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Mayor fragmen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63640" y="3860640"/>
              <a:ext cx="216072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292360" y="3213000"/>
            <a:ext cx="3926160" cy="1152720"/>
            <a:chOff x="5292360" y="3213000"/>
            <a:chExt cx="3926160" cy="1152720"/>
          </a:xfrm>
        </p:grpSpPr>
        <p:sp>
          <p:nvSpPr>
            <p:cNvPr id="136" name=""/>
            <p:cNvSpPr/>
            <p:nvPr/>
          </p:nvSpPr>
          <p:spPr>
            <a:xfrm>
              <a:off x="7130880" y="3213000"/>
              <a:ext cx="208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ráter que no alcanza la carg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5292360" y="3933720"/>
              <a:ext cx="215892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300720" y="4543560"/>
            <a:ext cx="2957760" cy="1059840"/>
            <a:chOff x="6300720" y="4543560"/>
            <a:chExt cx="2957760" cy="1059840"/>
          </a:xfrm>
        </p:grpSpPr>
        <p:sp>
          <p:nvSpPr>
            <p:cNvPr id="139" name=""/>
            <p:cNvSpPr/>
            <p:nvPr/>
          </p:nvSpPr>
          <p:spPr>
            <a:xfrm>
              <a:off x="7170840" y="4543560"/>
              <a:ext cx="208764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eformación de ro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Ondas Sísm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6300720" y="5157720"/>
              <a:ext cx="12240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11280" y="1484280"/>
            <a:ext cx="8208720" cy="1513080"/>
            <a:chOff x="611280" y="1484280"/>
            <a:chExt cx="8208720" cy="151308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rcRect l="0" t="0" r="0" b="16023"/>
            <a:stretch/>
          </p:blipFill>
          <p:spPr>
            <a:xfrm>
              <a:off x="611280" y="1484280"/>
              <a:ext cx="806436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292720" y="2421000"/>
              <a:ext cx="352728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47640" y="2781360"/>
          <a:ext cx="6048720" cy="38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2781360"/>
                    <a:ext cx="6048720" cy="38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219640" y="3429000"/>
            <a:ext cx="19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 combinaciones explosivo - ro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80360" cy="93672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2410920" y="1915920"/>
            <a:ext cx="5545800" cy="1506600"/>
            <a:chOff x="2410920" y="1915920"/>
            <a:chExt cx="5545800" cy="1506600"/>
          </a:xfrm>
        </p:grpSpPr>
        <p:sp>
          <p:nvSpPr>
            <p:cNvPr id="152" name=""/>
            <p:cNvSpPr/>
            <p:nvPr/>
          </p:nvSpPr>
          <p:spPr>
            <a:xfrm>
              <a:off x="3708360" y="2637000"/>
              <a:ext cx="4248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omportamiento dúctil – plást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lto módulo Pois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410920" y="1915920"/>
              <a:ext cx="129708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3276360" y="2276640"/>
              <a:ext cx="43164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84360" y="1916280"/>
            <a:ext cx="3313080" cy="2226960"/>
            <a:chOff x="684360" y="1916280"/>
            <a:chExt cx="3313080" cy="2226960"/>
          </a:xfrm>
        </p:grpSpPr>
        <p:sp>
          <p:nvSpPr>
            <p:cNvPr id="156" name=""/>
            <p:cNvSpPr/>
            <p:nvPr/>
          </p:nvSpPr>
          <p:spPr>
            <a:xfrm>
              <a:off x="684360" y="3357720"/>
              <a:ext cx="3313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omportamiento duro – ríg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Bajo módulo Pois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1476360" y="1916280"/>
              <a:ext cx="1511280" cy="14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1476360" y="2276280"/>
              <a:ext cx="64764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826920" y="4735440"/>
            <a:ext cx="74901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as blandas – dúctil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ión expansiva de los g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acterísticas energéticas del explo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as duras – rígida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acto de la onda de cho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acterísticas rompedoras del explo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C. LIVING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11280" y="1125360"/>
            <a:ext cx="4824360" cy="647640"/>
            <a:chOff x="611280" y="1125360"/>
            <a:chExt cx="4824360" cy="64764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rcRect l="0" t="53772" r="80893" b="-22859"/>
            <a:stretch/>
          </p:blipFill>
          <p:spPr>
            <a:xfrm>
              <a:off x="611280" y="1125360"/>
              <a:ext cx="158256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2193840" y="1197000"/>
              <a:ext cx="324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Tipo de cráter que se for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2"/>
          <a:srcRect l="0" t="0" r="23223" b="84266"/>
          <a:stretch/>
        </p:blipFill>
        <p:spPr>
          <a:xfrm>
            <a:off x="826920" y="1728720"/>
            <a:ext cx="5905800" cy="9082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916360" y="2757600"/>
                <a:ext cx="33843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= 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A</m:t>
                    </m:r>
                    <m:r>
                      <m:t xml:space="preserve">x</m:t>
                    </m:r>
                    <m:r>
                      <m:t xml:space="preserve">B</m:t>
                    </m:r>
                    <m:r>
                      <m:t xml:space="preserve">x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[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/kg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042920" y="3471840"/>
            <a:ext cx="705636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SIDERACIONES  PRELIMINAR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s de ruptura de la roca por efecto de la detonación de una carga explosiva asumen algunos supuestos a la ro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inuo, homogéneo, isótropo, elás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todologías empí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0" b="7014"/>
          <a:stretch/>
        </p:blipFill>
        <p:spPr>
          <a:xfrm>
            <a:off x="971640" y="2973240"/>
            <a:ext cx="741672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SIDERACIONES  PRELIMINAR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0" b="6520"/>
          <a:stretch/>
        </p:blipFill>
        <p:spPr>
          <a:xfrm>
            <a:off x="684360" y="1413000"/>
            <a:ext cx="7777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SIDERACIONES  PRELIMINAR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0" b="3665"/>
          <a:stretch/>
        </p:blipFill>
        <p:spPr>
          <a:xfrm>
            <a:off x="684360" y="1069920"/>
            <a:ext cx="7632720" cy="56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FIGURACIONES BÁ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71640" y="1773360"/>
          <a:ext cx="296064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773360"/>
                    <a:ext cx="296064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219640" y="1268280"/>
          <a:ext cx="2624040" cy="460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1268280"/>
                    <a:ext cx="26240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682560" y="5805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A LIBRE INFIN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88000" y="5877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 CARAS LIB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SEÑO VOLADURAS TIPO CRÁ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imar kg explosivo para crear cierto crá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timizar m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removidos v/s kg explosivo (Ley de Similitu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una determinada combin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explosivo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roc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los efectos producidos por la detonación de cargas concentradas diferentes en cuanto a cantidad (comparando situaciones homólogas) son geométricamente semejantes, y la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razón de similitu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ara las magnitudes lineales está dada por la 'raíz cúbica' de la cantidad de explo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Homóloga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cráteres de máximo volumen, distribución granulométrica equival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SEÑO VOLADURAS TIPO CRÁ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332000" y="1341360"/>
          <a:ext cx="6840360" cy="22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41360"/>
                    <a:ext cx="684036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" descr=""/>
          <p:cNvPicPr/>
          <p:nvPr/>
        </p:nvPicPr>
        <p:blipFill>
          <a:blip r:embed="rId3"/>
          <a:srcRect l="0" t="12068" r="0" b="0"/>
          <a:stretch/>
        </p:blipFill>
        <p:spPr>
          <a:xfrm>
            <a:off x="1042920" y="3394080"/>
            <a:ext cx="7380360" cy="2627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>
            <a:alphaModFix amt="54000"/>
          </a:blip>
          <a:srcRect l="33329" t="14892" r="35893" b="11169"/>
          <a:stretch/>
        </p:blipFill>
        <p:spPr>
          <a:xfrm>
            <a:off x="3348000" y="6102360"/>
            <a:ext cx="2736720" cy="56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6408720" y="6230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 = f (roca, explosi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00720" y="6078600"/>
            <a:ext cx="2592360" cy="647640"/>
          </a:xfrm>
          <a:prstGeom prst="ellipse">
            <a:avLst/>
          </a:prstGeom>
          <a:solidFill>
            <a:srgbClr val="ff0000">
              <a:alpha val="14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K. H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rente de onda esférico, reflejada como fatiga de trac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istencia a la tracción S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nor que resistencia compresión S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racturamiento por pla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364000" y="2060640"/>
          <a:ext cx="3251520" cy="32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2060640"/>
                    <a:ext cx="3251520" cy="32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" descr=""/>
          <p:cNvPicPr/>
          <p:nvPr/>
        </p:nvPicPr>
        <p:blipFill>
          <a:blip r:embed="rId3"/>
          <a:srcRect l="30752" t="32626" r="30785" b="12942"/>
          <a:stretch/>
        </p:blipFill>
        <p:spPr>
          <a:xfrm>
            <a:off x="826920" y="4724280"/>
            <a:ext cx="4248360" cy="708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3400" b="0"/>
          <a:stretch/>
        </p:blipFill>
        <p:spPr>
          <a:xfrm>
            <a:off x="611280" y="3645000"/>
            <a:ext cx="7993080" cy="2428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203640" y="2349360"/>
                <a:ext cx="23763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= 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ETODOLOGÍA DE K. H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ey de atenu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3:06:35Z</dcterms:created>
  <dc:creator>felipe</dc:creator>
  <dc:description/>
  <dc:language>en-US</dc:language>
  <cp:lastModifiedBy>*</cp:lastModifiedBy>
  <dcterms:modified xsi:type="dcterms:W3CDTF">2007-10-26T06:23:55Z</dcterms:modified>
  <cp:revision>48</cp:revision>
  <dc:subject/>
  <dc:title>MI 47 – A Perforación y Tronadura</dc:title>
</cp:coreProperties>
</file>