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84D-B85F-43D7-8316-9F559B68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8F5-3A24-440B-8488-D2E213E1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570-29FF-4F64-85AB-A0555E2A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5CA-7073-4262-B160-B50B7B88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3CD-440A-454A-AD62-EAE4A8B6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E0B-F65B-48DD-9233-049FE09E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8A5-A0B7-4FF2-92EE-7CD8E3E0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49B-9D3E-4465-B0D7-C4C1D86D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B7E-7C5D-4705-93A4-FC48CF9F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D51-AA81-4652-8EF1-C5C382FF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32A-FCFF-42CF-841A-67FF973A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B3B-26E9-41BC-9A8C-80DDB06B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5950-25E0-4037-9AD2-25E298C44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6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oladuras tipo Cráter</a:t>
            </a: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arga concent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de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eso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71640" y="1484280"/>
                <a:ext cx="6985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=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+ 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+ </m:t>
                                    </m:r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+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95672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95640" y="3284640"/>
                <a:ext cx="4680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/n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+ 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4923000"/>
            <a:ext cx="7920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77080" cy="311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5454"/>
          <a:stretch/>
        </p:blipFill>
        <p:spPr>
          <a:xfrm>
            <a:off x="900000" y="4508640"/>
            <a:ext cx="7272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2560" y="1773360"/>
            <a:ext cx="7561440" cy="413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12430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844640"/>
          <a:ext cx="36734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367344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rcRect l="37912" t="0" r="35899" b="-28309"/>
          <a:stretch/>
        </p:blipFill>
        <p:spPr>
          <a:xfrm>
            <a:off x="4716360" y="1557360"/>
            <a:ext cx="2809800" cy="7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-1211" t="0" r="78214" b="18313"/>
          <a:stretch/>
        </p:blipFill>
        <p:spPr>
          <a:xfrm>
            <a:off x="5651640" y="2492280"/>
            <a:ext cx="273672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-1391" t="0" r="78214" b="-5291"/>
          <a:stretch/>
        </p:blipFill>
        <p:spPr>
          <a:xfrm>
            <a:off x="6443640" y="3284640"/>
            <a:ext cx="2397240" cy="39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48360" y="479736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5" name=""/>
          <p:cNvCxnSpPr>
            <a:endCxn id="100" idx="1"/>
          </p:cNvCxnSpPr>
          <p:nvPr/>
        </p:nvCxnSpPr>
        <p:spPr>
          <a:xfrm flipV="1">
            <a:off x="4357800" y="1917360"/>
            <a:ext cx="35892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101" idx="1"/>
          </p:cNvCxnSpPr>
          <p:nvPr/>
        </p:nvCxnSpPr>
        <p:spPr>
          <a:xfrm flipV="1">
            <a:off x="4357800" y="2644560"/>
            <a:ext cx="12945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endCxn id="102" idx="1"/>
          </p:cNvCxnSpPr>
          <p:nvPr/>
        </p:nvCxnSpPr>
        <p:spPr>
          <a:xfrm flipV="1">
            <a:off x="4357800" y="3482640"/>
            <a:ext cx="20865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71640" y="170028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9" name=""/>
          <p:cNvCxnSpPr>
            <a:stCxn id="110" idx="0"/>
            <a:endCxn id="111" idx="1"/>
          </p:cNvCxnSpPr>
          <p:nvPr/>
        </p:nvCxnSpPr>
        <p:spPr>
          <a:xfrm>
            <a:off x="3203640" y="1483920"/>
            <a:ext cx="721440" cy="113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92436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e =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484280"/>
            <a:ext cx="1224000" cy="1152720"/>
          </a:xfrm>
          <a:custGeom>
            <a:avLst/>
            <a:gdLst/>
            <a:ahLst/>
            <a:rect l="l" t="t" r="r" b="b"/>
            <a:pathLst>
              <a:path w="771" h="726">
                <a:moveTo>
                  <a:pt x="0" y="680"/>
                </a:moveTo>
                <a:lnTo>
                  <a:pt x="0" y="408"/>
                </a:lnTo>
                <a:lnTo>
                  <a:pt x="499" y="408"/>
                </a:lnTo>
                <a:lnTo>
                  <a:pt x="499" y="0"/>
                </a:lnTo>
                <a:lnTo>
                  <a:pt x="771" y="0"/>
                </a:lnTo>
                <a:lnTo>
                  <a:pt x="771" y="363"/>
                </a:lnTo>
                <a:lnTo>
                  <a:pt x="590" y="363"/>
                </a:lnTo>
                <a:lnTo>
                  <a:pt x="590" y="726"/>
                </a:lnTo>
                <a:lnTo>
                  <a:pt x="91" y="726"/>
                </a:lnTo>
                <a:lnTo>
                  <a:pt x="0" y="68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37167" b="5595"/>
          <a:stretch/>
        </p:blipFill>
        <p:spPr>
          <a:xfrm>
            <a:off x="2627280" y="2781360"/>
            <a:ext cx="5796000" cy="70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alphaModFix amt="42000"/>
          </a:blip>
          <a:srcRect l="35188" t="16168" r="33329" b="19402"/>
          <a:stretch/>
        </p:blipFill>
        <p:spPr>
          <a:xfrm>
            <a:off x="2843280" y="4076640"/>
            <a:ext cx="3457440" cy="56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26920" y="4844880"/>
            <a:ext cx="784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649520"/>
            <a:ext cx="7777080" cy="1563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>
            <a:alphaModFix amt="30000"/>
          </a:blip>
          <a:srcRect l="30765" t="7774" r="30765" b="21201"/>
          <a:stretch/>
        </p:blipFill>
        <p:spPr>
          <a:xfrm>
            <a:off x="2916360" y="3927600"/>
            <a:ext cx="32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708360" y="4935600"/>
            <a:ext cx="2736720" cy="871560"/>
            <a:chOff x="3708360" y="4935600"/>
            <a:chExt cx="2736720" cy="87156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rcRect l="33329" t="14892" r="35893" b="11169"/>
            <a:stretch/>
          </p:blipFill>
          <p:spPr>
            <a:xfrm>
              <a:off x="3708360" y="4935600"/>
              <a:ext cx="27367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213080" y="5438880"/>
              <a:ext cx="18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ey de Similit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0360" y="3927600"/>
            <a:ext cx="64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4575240"/>
            <a:ext cx="64764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valores de  "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"  y  "E"  se obtienen, 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ediante una serie de ensayos o pruebas, que consisten en medir el volumen del cráter que se forma al hacer detonar una misma cantidad de explosivo (Q) a diferentes profundidades (B)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50920" y="3274920"/>
          <a:ext cx="525780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274920"/>
                    <a:ext cx="525780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108000" y="5013000"/>
            <a:ext cx="2879640" cy="1073160"/>
            <a:chOff x="108000" y="5013000"/>
            <a:chExt cx="2879640" cy="1073160"/>
          </a:xfrm>
        </p:grpSpPr>
        <p:sp>
          <p:nvSpPr>
            <p:cNvPr id="130" name=""/>
            <p:cNvSpPr/>
            <p:nvPr/>
          </p:nvSpPr>
          <p:spPr>
            <a:xfrm>
              <a:off x="108000" y="5300640"/>
              <a:ext cx="1944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sparo al a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 expans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908000" y="5013000"/>
              <a:ext cx="1079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360" y="3284640"/>
            <a:ext cx="3888000" cy="1334160"/>
            <a:chOff x="36360" y="3284640"/>
            <a:chExt cx="3888000" cy="1334160"/>
          </a:xfrm>
        </p:grpSpPr>
        <p:sp>
          <p:nvSpPr>
            <p:cNvPr id="133" name=""/>
            <p:cNvSpPr/>
            <p:nvPr/>
          </p:nvSpPr>
          <p:spPr>
            <a:xfrm>
              <a:off x="36360" y="3284640"/>
              <a:ext cx="208764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inferior al ópt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ayor frag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3640" y="3860640"/>
              <a:ext cx="2160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292360" y="3213000"/>
            <a:ext cx="3926160" cy="1152720"/>
            <a:chOff x="5292360" y="3213000"/>
            <a:chExt cx="3926160" cy="1152720"/>
          </a:xfrm>
        </p:grpSpPr>
        <p:sp>
          <p:nvSpPr>
            <p:cNvPr id="136" name=""/>
            <p:cNvSpPr/>
            <p:nvPr/>
          </p:nvSpPr>
          <p:spPr>
            <a:xfrm>
              <a:off x="7130880" y="321300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que no alcanza la ca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292360" y="3933720"/>
              <a:ext cx="21589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00720" y="4543560"/>
            <a:ext cx="2957760" cy="1059840"/>
            <a:chOff x="6300720" y="4543560"/>
            <a:chExt cx="2957760" cy="1059840"/>
          </a:xfrm>
        </p:grpSpPr>
        <p:sp>
          <p:nvSpPr>
            <p:cNvPr id="139" name=""/>
            <p:cNvSpPr/>
            <p:nvPr/>
          </p:nvSpPr>
          <p:spPr>
            <a:xfrm>
              <a:off x="7170840" y="4543560"/>
              <a:ext cx="2087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formación de ro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s Sísm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00720" y="515772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11280" y="1484280"/>
            <a:ext cx="8208720" cy="1513080"/>
            <a:chOff x="611280" y="1484280"/>
            <a:chExt cx="8208720" cy="15130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0" t="0" r="0" b="16023"/>
            <a:stretch/>
          </p:blipFill>
          <p:spPr>
            <a:xfrm>
              <a:off x="611280" y="1484280"/>
              <a:ext cx="8064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292720" y="2421000"/>
              <a:ext cx="3527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7640" y="2781360"/>
          <a:ext cx="6048720" cy="38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604872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19640" y="342900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combinaciones explosivo - ro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410920" y="1915920"/>
            <a:ext cx="5545800" cy="1506600"/>
            <a:chOff x="2410920" y="1915920"/>
            <a:chExt cx="5545800" cy="1506600"/>
          </a:xfrm>
        </p:grpSpPr>
        <p:sp>
          <p:nvSpPr>
            <p:cNvPr id="152" name=""/>
            <p:cNvSpPr/>
            <p:nvPr/>
          </p:nvSpPr>
          <p:spPr>
            <a:xfrm>
              <a:off x="3708360" y="2637000"/>
              <a:ext cx="4248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úctil – plá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lt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410920" y="1915920"/>
              <a:ext cx="129708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276360" y="2276640"/>
              <a:ext cx="43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4360" y="1916280"/>
            <a:ext cx="3313080" cy="2226960"/>
            <a:chOff x="684360" y="1916280"/>
            <a:chExt cx="3313080" cy="2226960"/>
          </a:xfrm>
        </p:grpSpPr>
        <p:sp>
          <p:nvSpPr>
            <p:cNvPr id="156" name=""/>
            <p:cNvSpPr/>
            <p:nvPr/>
          </p:nvSpPr>
          <p:spPr>
            <a:xfrm>
              <a:off x="684360" y="3357720"/>
              <a:ext cx="331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uro – ríg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aj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476360" y="1916280"/>
              <a:ext cx="151128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476360" y="2276280"/>
              <a:ext cx="64764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4735440"/>
            <a:ext cx="7490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blandas – dúctil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ión expansiva de los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energétic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duras – rígid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acto de la onda de ch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rompedor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11280" y="1125360"/>
            <a:ext cx="4824360" cy="647640"/>
            <a:chOff x="611280" y="1125360"/>
            <a:chExt cx="4824360" cy="6476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rcRect l="0" t="53772" r="80893" b="-22859"/>
            <a:stretch/>
          </p:blipFill>
          <p:spPr>
            <a:xfrm>
              <a:off x="611280" y="1125360"/>
              <a:ext cx="15825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19384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ipo de cráter que se fo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2"/>
          <a:srcRect l="0" t="0" r="23223" b="84266"/>
          <a:stretch/>
        </p:blipFill>
        <p:spPr>
          <a:xfrm>
            <a:off x="826920" y="1728720"/>
            <a:ext cx="5905800" cy="908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16360" y="2757600"/>
                <a:ext cx="3384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t xml:space="preserve">B</m:t>
                    </m:r>
                    <m:r>
                      <m:t xml:space="preserve">x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kg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2920" y="3471840"/>
            <a:ext cx="70563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ruptura de la roca por efecto de la detonación de una carga explosiva asumen algunos supuestos a la ro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nuo, homogéneo, isótropo, e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ogías empí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7014"/>
          <a:stretch/>
        </p:blipFill>
        <p:spPr>
          <a:xfrm>
            <a:off x="971640" y="2973240"/>
            <a:ext cx="7416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6520"/>
          <a:stretch/>
        </p:blipFill>
        <p:spPr>
          <a:xfrm>
            <a:off x="684360" y="1413000"/>
            <a:ext cx="7777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3665"/>
          <a:stretch/>
        </p:blipFill>
        <p:spPr>
          <a:xfrm>
            <a:off x="684360" y="1069920"/>
            <a:ext cx="76327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FIGURA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1773360"/>
          <a:ext cx="296064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29606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19640" y="1268280"/>
          <a:ext cx="2624040" cy="460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268280"/>
                    <a:ext cx="26240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82560" y="58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 LIBRE INFI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ARAS L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imar kg explosivo para crear ciert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mizar m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movidos v/s kg explosivo (Ley de Similit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los efectos producidos por la detonación de cargas concentradas diferentes en cuanto a cantidad (comparando situaciones homólogas) son geométricamente semejantes, y l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azón de similitu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las magnitudes lineales está dada por la 'raíz cúbica' de la cantidad de explo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mólog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ráteres de máximo volumen, distribución granulométrica equiva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32000" y="1341360"/>
          <a:ext cx="684036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84036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rcRect l="0" t="12068" r="0" b="0"/>
          <a:stretch/>
        </p:blipFill>
        <p:spPr>
          <a:xfrm>
            <a:off x="1042920" y="3394080"/>
            <a:ext cx="7380360" cy="2627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>
            <a:alphaModFix amt="54000"/>
          </a:blip>
          <a:srcRect l="33329" t="14892" r="35893" b="11169"/>
          <a:stretch/>
        </p:blipFill>
        <p:spPr>
          <a:xfrm>
            <a:off x="3348000" y="6102360"/>
            <a:ext cx="2736720" cy="56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408720" y="6230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 = f (roca, explos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6078600"/>
            <a:ext cx="2592360" cy="647640"/>
          </a:xfrm>
          <a:prstGeom prst="ellipse">
            <a:avLst/>
          </a:prstGeom>
          <a:solidFill>
            <a:srgbClr val="ff0000">
              <a:alpha val="1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nte de onda esférico, reflejada como fatiga de tra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cia a la tracc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que resistencia compres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acturamiento por pla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64000" y="2060640"/>
          <a:ext cx="325152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060640"/>
                    <a:ext cx="32515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rcRect l="30752" t="32626" r="30785" b="12942"/>
          <a:stretch/>
        </p:blipFill>
        <p:spPr>
          <a:xfrm>
            <a:off x="826920" y="4724280"/>
            <a:ext cx="4248360" cy="70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3400" b="0"/>
          <a:stretch/>
        </p:blipFill>
        <p:spPr>
          <a:xfrm>
            <a:off x="611280" y="3645000"/>
            <a:ext cx="799308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03640" y="2349360"/>
                <a:ext cx="2376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y de aten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*</cp:lastModifiedBy>
  <dcterms:modified xsi:type="dcterms:W3CDTF">2007-10-26T06:23:55Z</dcterms:modified>
  <cp:revision>48</cp:revision>
  <dc:subject/>
  <dc:title>MI 47 – A Perforación y Tronadura</dc:title>
</cp:coreProperties>
</file>