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1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5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50D88-088D-4DA8-A387-45CBEC08C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87017-BCF8-4E68-91DC-B668A43FF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1398F-BF48-4381-BC74-B0F67D728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1DE31-DC3E-452C-8524-CA3F46860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A0842-C69B-4DAF-8FF7-CA7548EAB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FDBD9-8D8D-4954-BE51-2F2AB3C52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0229D-7AA8-4962-83E5-233988F62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CC454-FDEB-4532-BA09-9E9E0809A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5F0B7-0C20-4247-955A-4DD7A2758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05772-F45F-45DA-A86F-129C034A4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4C524-1436-47BD-A8EB-9A20739F8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7275F-ACD6-446B-B9A4-3E0B213E7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DF8AD-E982-446E-849B-93B49C6787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533520" y="14018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orios de Voladu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uí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onad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croconect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plificad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alidades de inici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alerías o túne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ería a cielo abier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ería subterránea (tiros radial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 u="sng">
                <a:solidFill>
                  <a:srgbClr val="000000"/>
                </a:solidFill>
                <a:uFillTx/>
                <a:latin typeface="Arial"/>
              </a:rPr>
              <a:t>Auxiliar 5 MI47A Perforación y Tronadura</a:t>
            </a:r>
            <a:br>
              <a:rPr sz="2800"/>
            </a:br>
            <a:r>
              <a:rPr b="0" lang="es-CL" sz="2800" spc="-1" strike="noStrike" u="sng">
                <a:solidFill>
                  <a:srgbClr val="000000"/>
                </a:solidFill>
                <a:uFillTx/>
                <a:latin typeface="Arial"/>
              </a:rPr>
              <a:t>Javier Santibáñez Bor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2680" y="12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Guía Conecto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0948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Arial"/>
              </a:rPr>
              <a:t>Cordón más delgado que el anterior con un núcleo de pólvora negr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Arial"/>
              </a:rPr>
              <a:t>Trasmite una combustión a una velocidad entre 1,5 a 10 [cm/seg]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 algn="just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Arial"/>
              </a:rPr>
              <a:t>Funcion: </a:t>
            </a:r>
            <a:r>
              <a:rPr b="0" i="1" sz="2800" spc="-1" strike="noStrike">
                <a:solidFill>
                  <a:srgbClr val="000000"/>
                </a:solidFill>
                <a:latin typeface="Arial"/>
              </a:rPr>
              <a:t>activación</a:t>
            </a:r>
            <a:r>
              <a:rPr b="1" i="1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i="1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sz="2800" spc="-1" strike="noStrike">
                <a:solidFill>
                  <a:srgbClr val="000000"/>
                </a:solidFill>
                <a:latin typeface="Arial"/>
              </a:rPr>
              <a:t>encendido</a:t>
            </a:r>
            <a:r>
              <a:rPr b="1" i="1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sz="2800" spc="-1" strike="noStrike">
                <a:solidFill>
                  <a:srgbClr val="000000"/>
                </a:solidFill>
                <a:latin typeface="Arial"/>
              </a:rPr>
              <a:t>a fuego</a:t>
            </a:r>
            <a:r>
              <a:rPr b="0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sz="2800" spc="-1" strike="noStrike">
                <a:solidFill>
                  <a:srgbClr val="000000"/>
                </a:solidFill>
                <a:latin typeface="Arial"/>
              </a:rPr>
              <a:t>conexión</a:t>
            </a:r>
            <a:r>
              <a:rPr b="0" sz="2800" spc="-1" strike="noStrike">
                <a:solidFill>
                  <a:srgbClr val="000000"/>
                </a:solidFill>
                <a:latin typeface="Arial"/>
              </a:rPr>
              <a:t>  y  </a:t>
            </a:r>
            <a:r>
              <a:rPr b="0" i="1" sz="2800" spc="-1" strike="noStrike">
                <a:solidFill>
                  <a:srgbClr val="000000"/>
                </a:solidFill>
                <a:latin typeface="Arial"/>
              </a:rPr>
              <a:t>secuencia</a:t>
            </a:r>
            <a:r>
              <a:rPr b="0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 algn="just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Arial"/>
              </a:rPr>
              <a:t>Se utiliza exclusivamente para propagar el encendido a un conjunto de </a:t>
            </a:r>
            <a:r>
              <a:rPr b="0" i="1" sz="2800" spc="-1" strike="noStrike">
                <a:solidFill>
                  <a:srgbClr val="000000"/>
                </a:solidFill>
                <a:latin typeface="Arial"/>
              </a:rPr>
              <a:t>guías corrientes</a:t>
            </a:r>
            <a:r>
              <a:rPr b="0" sz="2800" spc="-1" strike="noStrike">
                <a:solidFill>
                  <a:srgbClr val="000000"/>
                </a:solidFill>
                <a:latin typeface="Arial"/>
              </a:rPr>
              <a:t> a través de una pequeña cápsula metálica que contiene una pastilla de material pirotécnic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2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Guía Conecto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2209680" y="838080"/>
          <a:ext cx="4540320" cy="5791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838080"/>
                    <a:ext cx="4540320" cy="579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2680" y="12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Guía Detonan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Arial"/>
              </a:rPr>
              <a:t>Cordón que contiene un núcleo de un explosivo detonante </a:t>
            </a:r>
            <a:r>
              <a:rPr b="0" i="1" sz="3200" spc="-1" strike="noStrike">
                <a:solidFill>
                  <a:srgbClr val="000000"/>
                </a:solidFill>
                <a:latin typeface="Arial"/>
              </a:rPr>
              <a:t>secundario</a:t>
            </a:r>
            <a:r>
              <a:rPr b="0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3200" spc="-1" strike="noStrike">
                <a:solidFill>
                  <a:srgbClr val="000000"/>
                </a:solidFill>
                <a:latin typeface="Arial"/>
              </a:rPr>
              <a:t>(PET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Arial"/>
              </a:rPr>
              <a:t>Recubierto por fibras sintéticas y una superficie exterior de plást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Arial"/>
              </a:rPr>
              <a:t>Trasmite </a:t>
            </a:r>
            <a:r>
              <a:rPr b="1" sz="3200" spc="-1" strike="noStrike">
                <a:solidFill>
                  <a:srgbClr val="000000"/>
                </a:solidFill>
                <a:latin typeface="Arial"/>
              </a:rPr>
              <a:t>detonación</a:t>
            </a:r>
            <a:r>
              <a:rPr b="0" sz="3200" spc="-1" strike="noStrike">
                <a:solidFill>
                  <a:srgbClr val="000000"/>
                </a:solidFill>
                <a:latin typeface="Arial"/>
              </a:rPr>
              <a:t> a velocidad de 6.000 a 7.000 [m/seg]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Arial"/>
              </a:rPr>
              <a:t>Se especifican según cantidad de explosivo por unidad de longitud (1 - 40 gr/m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Arial"/>
              </a:rPr>
              <a:t>Función:  </a:t>
            </a:r>
            <a:r>
              <a:rPr b="0" i="1" sz="3200" spc="-1" strike="noStrike">
                <a:solidFill>
                  <a:srgbClr val="000000"/>
                </a:solidFill>
                <a:latin typeface="Arial"/>
              </a:rPr>
              <a:t>CONEXIÓN</a:t>
            </a:r>
            <a:r>
              <a:rPr b="0" sz="3200" spc="-1" strike="noStrike">
                <a:solidFill>
                  <a:srgbClr val="000000"/>
                </a:solidFill>
                <a:latin typeface="Arial"/>
              </a:rPr>
              <a:t> e</a:t>
            </a:r>
            <a:r>
              <a:rPr b="1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sz="3200" spc="-1" strike="noStrike">
                <a:solidFill>
                  <a:srgbClr val="000000"/>
                </a:solidFill>
                <a:latin typeface="Arial"/>
              </a:rPr>
              <a:t>INICIACIÓN  propiamente  tal</a:t>
            </a:r>
            <a:r>
              <a:rPr b="0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8432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Guía Detonan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762120" y="1295280"/>
          <a:ext cx="7100640" cy="529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295280"/>
                    <a:ext cx="7100640" cy="52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Detonado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Detonadores Corrien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Detonadores Eléctr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Detonadores No Eléctricos </a:t>
            </a:r>
            <a:r>
              <a:rPr b="0" i="1" lang="es-ES_tradnl" sz="3200" spc="-1" strike="noStrike">
                <a:solidFill>
                  <a:srgbClr val="000000"/>
                </a:solidFill>
                <a:latin typeface="Arial"/>
              </a:rPr>
              <a:t>(NoNe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Detonadores Electrón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Detonadores Corrien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Arial"/>
              </a:rPr>
              <a:t>Cilindro o cápsula metálica   (aluminio o cobre) de pocos centímetros de larg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Arial"/>
              </a:rPr>
              <a:t>Contiene pequeña carga (1 a 2 gr aproxima-damente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2800" spc="-1" strike="noStrike">
                <a:solidFill>
                  <a:srgbClr val="000000"/>
                </a:solidFill>
                <a:latin typeface="Arial"/>
              </a:rPr>
              <a:t>explosivo primario</a:t>
            </a:r>
            <a:r>
              <a:rPr b="0" sz="2800" spc="-1" strike="noStrike">
                <a:solidFill>
                  <a:srgbClr val="000000"/>
                </a:solidFill>
                <a:latin typeface="Arial"/>
              </a:rPr>
              <a:t> (Ázida de Plom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sz="2800" spc="-1" strike="noStrike">
                <a:solidFill>
                  <a:srgbClr val="000000"/>
                </a:solidFill>
                <a:latin typeface="Arial"/>
              </a:rPr>
              <a:t>explosivo</a:t>
            </a:r>
            <a:r>
              <a:rPr b="0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sz="2800" spc="-1" strike="noStrike">
                <a:solidFill>
                  <a:srgbClr val="000000"/>
                </a:solidFill>
                <a:latin typeface="Arial"/>
              </a:rPr>
              <a:t>secundario</a:t>
            </a:r>
            <a:r>
              <a:rPr b="0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sz="2800" spc="-1" strike="noStrike">
                <a:solidFill>
                  <a:srgbClr val="000000"/>
                </a:solidFill>
                <a:latin typeface="Arial"/>
              </a:rPr>
              <a:t>PETN</a:t>
            </a:r>
            <a:r>
              <a:rPr b="0" sz="2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Arial"/>
              </a:rPr>
              <a:t>Función : </a:t>
            </a:r>
            <a:r>
              <a:rPr b="0" i="1" sz="3200" spc="-1" strike="noStrike">
                <a:solidFill>
                  <a:srgbClr val="000000"/>
                </a:solidFill>
                <a:latin typeface="Arial"/>
              </a:rPr>
              <a:t>iniciación</a:t>
            </a:r>
            <a:r>
              <a:rPr b="0" sz="3200" spc="-1" strike="noStrike">
                <a:solidFill>
                  <a:srgbClr val="000000"/>
                </a:solidFill>
                <a:latin typeface="Arial"/>
              </a:rPr>
              <a:t>, activados mediante una </a:t>
            </a:r>
            <a:r>
              <a:rPr b="0" sz="3200" spc="-1" strike="noStrike">
                <a:solidFill>
                  <a:srgbClr val="000000"/>
                </a:solidFill>
                <a:latin typeface="Arial"/>
              </a:rPr>
              <a:t>guía</a:t>
            </a:r>
            <a:r>
              <a:rPr b="0" i="1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3200" spc="-1" strike="noStrike">
                <a:solidFill>
                  <a:srgbClr val="000000"/>
                </a:solidFill>
                <a:latin typeface="Arial"/>
              </a:rPr>
              <a:t>corri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Detonadores Corrien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457200" y="2127240"/>
          <a:ext cx="8229600" cy="3470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127240"/>
                    <a:ext cx="8229600" cy="347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Detonadores Eléctric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000000"/>
                </a:solidFill>
                <a:latin typeface="Arial"/>
              </a:rPr>
              <a:t>Instantáne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Arial"/>
              </a:rPr>
              <a:t>cápsula metálica que contiene en el fondo una carga similar a detonador corri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Arial"/>
              </a:rPr>
              <a:t>activado por paso de pulso electrico, a traves de elemento pirotecnico (filamento mas gota de material infam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nexión mediante cable eléctrico, a fuente de energí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Flujo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1 a 2 A (normal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6 a 8 A ( seguridad ante corrientes exógena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Detonadores</a:t>
            </a:r>
            <a:br>
              <a:rPr sz="4400"/>
            </a:b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 Eléctric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4038480" y="0"/>
          <a:ext cx="449748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0"/>
                    <a:ext cx="449748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Detonadores Eléctric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600" spc="-1" strike="noStrike">
                <a:solidFill>
                  <a:srgbClr val="000000"/>
                </a:solidFill>
                <a:latin typeface="Arial"/>
              </a:rPr>
              <a:t>De retardo:</a:t>
            </a:r>
            <a:r>
              <a:rPr b="0" sz="2600" spc="-1" strike="noStrike">
                <a:solidFill>
                  <a:srgbClr val="000000"/>
                </a:solidFill>
                <a:latin typeface="Arial"/>
              </a:rPr>
              <a:t> mismo anterior, al cual se le interpone un </a:t>
            </a:r>
            <a:r>
              <a:rPr b="0" i="1" sz="2600" spc="-1" strike="noStrike">
                <a:solidFill>
                  <a:srgbClr val="000000"/>
                </a:solidFill>
                <a:latin typeface="Arial"/>
              </a:rPr>
              <a:t>elemento retardador</a:t>
            </a:r>
            <a:r>
              <a:rPr b="0" sz="2600" spc="-1" strike="noStrike">
                <a:solidFill>
                  <a:srgbClr val="000000"/>
                </a:solidFill>
                <a:latin typeface="Arial"/>
              </a:rPr>
              <a:t> entre la </a:t>
            </a:r>
            <a:r>
              <a:rPr b="0" i="1" sz="2600" spc="-1" strike="noStrike">
                <a:solidFill>
                  <a:srgbClr val="000000"/>
                </a:solidFill>
                <a:latin typeface="Arial"/>
              </a:rPr>
              <a:t>gota</a:t>
            </a:r>
            <a:r>
              <a:rPr b="0" sz="2600" spc="-1" strike="noStrike">
                <a:solidFill>
                  <a:srgbClr val="000000"/>
                </a:solidFill>
                <a:latin typeface="Arial"/>
              </a:rPr>
              <a:t> inflamable y la </a:t>
            </a:r>
            <a:r>
              <a:rPr b="0" i="1" sz="2600" spc="-1" strike="noStrike">
                <a:solidFill>
                  <a:srgbClr val="000000"/>
                </a:solidFill>
                <a:latin typeface="Arial"/>
              </a:rPr>
              <a:t>carga</a:t>
            </a:r>
            <a:r>
              <a:rPr b="0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sz="2600" spc="-1" strike="noStrike">
                <a:solidFill>
                  <a:srgbClr val="000000"/>
                </a:solidFill>
                <a:latin typeface="Arial"/>
              </a:rPr>
              <a:t>primaria</a:t>
            </a:r>
            <a:r>
              <a:rPr b="0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600" spc="-1" strike="noStrike">
                <a:solidFill>
                  <a:srgbClr val="000000"/>
                </a:solidFill>
                <a:latin typeface="Arial"/>
              </a:rPr>
              <a:t>Variando la longitud del elemento se obtienen </a:t>
            </a:r>
            <a:r>
              <a:rPr b="1" i="1" sz="2600" spc="-1" strike="noStrike">
                <a:solidFill>
                  <a:srgbClr val="000000"/>
                </a:solidFill>
                <a:latin typeface="Arial"/>
              </a:rPr>
              <a:t>detonadores</a:t>
            </a:r>
            <a:r>
              <a:rPr b="0" sz="2600" spc="-1" strike="noStrike">
                <a:solidFill>
                  <a:srgbClr val="000000"/>
                </a:solidFill>
                <a:latin typeface="Arial"/>
              </a:rPr>
              <a:t> con tiempos secuenciales de iniciación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sz="2600" spc="-1" strike="noStrike">
                <a:solidFill>
                  <a:srgbClr val="000000"/>
                </a:solidFill>
                <a:latin typeface="Arial"/>
              </a:rPr>
              <a:t>Retardo largo </a:t>
            </a:r>
            <a:r>
              <a:rPr b="1" sz="2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sz="2600" spc="-1" strike="noStrike">
                <a:solidFill>
                  <a:srgbClr val="000000"/>
                </a:solidFill>
                <a:latin typeface="Arial"/>
              </a:rPr>
              <a:t> intervalo de 0,5 segundos La </a:t>
            </a:r>
            <a:r>
              <a:rPr b="0" i="1" sz="2600" spc="-1" strike="noStrike">
                <a:solidFill>
                  <a:srgbClr val="000000"/>
                </a:solidFill>
                <a:latin typeface="Arial"/>
              </a:rPr>
              <a:t>serie</a:t>
            </a:r>
            <a:r>
              <a:rPr b="0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sz="2600" spc="-1" strike="noStrike">
                <a:solidFill>
                  <a:srgbClr val="000000"/>
                </a:solidFill>
                <a:latin typeface="Arial"/>
              </a:rPr>
              <a:t>estándar</a:t>
            </a:r>
            <a:r>
              <a:rPr b="0" sz="2600" spc="-1" strike="noStrike">
                <a:solidFill>
                  <a:srgbClr val="000000"/>
                </a:solidFill>
                <a:latin typeface="Arial"/>
              </a:rPr>
              <a:t> se extiende del Nº  0  al  10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sz="2600" spc="-1" strike="noStrike">
                <a:solidFill>
                  <a:srgbClr val="000000"/>
                </a:solidFill>
                <a:latin typeface="Arial"/>
              </a:rPr>
              <a:t>Retardo corto </a:t>
            </a:r>
            <a:r>
              <a:rPr b="1" sz="2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sz="2600" spc="-1" strike="noStrike">
                <a:solidFill>
                  <a:srgbClr val="000000"/>
                </a:solidFill>
                <a:latin typeface="Arial"/>
              </a:rPr>
              <a:t> intervalo de milésimas de segundo. La </a:t>
            </a:r>
            <a:r>
              <a:rPr b="0" i="1" sz="2600" spc="-1" strike="noStrike">
                <a:solidFill>
                  <a:srgbClr val="000000"/>
                </a:solidFill>
                <a:latin typeface="Arial"/>
              </a:rPr>
              <a:t>serie</a:t>
            </a:r>
            <a:r>
              <a:rPr b="0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sz="2600" spc="-1" strike="noStrike">
                <a:solidFill>
                  <a:srgbClr val="000000"/>
                </a:solidFill>
                <a:latin typeface="Arial"/>
              </a:rPr>
              <a:t>estándar</a:t>
            </a:r>
            <a:r>
              <a:rPr b="0" sz="2600" spc="-1" strike="noStrike">
                <a:solidFill>
                  <a:srgbClr val="000000"/>
                </a:solidFill>
                <a:latin typeface="Arial"/>
              </a:rPr>
              <a:t> iuncluye del Nº 0 al 19, intervalos comienzan en 25/1.000 de segundo y terminan en 100/1.000 de segund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26920" y="198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sorios de tronadura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Func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niciación propiamente 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nex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ecuenc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ctivación o encendi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Detonadores </a:t>
            </a:r>
            <a:br>
              <a:rPr sz="4400"/>
            </a:b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Eléctricos</a:t>
            </a:r>
            <a:br>
              <a:rPr sz="4400"/>
            </a:b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(de retardo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3352680" y="0"/>
          <a:ext cx="40608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52680" y="0"/>
                    <a:ext cx="40608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Detonador No Eléctr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imilares a los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detonadores eléctricos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, difieren en la modalidad de activació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ctivado mediante un </a:t>
            </a:r>
            <a:r>
              <a:rPr b="0" i="1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ubo plástico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que contiene un mezcla explosiva que trasmite una detonación de bajo poder, evitando activación anticipada del tir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eries de retar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tardo largo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con 0,5 segundos de interval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tardo corto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con milésimas de segundo de interval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Nº 0: instantáne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Función: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INICIACIÓN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 y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SECUENCIA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tonado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 Eléctr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4808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3048120" y="0"/>
          <a:ext cx="58338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8120" y="0"/>
                    <a:ext cx="58338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914400" y="0"/>
            <a:ext cx="7314480" cy="7009920"/>
            <a:chOff x="914400" y="0"/>
            <a:chExt cx="7314480" cy="7009920"/>
          </a:xfrm>
        </p:grpSpPr>
        <p:sp>
          <p:nvSpPr>
            <p:cNvPr id="94" name=""/>
            <p:cNvSpPr/>
            <p:nvPr/>
          </p:nvSpPr>
          <p:spPr>
            <a:xfrm>
              <a:off x="962640" y="0"/>
              <a:ext cx="3191400" cy="50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TARDO  LARG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54400" y="0"/>
              <a:ext cx="3929040" cy="50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TARDO  CORT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962640" y="1675080"/>
              <a:ext cx="297720" cy="47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260360" y="1675080"/>
              <a:ext cx="609840" cy="47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-----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70560" y="1675080"/>
              <a:ext cx="610200" cy="47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0,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481120" y="1675080"/>
              <a:ext cx="601560" cy="47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----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083040" y="1675080"/>
              <a:ext cx="681840" cy="47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0,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764880" y="1675080"/>
              <a:ext cx="597600" cy="47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----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362840" y="1675080"/>
              <a:ext cx="586440" cy="47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949280" y="1675080"/>
              <a:ext cx="497160" cy="47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----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46800" y="1675080"/>
              <a:ext cx="578880" cy="47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25680" y="1675080"/>
              <a:ext cx="586080" cy="47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----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611760" y="1675080"/>
              <a:ext cx="594720" cy="47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62640" y="2151000"/>
              <a:ext cx="297720" cy="47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260360" y="2151000"/>
              <a:ext cx="609840" cy="47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0,2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70560" y="2151000"/>
              <a:ext cx="610200" cy="47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0,2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481120" y="2151000"/>
              <a:ext cx="601560" cy="47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0,2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083040" y="2151000"/>
              <a:ext cx="681840" cy="47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0,2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764880" y="2151000"/>
              <a:ext cx="597600" cy="47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2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362840" y="2151000"/>
              <a:ext cx="586440" cy="47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2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949280" y="2151000"/>
              <a:ext cx="495360" cy="47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8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445000" y="2151000"/>
              <a:ext cx="580680" cy="47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8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025680" y="2151000"/>
              <a:ext cx="586080" cy="47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2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611760" y="2151000"/>
              <a:ext cx="594720" cy="47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2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2640" y="2626920"/>
              <a:ext cx="297720" cy="47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260360" y="2626920"/>
              <a:ext cx="609840" cy="47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0,2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870560" y="2626920"/>
              <a:ext cx="610200" cy="47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0,4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481120" y="2626920"/>
              <a:ext cx="601560" cy="47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0,2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083040" y="2626920"/>
              <a:ext cx="681840" cy="47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0,4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764880" y="2626920"/>
              <a:ext cx="597600" cy="47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2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362840" y="2626920"/>
              <a:ext cx="586440" cy="47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5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949280" y="2626920"/>
              <a:ext cx="495360" cy="47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2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445000" y="2626920"/>
              <a:ext cx="580680" cy="47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3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025680" y="2626920"/>
              <a:ext cx="586080" cy="47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2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611760" y="2626920"/>
              <a:ext cx="594720" cy="47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5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962640" y="3102840"/>
              <a:ext cx="297720" cy="47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260360" y="3102840"/>
              <a:ext cx="609840" cy="47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0,2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870560" y="3102840"/>
              <a:ext cx="610200" cy="47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0,6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481120" y="3102840"/>
              <a:ext cx="601560" cy="47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0,2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083040" y="3102840"/>
              <a:ext cx="681840" cy="47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0,6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764880" y="3102840"/>
              <a:ext cx="597600" cy="47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2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362840" y="3102840"/>
              <a:ext cx="586440" cy="47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7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949280" y="3102840"/>
              <a:ext cx="495360" cy="47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445000" y="3102840"/>
              <a:ext cx="580680" cy="47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5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025680" y="3102840"/>
              <a:ext cx="586080" cy="47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2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611760" y="3102840"/>
              <a:ext cx="594720" cy="47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7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962640" y="3578760"/>
              <a:ext cx="297720" cy="47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60360" y="3578760"/>
              <a:ext cx="609840" cy="47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0,4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870560" y="3578760"/>
              <a:ext cx="610200" cy="47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,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481120" y="3578760"/>
              <a:ext cx="601560" cy="47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0,2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083040" y="3578760"/>
              <a:ext cx="681840" cy="47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0,8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764880" y="3578760"/>
              <a:ext cx="597600" cy="47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2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362840" y="3578760"/>
              <a:ext cx="586440" cy="47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949280" y="3578760"/>
              <a:ext cx="495360" cy="47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2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445000" y="3578760"/>
              <a:ext cx="580680" cy="47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7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025680" y="3578760"/>
              <a:ext cx="586080" cy="47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2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611760" y="3578760"/>
              <a:ext cx="594720" cy="47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962640" y="4054320"/>
              <a:ext cx="297720" cy="47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260360" y="4054320"/>
              <a:ext cx="609840" cy="47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0,4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870560" y="4054320"/>
              <a:ext cx="610200" cy="47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,4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481120" y="4054320"/>
              <a:ext cx="601560" cy="47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0,2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083040" y="4054320"/>
              <a:ext cx="681840" cy="47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.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764880" y="4054320"/>
              <a:ext cx="597600" cy="47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2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362840" y="4054320"/>
              <a:ext cx="586440" cy="47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2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949280" y="4054320"/>
              <a:ext cx="497160" cy="47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2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446800" y="4054320"/>
              <a:ext cx="578880" cy="47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025680" y="4054320"/>
              <a:ext cx="586080" cy="47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2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611760" y="4054320"/>
              <a:ext cx="594720" cy="47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2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962640" y="4530600"/>
              <a:ext cx="297720" cy="47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6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260360" y="4530600"/>
              <a:ext cx="609840" cy="47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0,5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870560" y="4530600"/>
              <a:ext cx="610200" cy="47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,9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481120" y="4530600"/>
              <a:ext cx="601560" cy="47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0,2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083040" y="4530600"/>
              <a:ext cx="681840" cy="47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,2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764880" y="4530600"/>
              <a:ext cx="597600" cy="47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2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362840" y="4530600"/>
              <a:ext cx="586440" cy="47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5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949280" y="4530600"/>
              <a:ext cx="497160" cy="47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3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446800" y="4530600"/>
              <a:ext cx="578880" cy="47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3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025680" y="4530600"/>
              <a:ext cx="586080" cy="47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2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611760" y="4530600"/>
              <a:ext cx="594720" cy="47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5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962640" y="5006160"/>
              <a:ext cx="297720" cy="47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7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260360" y="5006160"/>
              <a:ext cx="609840" cy="47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0,5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870560" y="5006160"/>
              <a:ext cx="610200" cy="47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2,4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481120" y="5006160"/>
              <a:ext cx="601560" cy="47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0,5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083040" y="5006160"/>
              <a:ext cx="681840" cy="47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,7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764880" y="5006160"/>
              <a:ext cx="597600" cy="47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2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362840" y="5006160"/>
              <a:ext cx="586440" cy="47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7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949280" y="5006160"/>
              <a:ext cx="497160" cy="47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3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446800" y="5006160"/>
              <a:ext cx="578880" cy="47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6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025680" y="5006160"/>
              <a:ext cx="586080" cy="47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2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611760" y="5006160"/>
              <a:ext cx="594720" cy="47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7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962640" y="5482080"/>
              <a:ext cx="297720" cy="47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8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260360" y="5482080"/>
              <a:ext cx="609840" cy="47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0,6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870560" y="5482080"/>
              <a:ext cx="610200" cy="47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3,1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481120" y="5482080"/>
              <a:ext cx="601560" cy="47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0,5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083040" y="5482080"/>
              <a:ext cx="681840" cy="47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2,2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764880" y="5482080"/>
              <a:ext cx="597600" cy="47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2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362840" y="5482080"/>
              <a:ext cx="586440" cy="47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949280" y="5482080"/>
              <a:ext cx="497160" cy="47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3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446800" y="5482080"/>
              <a:ext cx="578880" cy="47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9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025680" y="5482080"/>
              <a:ext cx="586080" cy="47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2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611760" y="5482080"/>
              <a:ext cx="594720" cy="47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962640" y="5958000"/>
              <a:ext cx="297720" cy="47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9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260360" y="5958000"/>
              <a:ext cx="609840" cy="47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0,7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870560" y="5958000"/>
              <a:ext cx="610200" cy="47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3,8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481120" y="5958000"/>
              <a:ext cx="601560" cy="47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0,5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083040" y="5958000"/>
              <a:ext cx="681840" cy="47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2,7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764880" y="5958000"/>
              <a:ext cx="597600" cy="47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5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362840" y="5958000"/>
              <a:ext cx="586440" cy="47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25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949280" y="5958000"/>
              <a:ext cx="497160" cy="47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4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446800" y="5958000"/>
              <a:ext cx="578880" cy="47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23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025680" y="5958000"/>
              <a:ext cx="586080" cy="47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5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611760" y="5958000"/>
              <a:ext cx="594720" cy="47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25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962640" y="6433920"/>
              <a:ext cx="297720" cy="57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260360" y="6433920"/>
              <a:ext cx="609840" cy="57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0,8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870560" y="6433920"/>
              <a:ext cx="610200" cy="57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4,6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481120" y="6433920"/>
              <a:ext cx="601560" cy="57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0,5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083040" y="6433920"/>
              <a:ext cx="681840" cy="57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3,2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764880" y="6433920"/>
              <a:ext cx="597600" cy="57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5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362840" y="6433920"/>
              <a:ext cx="586440" cy="57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3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949280" y="6433920"/>
              <a:ext cx="497160" cy="57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5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446800" y="6433920"/>
              <a:ext cx="578880" cy="57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28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025680" y="6433920"/>
              <a:ext cx="586080" cy="57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5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611760" y="6433920"/>
              <a:ext cx="594720" cy="57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3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7" name=""/>
            <p:cNvGrpSpPr/>
            <p:nvPr/>
          </p:nvGrpSpPr>
          <p:grpSpPr>
            <a:xfrm>
              <a:off x="914400" y="500400"/>
              <a:ext cx="394200" cy="574920"/>
              <a:chOff x="914400" y="500400"/>
              <a:chExt cx="394200" cy="574920"/>
            </a:xfrm>
          </p:grpSpPr>
          <p:sp>
            <p:nvSpPr>
              <p:cNvPr id="218" name=""/>
              <p:cNvSpPr/>
              <p:nvPr/>
            </p:nvSpPr>
            <p:spPr>
              <a:xfrm>
                <a:off x="962640" y="500400"/>
                <a:ext cx="297360" cy="57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 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914400" y="500400"/>
                <a:ext cx="394200" cy="5749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0" name=""/>
            <p:cNvGrpSpPr/>
            <p:nvPr/>
          </p:nvGrpSpPr>
          <p:grpSpPr>
            <a:xfrm>
              <a:off x="1308960" y="500400"/>
              <a:ext cx="1415520" cy="574920"/>
              <a:chOff x="1308960" y="500400"/>
              <a:chExt cx="1415520" cy="574920"/>
            </a:xfrm>
          </p:grpSpPr>
          <p:sp>
            <p:nvSpPr>
              <p:cNvPr id="221" name=""/>
              <p:cNvSpPr/>
              <p:nvPr/>
            </p:nvSpPr>
            <p:spPr>
              <a:xfrm>
                <a:off x="1357200" y="500400"/>
                <a:ext cx="1318320" cy="57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EC HARSEIM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(TECNEL)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1308960" y="500400"/>
                <a:ext cx="1415520" cy="5749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3" name=""/>
            <p:cNvGrpSpPr/>
            <p:nvPr/>
          </p:nvGrpSpPr>
          <p:grpSpPr>
            <a:xfrm>
              <a:off x="2724840" y="500400"/>
              <a:ext cx="1477800" cy="574920"/>
              <a:chOff x="2724840" y="500400"/>
              <a:chExt cx="1477800" cy="574920"/>
            </a:xfrm>
          </p:grpSpPr>
          <p:sp>
            <p:nvSpPr>
              <p:cNvPr id="224" name=""/>
              <p:cNvSpPr/>
              <p:nvPr/>
            </p:nvSpPr>
            <p:spPr>
              <a:xfrm>
                <a:off x="2773080" y="500400"/>
                <a:ext cx="1380600" cy="57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TLAS  POWD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(BLASTMASTER)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2724840" y="500400"/>
                <a:ext cx="1477800" cy="5749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6" name=""/>
            <p:cNvGrpSpPr/>
            <p:nvPr/>
          </p:nvGrpSpPr>
          <p:grpSpPr>
            <a:xfrm>
              <a:off x="4203360" y="500400"/>
              <a:ext cx="1378800" cy="574920"/>
              <a:chOff x="4203360" y="500400"/>
              <a:chExt cx="1378800" cy="574920"/>
            </a:xfrm>
          </p:grpSpPr>
          <p:sp>
            <p:nvSpPr>
              <p:cNvPr id="227" name=""/>
              <p:cNvSpPr/>
              <p:nvPr/>
            </p:nvSpPr>
            <p:spPr>
              <a:xfrm>
                <a:off x="4251600" y="500400"/>
                <a:ext cx="1281600" cy="57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U  PON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(MS  DELAY)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4203360" y="500400"/>
                <a:ext cx="1378800" cy="5749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5582520" y="500400"/>
              <a:ext cx="1270800" cy="574920"/>
              <a:chOff x="5582520" y="500400"/>
              <a:chExt cx="1270800" cy="574920"/>
            </a:xfrm>
          </p:grpSpPr>
          <p:sp>
            <p:nvSpPr>
              <p:cNvPr id="230" name=""/>
              <p:cNvSpPr/>
              <p:nvPr/>
            </p:nvSpPr>
            <p:spPr>
              <a:xfrm>
                <a:off x="5630760" y="500400"/>
                <a:ext cx="1173960" cy="57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 I L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5582520" y="500400"/>
                <a:ext cx="1270800" cy="5749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2" name=""/>
            <p:cNvGrpSpPr/>
            <p:nvPr/>
          </p:nvGrpSpPr>
          <p:grpSpPr>
            <a:xfrm>
              <a:off x="6853680" y="500400"/>
              <a:ext cx="1375200" cy="574920"/>
              <a:chOff x="6853680" y="500400"/>
              <a:chExt cx="1375200" cy="574920"/>
            </a:xfrm>
          </p:grpSpPr>
          <p:sp>
            <p:nvSpPr>
              <p:cNvPr id="233" name=""/>
              <p:cNvSpPr/>
              <p:nvPr/>
            </p:nvSpPr>
            <p:spPr>
              <a:xfrm>
                <a:off x="6902280" y="500400"/>
                <a:ext cx="1278000" cy="57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EC HARSEIM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(TECNEL)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6853680" y="500400"/>
                <a:ext cx="1375200" cy="5749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5" name=""/>
            <p:cNvGrpSpPr/>
            <p:nvPr/>
          </p:nvGrpSpPr>
          <p:grpSpPr>
            <a:xfrm>
              <a:off x="914400" y="1075320"/>
              <a:ext cx="394200" cy="599400"/>
              <a:chOff x="914400" y="1075320"/>
              <a:chExt cx="394200" cy="599400"/>
            </a:xfrm>
          </p:grpSpPr>
          <p:sp>
            <p:nvSpPr>
              <p:cNvPr id="236" name=""/>
              <p:cNvSpPr/>
              <p:nvPr/>
            </p:nvSpPr>
            <p:spPr>
              <a:xfrm>
                <a:off x="962640" y="1075320"/>
                <a:ext cx="297360" cy="59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Nº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914400" y="1075320"/>
                <a:ext cx="394200" cy="599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8" name=""/>
            <p:cNvGrpSpPr/>
            <p:nvPr/>
          </p:nvGrpSpPr>
          <p:grpSpPr>
            <a:xfrm>
              <a:off x="1308960" y="1075320"/>
              <a:ext cx="707400" cy="599400"/>
              <a:chOff x="1308960" y="1075320"/>
              <a:chExt cx="707400" cy="599400"/>
            </a:xfrm>
          </p:grpSpPr>
          <p:sp>
            <p:nvSpPr>
              <p:cNvPr id="239" name=""/>
              <p:cNvSpPr/>
              <p:nvPr/>
            </p:nvSpPr>
            <p:spPr>
              <a:xfrm>
                <a:off x="1357200" y="1075320"/>
                <a:ext cx="610200" cy="59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</a:t>
                </a:r>
                <a:r>
                  <a:rPr b="0" lang="en-GB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lang="en-GB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[</a:t>
                </a:r>
                <a:r>
                  <a:rPr b="0" lang="en-GB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eg]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1308960" y="1075320"/>
                <a:ext cx="707400" cy="599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1" name=""/>
            <p:cNvGrpSpPr/>
            <p:nvPr/>
          </p:nvGrpSpPr>
          <p:grpSpPr>
            <a:xfrm>
              <a:off x="2017080" y="1075320"/>
              <a:ext cx="707400" cy="599400"/>
              <a:chOff x="2017080" y="1075320"/>
              <a:chExt cx="707400" cy="599400"/>
            </a:xfrm>
          </p:grpSpPr>
          <p:sp>
            <p:nvSpPr>
              <p:cNvPr id="242" name=""/>
              <p:cNvSpPr/>
              <p:nvPr/>
            </p:nvSpPr>
            <p:spPr>
              <a:xfrm>
                <a:off x="2065320" y="1075320"/>
                <a:ext cx="610200" cy="59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</a:t>
                </a:r>
                <a:r>
                  <a:rPr b="0" lang="en-GB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lang="en-GB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[seg]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2017080" y="1075320"/>
                <a:ext cx="707400" cy="599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4" name=""/>
            <p:cNvGrpSpPr/>
            <p:nvPr/>
          </p:nvGrpSpPr>
          <p:grpSpPr>
            <a:xfrm>
              <a:off x="2724840" y="1075320"/>
              <a:ext cx="698400" cy="599400"/>
              <a:chOff x="2724840" y="1075320"/>
              <a:chExt cx="698400" cy="599400"/>
            </a:xfrm>
          </p:grpSpPr>
          <p:sp>
            <p:nvSpPr>
              <p:cNvPr id="245" name=""/>
              <p:cNvSpPr/>
              <p:nvPr/>
            </p:nvSpPr>
            <p:spPr>
              <a:xfrm>
                <a:off x="2773080" y="1075320"/>
                <a:ext cx="601560" cy="59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</a:t>
                </a:r>
                <a:r>
                  <a:rPr b="0" lang="en-GB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lang="en-GB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[</a:t>
                </a:r>
                <a:r>
                  <a:rPr b="0" lang="en-GB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eg]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2724840" y="1075320"/>
                <a:ext cx="698400" cy="599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7" name=""/>
            <p:cNvGrpSpPr/>
            <p:nvPr/>
          </p:nvGrpSpPr>
          <p:grpSpPr>
            <a:xfrm>
              <a:off x="3423960" y="1075320"/>
              <a:ext cx="778680" cy="599400"/>
              <a:chOff x="3423960" y="1075320"/>
              <a:chExt cx="778680" cy="599400"/>
            </a:xfrm>
          </p:grpSpPr>
          <p:sp>
            <p:nvSpPr>
              <p:cNvPr id="248" name=""/>
              <p:cNvSpPr/>
              <p:nvPr/>
            </p:nvSpPr>
            <p:spPr>
              <a:xfrm>
                <a:off x="3472560" y="1075320"/>
                <a:ext cx="681120" cy="59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</a:t>
                </a:r>
                <a:r>
                  <a:rPr b="0" lang="en-GB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lang="en-GB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[seg]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3423960" y="1075320"/>
                <a:ext cx="778680" cy="599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0" name=""/>
            <p:cNvGrpSpPr/>
            <p:nvPr/>
          </p:nvGrpSpPr>
          <p:grpSpPr>
            <a:xfrm>
              <a:off x="4203360" y="1075320"/>
              <a:ext cx="695160" cy="599400"/>
              <a:chOff x="4203360" y="1075320"/>
              <a:chExt cx="695160" cy="599400"/>
            </a:xfrm>
          </p:grpSpPr>
          <p:sp>
            <p:nvSpPr>
              <p:cNvPr id="251" name=""/>
              <p:cNvSpPr/>
              <p:nvPr/>
            </p:nvSpPr>
            <p:spPr>
              <a:xfrm>
                <a:off x="4251600" y="1075320"/>
                <a:ext cx="597960" cy="59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</a:t>
                </a:r>
                <a:r>
                  <a:rPr b="0" lang="en-GB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lang="en-GB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[m</a:t>
                </a:r>
                <a:r>
                  <a:rPr b="0" lang="en-GB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eg]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4203360" y="1075320"/>
                <a:ext cx="695160" cy="599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3" name=""/>
            <p:cNvGrpSpPr/>
            <p:nvPr/>
          </p:nvGrpSpPr>
          <p:grpSpPr>
            <a:xfrm>
              <a:off x="4898880" y="1075320"/>
              <a:ext cx="682920" cy="599400"/>
              <a:chOff x="4898880" y="1075320"/>
              <a:chExt cx="682920" cy="599400"/>
            </a:xfrm>
          </p:grpSpPr>
          <p:sp>
            <p:nvSpPr>
              <p:cNvPr id="254" name=""/>
              <p:cNvSpPr/>
              <p:nvPr/>
            </p:nvSpPr>
            <p:spPr>
              <a:xfrm>
                <a:off x="4947120" y="1075320"/>
                <a:ext cx="585720" cy="59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</a:t>
                </a:r>
                <a:r>
                  <a:rPr b="0" lang="en-GB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lang="en-GB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[mseg]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4898880" y="1075320"/>
                <a:ext cx="682920" cy="599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6" name=""/>
            <p:cNvGrpSpPr/>
            <p:nvPr/>
          </p:nvGrpSpPr>
          <p:grpSpPr>
            <a:xfrm>
              <a:off x="5582520" y="1075320"/>
              <a:ext cx="594360" cy="599400"/>
              <a:chOff x="5582520" y="1075320"/>
              <a:chExt cx="594360" cy="599400"/>
            </a:xfrm>
          </p:grpSpPr>
          <p:sp>
            <p:nvSpPr>
              <p:cNvPr id="257" name=""/>
              <p:cNvSpPr/>
              <p:nvPr/>
            </p:nvSpPr>
            <p:spPr>
              <a:xfrm>
                <a:off x="5630760" y="1075320"/>
                <a:ext cx="497160" cy="59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</a:t>
                </a:r>
                <a:r>
                  <a:rPr b="0" lang="en-GB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lang="en-GB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[m</a:t>
                </a:r>
                <a:r>
                  <a:rPr b="0" lang="en-GB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eg]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5582520" y="1075320"/>
                <a:ext cx="594360" cy="599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9" name=""/>
            <p:cNvGrpSpPr/>
            <p:nvPr/>
          </p:nvGrpSpPr>
          <p:grpSpPr>
            <a:xfrm>
              <a:off x="6177240" y="1075320"/>
              <a:ext cx="675720" cy="599400"/>
              <a:chOff x="6177240" y="1075320"/>
              <a:chExt cx="675720" cy="599400"/>
            </a:xfrm>
          </p:grpSpPr>
          <p:sp>
            <p:nvSpPr>
              <p:cNvPr id="260" name=""/>
              <p:cNvSpPr/>
              <p:nvPr/>
            </p:nvSpPr>
            <p:spPr>
              <a:xfrm>
                <a:off x="6225480" y="1075320"/>
                <a:ext cx="578880" cy="59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</a:t>
                </a:r>
                <a:r>
                  <a:rPr b="0" lang="en-GB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lang="en-GB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[mseg]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6177240" y="1075320"/>
                <a:ext cx="675720" cy="599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2" name=""/>
            <p:cNvGrpSpPr/>
            <p:nvPr/>
          </p:nvGrpSpPr>
          <p:grpSpPr>
            <a:xfrm>
              <a:off x="6853680" y="1075320"/>
              <a:ext cx="681480" cy="599400"/>
              <a:chOff x="6853680" y="1075320"/>
              <a:chExt cx="681480" cy="599400"/>
            </a:xfrm>
          </p:grpSpPr>
          <p:sp>
            <p:nvSpPr>
              <p:cNvPr id="263" name=""/>
              <p:cNvSpPr/>
              <p:nvPr/>
            </p:nvSpPr>
            <p:spPr>
              <a:xfrm>
                <a:off x="6902280" y="1075320"/>
                <a:ext cx="583920" cy="59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</a:t>
                </a:r>
                <a:r>
                  <a:rPr b="0" lang="en-GB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lang="en-GB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[m</a:t>
                </a:r>
                <a:r>
                  <a:rPr b="0" lang="en-GB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eg]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6853680" y="1075320"/>
                <a:ext cx="681480" cy="599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5" name=""/>
            <p:cNvGrpSpPr/>
            <p:nvPr/>
          </p:nvGrpSpPr>
          <p:grpSpPr>
            <a:xfrm>
              <a:off x="7535520" y="1075320"/>
              <a:ext cx="693360" cy="599400"/>
              <a:chOff x="7535520" y="1075320"/>
              <a:chExt cx="693360" cy="599400"/>
            </a:xfrm>
          </p:grpSpPr>
          <p:sp>
            <p:nvSpPr>
              <p:cNvPr id="266" name=""/>
              <p:cNvSpPr/>
              <p:nvPr/>
            </p:nvSpPr>
            <p:spPr>
              <a:xfrm>
                <a:off x="7583760" y="1075320"/>
                <a:ext cx="596520" cy="59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</a:t>
                </a:r>
                <a:r>
                  <a:rPr b="0" lang="en-GB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lang="en-GB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[mseg]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7535520" y="1075320"/>
                <a:ext cx="693360" cy="599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Detonadores Electrónic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339920"/>
            <a:ext cx="541008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Mayor costo v/s beneficio tronadura económica (no “barata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iminan virtualmente la dispersión de tiemp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joras del tiempo electrónico de precis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ando los detonadores electrónicos reemplazan a los retardos pirotécnicos existe una caída en la sobredimensión, estallido y vibración, que podría haber sido el resultado de intervalos imprecisos: el resultado completo de la tronadura se vuelve más uniforme y existe mayor uniformidad entre tronaduras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6073920" y="1773360"/>
            <a:ext cx="3070080" cy="422748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/>
          <p:nvPr/>
        </p:nvSpPr>
        <p:spPr>
          <a:xfrm flipH="1">
            <a:off x="7956720" y="1628640"/>
            <a:ext cx="287280" cy="115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669080" y="133344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nici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020000" y="1916280"/>
            <a:ext cx="865080" cy="151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156360" y="14842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xplosiv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V="1">
            <a:off x="6948360" y="4869000"/>
            <a:ext cx="936720" cy="12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589800" y="6165720"/>
            <a:ext cx="9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???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croconecto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0948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Dispositivo que permite intercalar un retardo de milésimas de segundo en una línea troncal de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guía detonante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Función : </a:t>
            </a:r>
            <a:r>
              <a:rPr b="0" i="1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SECUENCIA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Version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imples </a:t>
            </a:r>
            <a:r>
              <a:rPr b="0" lang="es-E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unidireccion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i - direccion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8432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croconecto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095640" y="22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1" name=""/>
          <p:cNvGraphicFramePr/>
          <p:nvPr/>
        </p:nvGraphicFramePr>
        <p:xfrm>
          <a:off x="914400" y="909720"/>
          <a:ext cx="7620120" cy="594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909720"/>
                    <a:ext cx="7620120" cy="594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mplificado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Artefactos explosivos de forma cilíndr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Utilizados para amplificar la energía de iniciación en presencia d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explosivos insensib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a u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tonado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norm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Material explosivo : mezcla d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ET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y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conocida con el nombre d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ENTOLIT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Función : INICIACIÓ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70920" y="198000"/>
            <a:ext cx="313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plificador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P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276720" y="2023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7" name=""/>
          <p:cNvGraphicFramePr/>
          <p:nvPr/>
        </p:nvGraphicFramePr>
        <p:xfrm>
          <a:off x="3274920" y="420840"/>
          <a:ext cx="5761080" cy="624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4920" y="420840"/>
                    <a:ext cx="5761080" cy="624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>
            <a:off x="0" y="3963960"/>
            <a:ext cx="9132840" cy="2894040"/>
          </a:xfrm>
          <a:prstGeom prst="rect">
            <a:avLst/>
          </a:prstGeom>
          <a:ln w="0">
            <a:noFill/>
          </a:ln>
        </p:spPr>
      </p:pic>
      <p:pic>
        <p:nvPicPr>
          <p:cNvPr id="290" name="" descr=""/>
          <p:cNvPicPr/>
          <p:nvPr/>
        </p:nvPicPr>
        <p:blipFill>
          <a:blip r:embed="rId2"/>
          <a:stretch/>
        </p:blipFill>
        <p:spPr>
          <a:xfrm>
            <a:off x="11160" y="0"/>
            <a:ext cx="9132840" cy="394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7240" y="198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iciación propiamente t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Arial"/>
              </a:rPr>
              <a:t>Corresponde a la acción o efecto que inicia la detonación de la columna explosiva en cada uno de los </a:t>
            </a:r>
            <a:r>
              <a:rPr b="0" i="1" sz="3200" spc="-1" strike="noStrike">
                <a:solidFill>
                  <a:srgbClr val="000000"/>
                </a:solidFill>
                <a:latin typeface="Arial"/>
              </a:rPr>
              <a:t>tiros</a:t>
            </a:r>
            <a:r>
              <a:rPr b="0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alidades De Inici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lerías o Túne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ción pequeña (A &lt; 10 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ción mediana o grande (A &gt; 10 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alería o Túnel sección pequeña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XPLOSIVO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or lo general sensible a u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tonad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ICIACIÓN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tonador  corrient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exión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o exis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ECUENCIA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gún el orden de encendido de la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uía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todas de la misma longitu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TIVACIÓN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ncendido a fuego de cada uno de lo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ro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través de la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uía  corrient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alería o Túnel sección pequeñ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386160" y="284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457200" y="1981080"/>
          <a:ext cx="8229600" cy="403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981080"/>
                    <a:ext cx="8229600" cy="403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alería o Túnel sección pequeñ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643200" y="250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1" name=""/>
          <p:cNvGraphicFramePr/>
          <p:nvPr/>
        </p:nvGraphicFramePr>
        <p:xfrm>
          <a:off x="1981080" y="1523880"/>
          <a:ext cx="5181840" cy="5181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1523880"/>
                    <a:ext cx="5181840" cy="518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alería o Túnel sección medi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ICIACIÓN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tonadores  “No Eléctricos” de retard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rt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MS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para lo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iro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centrales 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rainur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 d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tardo larg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LP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ara el res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EXIÓ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uía  detonan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, que recorre la frente uniendo todos lo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iro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ECUENCIA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a dan lo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tonador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gún el número d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i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rrespondien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TIVACIÓ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or lo general se recurre a u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TONADOR ELÉCTRICO Nº 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(instantáneo). También se puede utiliza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cendido 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eg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 u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TONAD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RRIENT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ás una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UÍ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RRIENT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alería o Túnel sección medi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333600" y="2424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7" name=""/>
          <p:cNvGraphicFramePr/>
          <p:nvPr/>
        </p:nvGraphicFramePr>
        <p:xfrm>
          <a:off x="1219320" y="1600200"/>
          <a:ext cx="6476760" cy="525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600200"/>
                    <a:ext cx="647676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nería a cielo abier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losivo: insensible a un detonad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iciación: Guía detonante mas amplificad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exión: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ronc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e Guía tronc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uencia: Microconectores, antes de cada tiro de la ramific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ivación: Detonador eléctr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nería a cielo abier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2" name=""/>
          <p:cNvGraphicFramePr/>
          <p:nvPr/>
        </p:nvGraphicFramePr>
        <p:xfrm>
          <a:off x="457200" y="1817640"/>
          <a:ext cx="8229600" cy="4091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817640"/>
                    <a:ext cx="8229600" cy="409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nería a cielo abier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695760" y="1933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6" name=""/>
          <p:cNvGraphicFramePr/>
          <p:nvPr/>
        </p:nvGraphicFramePr>
        <p:xfrm>
          <a:off x="2895480" y="1341360"/>
          <a:ext cx="3125880" cy="533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5480" y="1341360"/>
                    <a:ext cx="3125880" cy="53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8" name=""/>
          <p:cNvSpPr/>
          <p:nvPr/>
        </p:nvSpPr>
        <p:spPr>
          <a:xfrm>
            <a:off x="2762280" y="2405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nería a cielo abiert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retardo en tiros grand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662280" y="2147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1" name=""/>
          <p:cNvGraphicFramePr/>
          <p:nvPr/>
        </p:nvGraphicFramePr>
        <p:xfrm>
          <a:off x="2666880" y="1676520"/>
          <a:ext cx="3679920" cy="518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1676520"/>
                    <a:ext cx="367992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55640" y="12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ex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Arial"/>
              </a:rPr>
              <a:t>Se refiere a la necesidad de conectar todos los </a:t>
            </a:r>
            <a:r>
              <a:rPr b="0" i="1" sz="3200" spc="-1" strike="noStrike">
                <a:solidFill>
                  <a:srgbClr val="000000"/>
                </a:solidFill>
                <a:latin typeface="Arial"/>
              </a:rPr>
              <a:t>tiros</a:t>
            </a:r>
            <a:r>
              <a:rPr b="0" sz="3200" spc="-1" strike="noStrike">
                <a:solidFill>
                  <a:srgbClr val="000000"/>
                </a:solidFill>
                <a:latin typeface="Arial"/>
              </a:rPr>
              <a:t> entre sí, de modo de trasmitir o propagar la detonación a cada uno de ell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nería a cielo abiert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retardo en tiros grand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695760" y="1933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762280" y="2405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362400" y="2309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7" name=""/>
          <p:cNvGraphicFramePr/>
          <p:nvPr/>
        </p:nvGraphicFramePr>
        <p:xfrm>
          <a:off x="1600200" y="1500120"/>
          <a:ext cx="5791320" cy="535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1500120"/>
                    <a:ext cx="5791320" cy="535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nería subterránea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ros radi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XPLOSIV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generalmente explosivos insensibles a u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TONADOR  Nº 8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ICIACIÓN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 U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MPLIFICAD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APD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más u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TONADOR  “NO ELÉCTRICO”  DE  MICRO-RRETARDO  (MS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en cada uno de lo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iro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EXIÓN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UÍA  DETONAN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que contornea cad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banic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d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iro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ECUENCIA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TONADORES  “NO ELÉCTRICOS”  DE MICRORRETARDO  (MS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del mismo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Nº de Seri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en cad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banic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TIVACIÓN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TONADOR  ELÉCTRICO Nº 0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dherido al extremo de l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uí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onc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nería subterránea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ros radi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890800" y="22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3" name=""/>
          <p:cNvGraphicFramePr/>
          <p:nvPr/>
        </p:nvGraphicFramePr>
        <p:xfrm>
          <a:off x="762120" y="1676520"/>
          <a:ext cx="7391160" cy="514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391160" cy="514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nería subterránea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ros radi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890800" y="22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133800" y="200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8" name=""/>
          <p:cNvGraphicFramePr/>
          <p:nvPr/>
        </p:nvGraphicFramePr>
        <p:xfrm>
          <a:off x="1905120" y="1785960"/>
          <a:ext cx="5105160" cy="5072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1785960"/>
                    <a:ext cx="5105160" cy="507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2680" y="12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uenc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Arial"/>
              </a:rPr>
              <a:t>Corresponde al efecto de imprimir un orden de </a:t>
            </a:r>
            <a:r>
              <a:rPr b="0" i="1" sz="3200" spc="-1" strike="noStrike">
                <a:solidFill>
                  <a:srgbClr val="000000"/>
                </a:solidFill>
                <a:latin typeface="Arial"/>
              </a:rPr>
              <a:t>salida</a:t>
            </a:r>
            <a:r>
              <a:rPr b="0" sz="3200" spc="-1" strike="noStrike">
                <a:solidFill>
                  <a:srgbClr val="000000"/>
                </a:solidFill>
                <a:latin typeface="Arial"/>
              </a:rPr>
              <a:t> al conjunto de cargas explosivas que conforman el diseño o </a:t>
            </a:r>
            <a:r>
              <a:rPr b="0" i="1" sz="3200" spc="-1" strike="noStrike">
                <a:solidFill>
                  <a:srgbClr val="000000"/>
                </a:solidFill>
                <a:latin typeface="Arial"/>
              </a:rPr>
              <a:t>diagrama de disparo</a:t>
            </a:r>
            <a:r>
              <a:rPr b="0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9280" y="12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tivación o encendi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Arial"/>
              </a:rPr>
              <a:t>Se refiere a la fuente de energía inicial que activa el proceso de detonación de todo el conjunto de cargas explosivas involucradas en la </a:t>
            </a:r>
            <a:r>
              <a:rPr b="0" i="1" sz="3200" spc="-1" strike="noStrike">
                <a:solidFill>
                  <a:srgbClr val="000000"/>
                </a:solidFill>
                <a:latin typeface="Arial"/>
              </a:rPr>
              <a:t>tronadura</a:t>
            </a:r>
            <a:r>
              <a:rPr b="0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268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uí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Guía corri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Guía conect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Guía detona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8000" y="12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uía Corrien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777240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Arial"/>
              </a:rPr>
              <a:t>Cordón que contiene un núcleo de </a:t>
            </a:r>
            <a:r>
              <a:rPr b="0" i="1" sz="3200" spc="-1" strike="noStrike">
                <a:solidFill>
                  <a:srgbClr val="000000"/>
                </a:solidFill>
                <a:latin typeface="Arial"/>
              </a:rPr>
              <a:t>pólvora neg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Arial"/>
              </a:rPr>
              <a:t>Envoltura de fibra textil y/o plástic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Arial"/>
              </a:rPr>
              <a:t>Transmite combustión a velocidad del orden de 0,75 [cm/seg]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3200" spc="-1" strike="noStrike">
                <a:solidFill>
                  <a:srgbClr val="000000"/>
                </a:solidFill>
                <a:latin typeface="Arial"/>
              </a:rPr>
              <a:t>Función:activación</a:t>
            </a:r>
            <a:r>
              <a:rPr b="0" sz="3200" spc="-1" strike="noStrike">
                <a:solidFill>
                  <a:srgbClr val="000000"/>
                </a:solidFill>
                <a:latin typeface="Arial"/>
              </a:rPr>
              <a:t>  o  </a:t>
            </a:r>
            <a:r>
              <a:rPr b="0" i="1" sz="3200" spc="-1" strike="noStrike">
                <a:solidFill>
                  <a:srgbClr val="000000"/>
                </a:solidFill>
                <a:latin typeface="Arial"/>
              </a:rPr>
              <a:t>encendido</a:t>
            </a:r>
            <a:r>
              <a:rPr b="1" i="1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sz="3200" spc="-1" strike="noStrike">
                <a:solidFill>
                  <a:srgbClr val="000000"/>
                </a:solidFill>
                <a:latin typeface="Arial"/>
              </a:rPr>
              <a:t>a  fuego</a:t>
            </a:r>
            <a:r>
              <a:rPr b="0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2680" y="12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uía Corrien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1219320" y="1143000"/>
          <a:ext cx="731520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143000"/>
                    <a:ext cx="73152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30T03:06:35Z</dcterms:created>
  <dc:creator>felipe</dc:creator>
  <dc:description/>
  <dc:language>en-US</dc:language>
  <cp:lastModifiedBy>FSB</cp:lastModifiedBy>
  <dcterms:modified xsi:type="dcterms:W3CDTF">2007-10-05T03:35:04Z</dcterms:modified>
  <cp:revision>36</cp:revision>
  <dc:subject/>
  <dc:title>MI 47 – A Perforación y Tronadura</dc:title>
</cp:coreProperties>
</file>