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FDD-D5AA-4F62-9C6A-88DC4261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BA2-7282-41B7-9530-C9EA1504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278-D537-4CEF-AF0E-BCF38536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D7F-059C-499B-9645-E4E0160E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048-C631-4A2F-B328-3C72C9FC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0D2-F8F0-48DF-B588-83ED8DF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00C-6198-4329-B019-ADF1670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AA9-0FAA-403C-8235-6984BB0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BC8-FD99-41E7-A09D-9E4AA91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E8A-2191-411A-BDB1-5E2B33D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284-48A1-4C7B-8C46-0BA2610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0CD-2933-4867-BDC3-F9BAEAC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0387-A269-4F9F-91AA-0D3D24F6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orios de Vol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subterránea (tiros rad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5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rdón más delgado que el anterior con un núcleo de pólvora neg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rasmite una combustión a una velocidad entre 1,5 a 10 [cm/seg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uncion: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ctivación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 fueg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 y 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 utiliza exclusivamente para propagar el encendido a un conjunto de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guías corriente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 través de una pequeña cápsula metálica que contiene una pastilla de material pirotéc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09680" y="838080"/>
          <a:ext cx="4540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540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un explosivo detonant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PET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Recubierto por fibras sintéticas y una superficie exterior de p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smite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deton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 velocidad de 6.000 a 7.000 [m/seg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especifican según cantidad de explosivo por unidad de longitud (1 - 40 gr/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: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  propiamente  tal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295280"/>
          <a:ext cx="710064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10064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No Eléctrico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NoN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ilindro o cápsula metálica   (aluminio o cobre) de pocos centímetros de lar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ntiene pequeña carga (1 a 2 gr aproxima-dame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 prim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Ázida de Plo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PET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 :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, activados mediante una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guía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127240"/>
          <a:ext cx="82296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27240"/>
                    <a:ext cx="82296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Instantá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ápsula metálica que contiene en el fondo una carga similar a detonador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ctivado por paso de pulso electrico, a traves de elemento pirotecnico (filamento mas gota de material infa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 mediante cable eléctrico, a fuent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a 2 A (nor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 a 8 A ( seguridad ante corrientes exóge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038480" y="0"/>
          <a:ext cx="449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0"/>
                    <a:ext cx="449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De retardo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mismo anterior, al cual se le interpone un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lemento retardado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entre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got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flamable y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carg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primari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Arial"/>
              </a:rPr>
              <a:t>Variando la longitud del elemento se obtienen </a:t>
            </a: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detonadores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con tiempos secuenciales de inici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larg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0,5 segundos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se extiende del Nº  0  al  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cort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milésimas de segundo.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uncluye del Nº 0 al 19, intervalos comienzan en 25/1.000 de segundo y terminan en 100/1.000 de segu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orios de tronad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éctric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de retard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52680" y="0"/>
          <a:ext cx="406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406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 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es a l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eléctric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difieren en la modalidad de activ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do mediante un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bo plás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iene un mezcla explosiva que trasmite una detonación de bajo poder, evitando activación anticipada del ti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de ret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lar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0,5 segundos de interv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cor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milésimas de segundo de interva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0: instan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onad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480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8120" y="0"/>
          <a:ext cx="5833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833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914400" y="0"/>
            <a:ext cx="7314480" cy="7009920"/>
            <a:chOff x="914400" y="0"/>
            <a:chExt cx="7314480" cy="7009920"/>
          </a:xfrm>
        </p:grpSpPr>
        <p:sp>
          <p:nvSpPr>
            <p:cNvPr id="94" name=""/>
            <p:cNvSpPr/>
            <p:nvPr/>
          </p:nvSpPr>
          <p:spPr>
            <a:xfrm>
              <a:off x="962640" y="0"/>
              <a:ext cx="31914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LAR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54400" y="0"/>
              <a:ext cx="39290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C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2640" y="167508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167508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0560" y="167508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1120" y="167508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3040" y="167508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4880" y="167508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2840" y="167508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9280" y="167508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6800" y="167508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25680" y="167508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1760" y="167508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2640" y="2151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2151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0560" y="2151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1120" y="2151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83040" y="2151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4880" y="2151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2840" y="2151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9280" y="215100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45000" y="215100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680" y="2151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1760" y="2151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2640" y="262692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60360" y="262692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0560" y="262692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1120" y="262692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83040" y="262692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64880" y="262692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62840" y="262692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9280" y="262692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45000" y="262692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5680" y="262692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1760" y="262692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62640" y="310284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0360" y="310284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0560" y="310284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1120" y="310284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83040" y="310284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64880" y="310284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2840" y="310284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9280" y="310284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5000" y="310284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5680" y="310284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1760" y="310284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62640" y="357876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0360" y="357876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0560" y="357876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81120" y="357876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3040" y="357876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4880" y="357876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2840" y="357876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9280" y="357876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5000" y="357876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25680" y="357876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11760" y="357876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2640" y="405432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0360" y="405432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0560" y="405432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1120" y="405432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3040" y="405432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4880" y="405432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62840" y="405432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9280" y="405432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46800" y="405432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5680" y="405432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11760" y="405432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62640" y="453060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0360" y="453060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0560" y="453060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1120" y="453060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3040" y="453060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4880" y="453060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2840" y="453060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9280" y="453060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6800" y="453060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5680" y="453060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1760" y="453060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2640" y="500616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0360" y="500616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0560" y="500616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1120" y="500616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3040" y="500616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4880" y="500616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2840" y="500616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9280" y="500616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6800" y="500616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5680" y="500616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11760" y="500616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2640" y="548208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0360" y="548208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0560" y="548208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548208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83040" y="548208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64880" y="548208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2840" y="548208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9280" y="548208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6800" y="548208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5680" y="548208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1760" y="548208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2640" y="5958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60360" y="5958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0560" y="5958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1120" y="5958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3040" y="5958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64880" y="5958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62840" y="5958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49280" y="595800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800" y="595800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25680" y="5958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11760" y="5958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2640" y="6433920"/>
              <a:ext cx="297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0360" y="6433920"/>
              <a:ext cx="609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70560" y="6433920"/>
              <a:ext cx="610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81120" y="6433920"/>
              <a:ext cx="6015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6433920"/>
              <a:ext cx="681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4880" y="6433920"/>
              <a:ext cx="5976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2840" y="6433920"/>
              <a:ext cx="586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9280" y="6433920"/>
              <a:ext cx="4971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6800" y="6433920"/>
              <a:ext cx="578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5680" y="6433920"/>
              <a:ext cx="586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1760" y="6433920"/>
              <a:ext cx="59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914400" y="500400"/>
              <a:ext cx="394200" cy="574920"/>
              <a:chOff x="914400" y="500400"/>
              <a:chExt cx="394200" cy="57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962640" y="500400"/>
                <a:ext cx="2973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14400" y="500400"/>
                <a:ext cx="394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308960" y="500400"/>
              <a:ext cx="1415520" cy="574920"/>
              <a:chOff x="1308960" y="500400"/>
              <a:chExt cx="1415520" cy="574920"/>
            </a:xfrm>
          </p:grpSpPr>
          <p:sp>
            <p:nvSpPr>
              <p:cNvPr id="221" name=""/>
              <p:cNvSpPr/>
              <p:nvPr/>
            </p:nvSpPr>
            <p:spPr>
              <a:xfrm>
                <a:off x="1357200" y="500400"/>
                <a:ext cx="131832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08960" y="500400"/>
                <a:ext cx="141552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724840" y="500400"/>
              <a:ext cx="1477800" cy="574920"/>
              <a:chOff x="2724840" y="500400"/>
              <a:chExt cx="1477800" cy="574920"/>
            </a:xfrm>
          </p:grpSpPr>
          <p:sp>
            <p:nvSpPr>
              <p:cNvPr id="224" name=""/>
              <p:cNvSpPr/>
              <p:nvPr/>
            </p:nvSpPr>
            <p:spPr>
              <a:xfrm>
                <a:off x="2773080" y="500400"/>
                <a:ext cx="1380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LAS  POW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LASTMASTER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24840" y="500400"/>
                <a:ext cx="1477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203360" y="500400"/>
              <a:ext cx="1378800" cy="574920"/>
              <a:chOff x="4203360" y="500400"/>
              <a:chExt cx="1378800" cy="574920"/>
            </a:xfrm>
          </p:grpSpPr>
          <p:sp>
            <p:nvSpPr>
              <p:cNvPr id="227" name=""/>
              <p:cNvSpPr/>
              <p:nvPr/>
            </p:nvSpPr>
            <p:spPr>
              <a:xfrm>
                <a:off x="4251600" y="500400"/>
                <a:ext cx="1281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  PO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S  DELAY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03360" y="500400"/>
                <a:ext cx="1378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582520" y="500400"/>
              <a:ext cx="1270800" cy="574920"/>
              <a:chOff x="5582520" y="500400"/>
              <a:chExt cx="1270800" cy="57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5630760" y="500400"/>
                <a:ext cx="11739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 I 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82520" y="500400"/>
                <a:ext cx="1270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853680" y="500400"/>
              <a:ext cx="1375200" cy="574920"/>
              <a:chOff x="6853680" y="500400"/>
              <a:chExt cx="1375200" cy="574920"/>
            </a:xfrm>
          </p:grpSpPr>
          <p:sp>
            <p:nvSpPr>
              <p:cNvPr id="233" name=""/>
              <p:cNvSpPr/>
              <p:nvPr/>
            </p:nvSpPr>
            <p:spPr>
              <a:xfrm>
                <a:off x="6902280" y="500400"/>
                <a:ext cx="1278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53680" y="500400"/>
                <a:ext cx="1375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914400" y="1075320"/>
              <a:ext cx="394200" cy="599400"/>
              <a:chOff x="914400" y="1075320"/>
              <a:chExt cx="394200" cy="599400"/>
            </a:xfrm>
          </p:grpSpPr>
          <p:sp>
            <p:nvSpPr>
              <p:cNvPr id="236" name=""/>
              <p:cNvSpPr/>
              <p:nvPr/>
            </p:nvSpPr>
            <p:spPr>
              <a:xfrm>
                <a:off x="962640" y="1075320"/>
                <a:ext cx="2973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14400" y="1075320"/>
                <a:ext cx="3942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08960" y="1075320"/>
              <a:ext cx="707400" cy="599400"/>
              <a:chOff x="1308960" y="1075320"/>
              <a:chExt cx="707400" cy="599400"/>
            </a:xfrm>
          </p:grpSpPr>
          <p:sp>
            <p:nvSpPr>
              <p:cNvPr id="239" name=""/>
              <p:cNvSpPr/>
              <p:nvPr/>
            </p:nvSpPr>
            <p:spPr>
              <a:xfrm>
                <a:off x="135720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0896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017080" y="1075320"/>
              <a:ext cx="707400" cy="599400"/>
              <a:chOff x="2017080" y="1075320"/>
              <a:chExt cx="707400" cy="599400"/>
            </a:xfrm>
          </p:grpSpPr>
          <p:sp>
            <p:nvSpPr>
              <p:cNvPr id="242" name=""/>
              <p:cNvSpPr/>
              <p:nvPr/>
            </p:nvSpPr>
            <p:spPr>
              <a:xfrm>
                <a:off x="206532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708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724840" y="1075320"/>
              <a:ext cx="698400" cy="599400"/>
              <a:chOff x="2724840" y="1075320"/>
              <a:chExt cx="698400" cy="599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773080" y="1075320"/>
                <a:ext cx="6015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24840" y="1075320"/>
                <a:ext cx="698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423960" y="1075320"/>
              <a:ext cx="778680" cy="599400"/>
              <a:chOff x="3423960" y="1075320"/>
              <a:chExt cx="778680" cy="599400"/>
            </a:xfrm>
          </p:grpSpPr>
          <p:sp>
            <p:nvSpPr>
              <p:cNvPr id="248" name=""/>
              <p:cNvSpPr/>
              <p:nvPr/>
            </p:nvSpPr>
            <p:spPr>
              <a:xfrm>
                <a:off x="3472560" y="1075320"/>
                <a:ext cx="6811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23960" y="1075320"/>
                <a:ext cx="7786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203360" y="1075320"/>
              <a:ext cx="695160" cy="599400"/>
              <a:chOff x="4203360" y="1075320"/>
              <a:chExt cx="695160" cy="599400"/>
            </a:xfrm>
          </p:grpSpPr>
          <p:sp>
            <p:nvSpPr>
              <p:cNvPr id="251" name=""/>
              <p:cNvSpPr/>
              <p:nvPr/>
            </p:nvSpPr>
            <p:spPr>
              <a:xfrm>
                <a:off x="4251600" y="1075320"/>
                <a:ext cx="5979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03360" y="1075320"/>
                <a:ext cx="6951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898880" y="1075320"/>
              <a:ext cx="682920" cy="599400"/>
              <a:chOff x="4898880" y="1075320"/>
              <a:chExt cx="682920" cy="599400"/>
            </a:xfrm>
          </p:grpSpPr>
          <p:sp>
            <p:nvSpPr>
              <p:cNvPr id="254" name=""/>
              <p:cNvSpPr/>
              <p:nvPr/>
            </p:nvSpPr>
            <p:spPr>
              <a:xfrm>
                <a:off x="4947120" y="1075320"/>
                <a:ext cx="5857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98880" y="1075320"/>
                <a:ext cx="6829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582520" y="1075320"/>
              <a:ext cx="594360" cy="599400"/>
              <a:chOff x="5582520" y="1075320"/>
              <a:chExt cx="594360" cy="599400"/>
            </a:xfrm>
          </p:grpSpPr>
          <p:sp>
            <p:nvSpPr>
              <p:cNvPr id="257" name=""/>
              <p:cNvSpPr/>
              <p:nvPr/>
            </p:nvSpPr>
            <p:spPr>
              <a:xfrm>
                <a:off x="5630760" y="1075320"/>
                <a:ext cx="497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82520" y="1075320"/>
                <a:ext cx="594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7240" y="1075320"/>
              <a:ext cx="675720" cy="599400"/>
              <a:chOff x="6177240" y="1075320"/>
              <a:chExt cx="675720" cy="599400"/>
            </a:xfrm>
          </p:grpSpPr>
          <p:sp>
            <p:nvSpPr>
              <p:cNvPr id="260" name=""/>
              <p:cNvSpPr/>
              <p:nvPr/>
            </p:nvSpPr>
            <p:spPr>
              <a:xfrm>
                <a:off x="6225480" y="1075320"/>
                <a:ext cx="57888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7240" y="1075320"/>
                <a:ext cx="6757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853680" y="1075320"/>
              <a:ext cx="681480" cy="599400"/>
              <a:chOff x="6853680" y="1075320"/>
              <a:chExt cx="681480" cy="599400"/>
            </a:xfrm>
          </p:grpSpPr>
          <p:sp>
            <p:nvSpPr>
              <p:cNvPr id="263" name=""/>
              <p:cNvSpPr/>
              <p:nvPr/>
            </p:nvSpPr>
            <p:spPr>
              <a:xfrm>
                <a:off x="6902280" y="1075320"/>
                <a:ext cx="5839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53680" y="1075320"/>
                <a:ext cx="6814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535520" y="1075320"/>
              <a:ext cx="693360" cy="599400"/>
              <a:chOff x="7535520" y="1075320"/>
              <a:chExt cx="693360" cy="599400"/>
            </a:xfrm>
          </p:grpSpPr>
          <p:sp>
            <p:nvSpPr>
              <p:cNvPr id="266" name=""/>
              <p:cNvSpPr/>
              <p:nvPr/>
            </p:nvSpPr>
            <p:spPr>
              <a:xfrm>
                <a:off x="7583760" y="1075320"/>
                <a:ext cx="5965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35520" y="1075320"/>
                <a:ext cx="693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5410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costo v/s beneficio tronadura económica (no “bar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n virtualmente la dispers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s del tiempo electrónico de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los detonadores electrónicos reemplazan a los retardos pirotécnicos existe una caída en la sobredimensión, estallido y vibración, que podría haber sido el resultado de intervalos imprecisos: el resultado completo de la tronadura se vuelve más uniforme y existe mayor uniformidad entre tronadu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73920" y="1773360"/>
            <a:ext cx="3070080" cy="4227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7956720" y="1628640"/>
            <a:ext cx="2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69080" y="1333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20000" y="1916280"/>
            <a:ext cx="8650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plo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948360" y="4869000"/>
            <a:ext cx="936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89800" y="61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sitivo que permite intercalar un retardo de milésimas de segundo en una línea troncal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uía detona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ni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 -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43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5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914400" y="909720"/>
          <a:ext cx="7620120" cy="59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9720"/>
                    <a:ext cx="762012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ctos explosivos de forma cilínd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dos para amplificar la energía de iniciación en presencia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losivos insens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explosivo : mezcl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T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nocida con el nombre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NTOL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INICI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920" y="198000"/>
            <a:ext cx="31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lificad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4920" y="420840"/>
          <a:ext cx="57610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420840"/>
                    <a:ext cx="5761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3963960"/>
            <a:ext cx="9132840" cy="2894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913284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 la acción o efecto que inicia la detonación de la columna explosiva en cada uno de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pequeña (A &l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mediana o grande (A &g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lería o Túnel sección pequeñ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nsible a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ex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orden de encendido de l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das de la misma longit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cendido a fuego de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ravés de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861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981080"/>
          <a:ext cx="82296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432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81080" y="1523880"/>
          <a:ext cx="51818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51818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de retar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in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ardo lar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L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el r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recorre la frente uniendo todos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dan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númer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 recurre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ELÉCTRICO Nº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instantáneo). También se puede utiliz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ndido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u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1600200"/>
          <a:ext cx="6476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476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o: insensible a un deto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ción: Guía detonante mas amplif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xió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on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Guía tron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encia: Microconectores, antes de cada tiro de la ram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ción: Detonador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17640"/>
          <a:ext cx="82296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7640"/>
                    <a:ext cx="82296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895480" y="1341360"/>
          <a:ext cx="31258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41360"/>
                    <a:ext cx="3125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22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666880" y="1676520"/>
          <a:ext cx="36799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6799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necesidad de conectar todos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ntre sí, de modo de trasmitir o propagar la detonación a cada uno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62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600200" y="1500120"/>
          <a:ext cx="57913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00120"/>
                    <a:ext cx="57913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neralmente explosivos insensibles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Nº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PLIFIC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P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ás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“NO ELÉCTRICO”  DE  MICRO-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ornea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 DE MICRO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l mism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de Se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ELÉCTRICO Nº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herido al extremo de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1676520"/>
          <a:ext cx="739116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3911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338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905120" y="1785960"/>
          <a:ext cx="51051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85960"/>
                    <a:ext cx="51051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l efecto de imprimir un orden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alid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l conjunto de cargas explosivas que conforman el diseño o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diagrama de dispar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fuente de energía inicial que activa el proceso de detonación de todo el conjunto de cargas explosivas involucradas en la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pólvora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nvoltura de fibra textil y/o plás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nsmite combustión a velocidad del orden de 0,75 [cm/seg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Función:activ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 o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a  fueg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1143000"/>
          <a:ext cx="7315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31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FSB</cp:lastModifiedBy>
  <dcterms:modified xsi:type="dcterms:W3CDTF">2007-10-05T03:35:04Z</dcterms:modified>
  <cp:revision>36</cp:revision>
  <dc:subject/>
  <dc:title>MI 47 – A Perforación y Tronadura</dc:title>
</cp:coreProperties>
</file>