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68A4-0388-4B7D-8A89-56D0B9582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8BA8-DE07-4B5D-A3B0-D03641A53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420E-892A-41B9-BC07-2C2F1E724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E406-0C11-4881-A071-61D413AC8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BABA-54C5-4280-B344-197B6EB25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CBB8-8977-4B91-9FFC-81284615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6D6D-2A80-4779-B079-558A278FE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B6C1-C388-43EE-8D7F-4BF46FA9C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8261-794A-4697-8CE1-AE9391516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9424-87AB-4CD0-80AF-16AA5001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6000-18CD-48D9-96E1-CCFB010A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A255-A9E9-489A-87D9-B85559C8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0F115-AEF9-48A6-8784-E7E8CC9D3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533520" y="1401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orios de Volad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í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on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conec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fic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alidades de inici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lerías o túne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ería a cielo abier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ería subterránea (tiros radia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Auxiliar 5 MI47A Perforación y Tronadura</a:t>
            </a:r>
            <a:br>
              <a:rPr sz="2800"/>
            </a:b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Javier Santibáñez Bor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26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Guía Conecto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Cordón más delgado que el anterior con un núcleo de pólvora neg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Trasmite una combustión a una velocidad entre 1,5 a 10 [cm/seg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just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Funcion: </a:t>
            </a:r>
            <a:r>
              <a:rPr b="0" i="1" sz="2800" spc="-1" strike="noStrike">
                <a:solidFill>
                  <a:srgbClr val="000000"/>
                </a:solidFill>
                <a:latin typeface="Arial"/>
              </a:rPr>
              <a:t>activación</a:t>
            </a:r>
            <a:r>
              <a:rPr b="1" i="1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i="1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sz="2800" spc="-1" strike="noStrike">
                <a:solidFill>
                  <a:srgbClr val="000000"/>
                </a:solidFill>
                <a:latin typeface="Arial"/>
              </a:rPr>
              <a:t>encendido</a:t>
            </a:r>
            <a:r>
              <a:rPr b="1" i="1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sz="2800" spc="-1" strike="noStrike">
                <a:solidFill>
                  <a:srgbClr val="000000"/>
                </a:solidFill>
                <a:latin typeface="Arial"/>
              </a:rPr>
              <a:t>a fuego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sz="2800" spc="-1" strike="noStrike">
                <a:solidFill>
                  <a:srgbClr val="000000"/>
                </a:solidFill>
                <a:latin typeface="Arial"/>
              </a:rPr>
              <a:t>conexión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  y  </a:t>
            </a:r>
            <a:r>
              <a:rPr b="0" i="1" sz="2800" spc="-1" strike="noStrike">
                <a:solidFill>
                  <a:srgbClr val="000000"/>
                </a:solidFill>
                <a:latin typeface="Arial"/>
              </a:rPr>
              <a:t>secuencia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just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Se utiliza exclusivamente para propagar el encendido a un conjunto de </a:t>
            </a:r>
            <a:r>
              <a:rPr b="0" i="1" sz="2800" spc="-1" strike="noStrike">
                <a:solidFill>
                  <a:srgbClr val="000000"/>
                </a:solidFill>
                <a:latin typeface="Arial"/>
              </a:rPr>
              <a:t>guías corrientes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 a través de una pequeña cápsula metálica que contiene una pastilla de material pirotécn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2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Guía Conecto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209680" y="838080"/>
          <a:ext cx="454032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838080"/>
                    <a:ext cx="454032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26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Guía Detona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Cordón que contiene un núcleo de un explosivo detonante </a:t>
            </a:r>
            <a:r>
              <a:rPr b="0" i="1" sz="3200" spc="-1" strike="noStrike">
                <a:solidFill>
                  <a:srgbClr val="000000"/>
                </a:solidFill>
                <a:latin typeface="Arial"/>
              </a:rPr>
              <a:t>secundario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(PET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Recubierto por fibras sintéticas y una superficie exterior de plás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Trasmite </a:t>
            </a:r>
            <a:r>
              <a:rPr b="1" sz="3200" spc="-1" strike="noStrike">
                <a:solidFill>
                  <a:srgbClr val="000000"/>
                </a:solidFill>
                <a:latin typeface="Arial"/>
              </a:rPr>
              <a:t>detonación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 a velocidad de 6.000 a 7.000 [m/seg]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Se especifican según cantidad de explosivo por unidad de longitud (1 - 40 gr/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Función:  </a:t>
            </a:r>
            <a:r>
              <a:rPr b="0" i="1" sz="3200" spc="-1" strike="noStrike">
                <a:solidFill>
                  <a:srgbClr val="000000"/>
                </a:solidFill>
                <a:latin typeface="Arial"/>
              </a:rPr>
              <a:t>CONEXIÓN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1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sz="3200" spc="-1" strike="noStrike">
                <a:solidFill>
                  <a:srgbClr val="000000"/>
                </a:solidFill>
                <a:latin typeface="Arial"/>
              </a:rPr>
              <a:t>INICIACIÓN  propiamente  tal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43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Guía Detona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762120" y="1295280"/>
          <a:ext cx="7100640" cy="529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295280"/>
                    <a:ext cx="7100640" cy="52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tonad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tonadores Corr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tonadores Eléctr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tonadores No Eléctricos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NoN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tonadores Electrón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tonadores Corri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Cilindro o cápsula metálica   (aluminio o cobre) de pocos centímetros de larg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Contiene pequeña carga (1 a 2 gr aproxima-dament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800" spc="-1" strike="noStrike">
                <a:solidFill>
                  <a:srgbClr val="000000"/>
                </a:solidFill>
                <a:latin typeface="Arial"/>
              </a:rPr>
              <a:t>explosivo primario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 (Ázida de Plom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sz="2800" spc="-1" strike="noStrike">
                <a:solidFill>
                  <a:srgbClr val="000000"/>
                </a:solidFill>
                <a:latin typeface="Arial"/>
              </a:rPr>
              <a:t>explosivo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sz="2800" spc="-1" strike="noStrike">
                <a:solidFill>
                  <a:srgbClr val="000000"/>
                </a:solidFill>
                <a:latin typeface="Arial"/>
              </a:rPr>
              <a:t>secundario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PETN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Función : </a:t>
            </a:r>
            <a:r>
              <a:rPr b="0" i="1" sz="3200" spc="-1" strike="noStrike">
                <a:solidFill>
                  <a:srgbClr val="000000"/>
                </a:solidFill>
                <a:latin typeface="Arial"/>
              </a:rPr>
              <a:t>iniciación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, activados mediante una 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guía</a:t>
            </a:r>
            <a:r>
              <a:rPr b="0" i="1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corr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tonadores Corri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57200" y="2127240"/>
          <a:ext cx="8229600" cy="34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127240"/>
                    <a:ext cx="8229600" cy="34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tonadores Eléctr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Arial"/>
              </a:rPr>
              <a:t>Instantáne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cápsula metálica que contiene en el fondo una carga similar a detonador corr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activado por paso de pulso electrico, a traves de elemento pirotecnico (filamento mas gota de material infam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exión mediante cable eléctrico, a fuente de energ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lujo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 a 2 A (norma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6 a 8 A ( seguridad ante corrientes exógen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tonadores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 Eléctr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038480" y="0"/>
          <a:ext cx="44974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0"/>
                    <a:ext cx="44974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tonadores Eléctr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600" spc="-1" strike="noStrike">
                <a:solidFill>
                  <a:srgbClr val="000000"/>
                </a:solidFill>
                <a:latin typeface="Arial"/>
              </a:rPr>
              <a:t>De retardo:</a:t>
            </a:r>
            <a:r>
              <a:rPr b="0" sz="2600" spc="-1" strike="noStrike">
                <a:solidFill>
                  <a:srgbClr val="000000"/>
                </a:solidFill>
                <a:latin typeface="Arial"/>
              </a:rPr>
              <a:t> mismo anterior, al cual se le interpone un </a:t>
            </a:r>
            <a:r>
              <a:rPr b="0" i="1" sz="2600" spc="-1" strike="noStrike">
                <a:solidFill>
                  <a:srgbClr val="000000"/>
                </a:solidFill>
                <a:latin typeface="Arial"/>
              </a:rPr>
              <a:t>elemento retardador</a:t>
            </a:r>
            <a:r>
              <a:rPr b="0" sz="2600" spc="-1" strike="noStrike">
                <a:solidFill>
                  <a:srgbClr val="000000"/>
                </a:solidFill>
                <a:latin typeface="Arial"/>
              </a:rPr>
              <a:t> entre la </a:t>
            </a:r>
            <a:r>
              <a:rPr b="0" i="1" sz="2600" spc="-1" strike="noStrike">
                <a:solidFill>
                  <a:srgbClr val="000000"/>
                </a:solidFill>
                <a:latin typeface="Arial"/>
              </a:rPr>
              <a:t>gota</a:t>
            </a:r>
            <a:r>
              <a:rPr b="0" sz="2600" spc="-1" strike="noStrike">
                <a:solidFill>
                  <a:srgbClr val="000000"/>
                </a:solidFill>
                <a:latin typeface="Arial"/>
              </a:rPr>
              <a:t> inflamable y la </a:t>
            </a:r>
            <a:r>
              <a:rPr b="0" i="1" sz="2600" spc="-1" strike="noStrike">
                <a:solidFill>
                  <a:srgbClr val="000000"/>
                </a:solidFill>
                <a:latin typeface="Arial"/>
              </a:rPr>
              <a:t>carga</a:t>
            </a:r>
            <a:r>
              <a:rPr b="0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sz="2600" spc="-1" strike="noStrike">
                <a:solidFill>
                  <a:srgbClr val="000000"/>
                </a:solidFill>
                <a:latin typeface="Arial"/>
              </a:rPr>
              <a:t>primaria</a:t>
            </a:r>
            <a:r>
              <a:rPr b="0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600" spc="-1" strike="noStrike">
                <a:solidFill>
                  <a:srgbClr val="000000"/>
                </a:solidFill>
                <a:latin typeface="Arial"/>
              </a:rPr>
              <a:t>Variando la longitud del elemento se obtienen </a:t>
            </a:r>
            <a:r>
              <a:rPr b="1" i="1" sz="2600" spc="-1" strike="noStrike">
                <a:solidFill>
                  <a:srgbClr val="000000"/>
                </a:solidFill>
                <a:latin typeface="Arial"/>
              </a:rPr>
              <a:t>detonadores</a:t>
            </a:r>
            <a:r>
              <a:rPr b="0" sz="2600" spc="-1" strike="noStrike">
                <a:solidFill>
                  <a:srgbClr val="000000"/>
                </a:solidFill>
                <a:latin typeface="Arial"/>
              </a:rPr>
              <a:t> con tiempos secuenciales de iniciació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600" spc="-1" strike="noStrike">
                <a:solidFill>
                  <a:srgbClr val="000000"/>
                </a:solidFill>
                <a:latin typeface="Arial"/>
              </a:rPr>
              <a:t>Retardo largo </a:t>
            </a:r>
            <a:r>
              <a:rPr b="1" sz="2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sz="2600" spc="-1" strike="noStrike">
                <a:solidFill>
                  <a:srgbClr val="000000"/>
                </a:solidFill>
                <a:latin typeface="Arial"/>
              </a:rPr>
              <a:t> intervalo de 0,5 segundos La </a:t>
            </a:r>
            <a:r>
              <a:rPr b="0" i="1" sz="2600" spc="-1" strike="noStrike">
                <a:solidFill>
                  <a:srgbClr val="000000"/>
                </a:solidFill>
                <a:latin typeface="Arial"/>
              </a:rPr>
              <a:t>serie</a:t>
            </a:r>
            <a:r>
              <a:rPr b="0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sz="2600" spc="-1" strike="noStrike">
                <a:solidFill>
                  <a:srgbClr val="000000"/>
                </a:solidFill>
                <a:latin typeface="Arial"/>
              </a:rPr>
              <a:t>estándar</a:t>
            </a:r>
            <a:r>
              <a:rPr b="0" sz="2600" spc="-1" strike="noStrike">
                <a:solidFill>
                  <a:srgbClr val="000000"/>
                </a:solidFill>
                <a:latin typeface="Arial"/>
              </a:rPr>
              <a:t> se extiende del Nº  0  al  10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600" spc="-1" strike="noStrike">
                <a:solidFill>
                  <a:srgbClr val="000000"/>
                </a:solidFill>
                <a:latin typeface="Arial"/>
              </a:rPr>
              <a:t>Retardo corto </a:t>
            </a:r>
            <a:r>
              <a:rPr b="1" sz="2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sz="2600" spc="-1" strike="noStrike">
                <a:solidFill>
                  <a:srgbClr val="000000"/>
                </a:solidFill>
                <a:latin typeface="Arial"/>
              </a:rPr>
              <a:t> intervalo de milésimas de segundo. La </a:t>
            </a:r>
            <a:r>
              <a:rPr b="0" i="1" sz="2600" spc="-1" strike="noStrike">
                <a:solidFill>
                  <a:srgbClr val="000000"/>
                </a:solidFill>
                <a:latin typeface="Arial"/>
              </a:rPr>
              <a:t>serie</a:t>
            </a:r>
            <a:r>
              <a:rPr b="0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sz="2600" spc="-1" strike="noStrike">
                <a:solidFill>
                  <a:srgbClr val="000000"/>
                </a:solidFill>
                <a:latin typeface="Arial"/>
              </a:rPr>
              <a:t>estándar</a:t>
            </a:r>
            <a:r>
              <a:rPr b="0" sz="2600" spc="-1" strike="noStrike">
                <a:solidFill>
                  <a:srgbClr val="000000"/>
                </a:solidFill>
                <a:latin typeface="Arial"/>
              </a:rPr>
              <a:t> iuncluye del Nº 0 al 19, intervalos comienzan en 25/1.000 de segundo y terminan en 100/1.000 de segun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6920" y="19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orios de tronadur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iciación propiamente 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ex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cu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ctivación o encend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tonadores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léctricos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(de retard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352680" y="0"/>
          <a:ext cx="40608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0"/>
                    <a:ext cx="40608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tonador No Eléctr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imilares a los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detonadores eléctrico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difieren en la modalidad de activaci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ctivado mediante un 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ubo plástic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que contiene un mezcla explosiva que trasmite una detonación de bajo poder, evitando activación anticipada del ti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eries de retar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tardo larg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on 0,5 segundos de interva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tardo cort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on milésimas de segundo de interval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º 0: instantán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unción: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INICIACIÓN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y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SECUENCI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onad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 Eléctr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4808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048120" y="0"/>
          <a:ext cx="58338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0"/>
                    <a:ext cx="58338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914400" y="0"/>
            <a:ext cx="7314480" cy="7009920"/>
            <a:chOff x="914400" y="0"/>
            <a:chExt cx="7314480" cy="7009920"/>
          </a:xfrm>
        </p:grpSpPr>
        <p:sp>
          <p:nvSpPr>
            <p:cNvPr id="94" name=""/>
            <p:cNvSpPr/>
            <p:nvPr/>
          </p:nvSpPr>
          <p:spPr>
            <a:xfrm>
              <a:off x="962640" y="0"/>
              <a:ext cx="3191400" cy="5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TARDO  LARG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54400" y="0"/>
              <a:ext cx="3929040" cy="5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TARDO  COR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962640" y="1675080"/>
              <a:ext cx="29772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60360" y="1675080"/>
              <a:ext cx="6098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----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70560" y="1675080"/>
              <a:ext cx="6102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481120" y="1675080"/>
              <a:ext cx="60156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---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083040" y="1675080"/>
              <a:ext cx="6818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64880" y="1675080"/>
              <a:ext cx="5976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---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362840" y="1675080"/>
              <a:ext cx="5864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49280" y="1675080"/>
              <a:ext cx="49716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---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46800" y="1675080"/>
              <a:ext cx="57888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25680" y="1675080"/>
              <a:ext cx="58608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---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611760" y="1675080"/>
              <a:ext cx="59472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62640" y="2151000"/>
              <a:ext cx="29772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260360" y="2151000"/>
              <a:ext cx="6098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70560" y="2151000"/>
              <a:ext cx="6102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481120" y="2151000"/>
              <a:ext cx="60156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83040" y="2151000"/>
              <a:ext cx="6818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764880" y="2151000"/>
              <a:ext cx="5976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362840" y="2151000"/>
              <a:ext cx="5864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949280" y="2151000"/>
              <a:ext cx="49536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445000" y="2151000"/>
              <a:ext cx="58068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25680" y="2151000"/>
              <a:ext cx="58608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611760" y="2151000"/>
              <a:ext cx="59472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2640" y="2626920"/>
              <a:ext cx="29772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260360" y="2626920"/>
              <a:ext cx="60984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870560" y="2626920"/>
              <a:ext cx="61020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4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481120" y="2626920"/>
              <a:ext cx="60156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083040" y="2626920"/>
              <a:ext cx="68184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4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764880" y="2626920"/>
              <a:ext cx="59760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362840" y="2626920"/>
              <a:ext cx="58644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949280" y="2626920"/>
              <a:ext cx="49536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445000" y="2626920"/>
              <a:ext cx="58068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025680" y="2626920"/>
              <a:ext cx="58608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611760" y="2626920"/>
              <a:ext cx="59472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962640" y="3102840"/>
              <a:ext cx="29772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260360" y="3102840"/>
              <a:ext cx="6098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870560" y="3102840"/>
              <a:ext cx="6102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6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481120" y="3102840"/>
              <a:ext cx="60156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083040" y="3102840"/>
              <a:ext cx="6818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6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764880" y="3102840"/>
              <a:ext cx="5976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62840" y="3102840"/>
              <a:ext cx="5864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7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949280" y="3102840"/>
              <a:ext cx="49536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445000" y="3102840"/>
              <a:ext cx="58068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025680" y="3102840"/>
              <a:ext cx="58608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611760" y="3102840"/>
              <a:ext cx="59472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7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962640" y="3578760"/>
              <a:ext cx="29772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60360" y="3578760"/>
              <a:ext cx="60984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4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870560" y="3578760"/>
              <a:ext cx="61020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481120" y="3578760"/>
              <a:ext cx="60156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083040" y="3578760"/>
              <a:ext cx="68184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8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764880" y="3578760"/>
              <a:ext cx="59760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62840" y="3578760"/>
              <a:ext cx="58644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949280" y="3578760"/>
              <a:ext cx="49536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45000" y="3578760"/>
              <a:ext cx="58068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7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25680" y="3578760"/>
              <a:ext cx="58608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611760" y="3578760"/>
              <a:ext cx="59472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962640" y="4054320"/>
              <a:ext cx="29772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60360" y="4054320"/>
              <a:ext cx="6098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4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70560" y="4054320"/>
              <a:ext cx="6102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4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1120" y="4054320"/>
              <a:ext cx="60156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083040" y="4054320"/>
              <a:ext cx="6818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764880" y="4054320"/>
              <a:ext cx="5976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362840" y="4054320"/>
              <a:ext cx="5864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949280" y="4054320"/>
              <a:ext cx="49716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46800" y="4054320"/>
              <a:ext cx="57888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025680" y="4054320"/>
              <a:ext cx="58608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611760" y="4054320"/>
              <a:ext cx="59472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962640" y="4530600"/>
              <a:ext cx="29772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260360" y="4530600"/>
              <a:ext cx="60984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870560" y="4530600"/>
              <a:ext cx="61020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9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81120" y="4530600"/>
              <a:ext cx="60156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083040" y="4530600"/>
              <a:ext cx="68184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764880" y="4530600"/>
              <a:ext cx="59760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362840" y="4530600"/>
              <a:ext cx="58644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49280" y="4530600"/>
              <a:ext cx="49716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46800" y="4530600"/>
              <a:ext cx="57888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3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025680" y="4530600"/>
              <a:ext cx="58608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11760" y="4530600"/>
              <a:ext cx="59472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62640" y="5006160"/>
              <a:ext cx="29772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260360" y="5006160"/>
              <a:ext cx="6098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5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70560" y="5006160"/>
              <a:ext cx="6102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4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481120" y="5006160"/>
              <a:ext cx="60156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83040" y="5006160"/>
              <a:ext cx="6818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7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764880" y="5006160"/>
              <a:ext cx="5976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362840" y="5006160"/>
              <a:ext cx="5864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7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949280" y="5006160"/>
              <a:ext cx="49716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46800" y="5006160"/>
              <a:ext cx="57888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6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25680" y="5006160"/>
              <a:ext cx="58608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611760" y="5006160"/>
              <a:ext cx="59472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7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962640" y="5482080"/>
              <a:ext cx="29772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260360" y="5482080"/>
              <a:ext cx="60984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6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870560" y="5482080"/>
              <a:ext cx="61020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,1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481120" y="5482080"/>
              <a:ext cx="60156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083040" y="5482080"/>
              <a:ext cx="68184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764880" y="5482080"/>
              <a:ext cx="59760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362840" y="5482080"/>
              <a:ext cx="58644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949280" y="5482080"/>
              <a:ext cx="49716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46800" y="5482080"/>
              <a:ext cx="57888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025680" y="5482080"/>
              <a:ext cx="58608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611760" y="5482080"/>
              <a:ext cx="59472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962640" y="5958000"/>
              <a:ext cx="29772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60360" y="5958000"/>
              <a:ext cx="6098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870560" y="5958000"/>
              <a:ext cx="6102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,8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481120" y="5958000"/>
              <a:ext cx="60156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083040" y="5958000"/>
              <a:ext cx="6818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7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764880" y="5958000"/>
              <a:ext cx="5976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362840" y="5958000"/>
              <a:ext cx="5864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949280" y="5958000"/>
              <a:ext cx="49716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446800" y="5958000"/>
              <a:ext cx="57888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3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025680" y="5958000"/>
              <a:ext cx="58608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611760" y="5958000"/>
              <a:ext cx="59472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62640" y="6433920"/>
              <a:ext cx="29772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260360" y="6433920"/>
              <a:ext cx="60984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8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870560" y="6433920"/>
              <a:ext cx="61020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6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481120" y="6433920"/>
              <a:ext cx="60156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083040" y="6433920"/>
              <a:ext cx="68184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,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764880" y="6433920"/>
              <a:ext cx="59760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362840" y="6433920"/>
              <a:ext cx="58644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949280" y="6433920"/>
              <a:ext cx="49716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446800" y="6433920"/>
              <a:ext cx="57888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8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025680" y="6433920"/>
              <a:ext cx="58608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611760" y="6433920"/>
              <a:ext cx="59472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914400" y="500400"/>
              <a:ext cx="394200" cy="574920"/>
              <a:chOff x="914400" y="500400"/>
              <a:chExt cx="394200" cy="574920"/>
            </a:xfrm>
          </p:grpSpPr>
          <p:sp>
            <p:nvSpPr>
              <p:cNvPr id="218" name=""/>
              <p:cNvSpPr/>
              <p:nvPr/>
            </p:nvSpPr>
            <p:spPr>
              <a:xfrm>
                <a:off x="962640" y="500400"/>
                <a:ext cx="297360" cy="57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914400" y="500400"/>
                <a:ext cx="394200" cy="5749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1308960" y="500400"/>
              <a:ext cx="1415520" cy="574920"/>
              <a:chOff x="1308960" y="500400"/>
              <a:chExt cx="1415520" cy="574920"/>
            </a:xfrm>
          </p:grpSpPr>
          <p:sp>
            <p:nvSpPr>
              <p:cNvPr id="221" name=""/>
              <p:cNvSpPr/>
              <p:nvPr/>
            </p:nvSpPr>
            <p:spPr>
              <a:xfrm>
                <a:off x="1357200" y="500400"/>
                <a:ext cx="1318320" cy="57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C HARSEI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TECNEL)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308960" y="500400"/>
                <a:ext cx="1415520" cy="5749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2724840" y="500400"/>
              <a:ext cx="1477800" cy="574920"/>
              <a:chOff x="2724840" y="500400"/>
              <a:chExt cx="1477800" cy="574920"/>
            </a:xfrm>
          </p:grpSpPr>
          <p:sp>
            <p:nvSpPr>
              <p:cNvPr id="224" name=""/>
              <p:cNvSpPr/>
              <p:nvPr/>
            </p:nvSpPr>
            <p:spPr>
              <a:xfrm>
                <a:off x="2773080" y="500400"/>
                <a:ext cx="1380600" cy="57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TLAS  POWD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BLASTMASTER)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724840" y="500400"/>
                <a:ext cx="1477800" cy="5749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4203360" y="500400"/>
              <a:ext cx="1378800" cy="574920"/>
              <a:chOff x="4203360" y="500400"/>
              <a:chExt cx="1378800" cy="574920"/>
            </a:xfrm>
          </p:grpSpPr>
          <p:sp>
            <p:nvSpPr>
              <p:cNvPr id="227" name=""/>
              <p:cNvSpPr/>
              <p:nvPr/>
            </p:nvSpPr>
            <p:spPr>
              <a:xfrm>
                <a:off x="4251600" y="500400"/>
                <a:ext cx="1281600" cy="57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U  PON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MS  DELAY)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203360" y="500400"/>
                <a:ext cx="1378800" cy="5749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5582520" y="500400"/>
              <a:ext cx="1270800" cy="574920"/>
              <a:chOff x="5582520" y="500400"/>
              <a:chExt cx="1270800" cy="574920"/>
            </a:xfrm>
          </p:grpSpPr>
          <p:sp>
            <p:nvSpPr>
              <p:cNvPr id="230" name=""/>
              <p:cNvSpPr/>
              <p:nvPr/>
            </p:nvSpPr>
            <p:spPr>
              <a:xfrm>
                <a:off x="5630760" y="500400"/>
                <a:ext cx="1173960" cy="57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 I 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582520" y="500400"/>
                <a:ext cx="1270800" cy="5749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6853680" y="500400"/>
              <a:ext cx="1375200" cy="574920"/>
              <a:chOff x="6853680" y="500400"/>
              <a:chExt cx="1375200" cy="574920"/>
            </a:xfrm>
          </p:grpSpPr>
          <p:sp>
            <p:nvSpPr>
              <p:cNvPr id="233" name=""/>
              <p:cNvSpPr/>
              <p:nvPr/>
            </p:nvSpPr>
            <p:spPr>
              <a:xfrm>
                <a:off x="6902280" y="500400"/>
                <a:ext cx="1278000" cy="57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C HARSEI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TECNEL)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853680" y="500400"/>
                <a:ext cx="1375200" cy="5749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914400" y="1075320"/>
              <a:ext cx="394200" cy="599400"/>
              <a:chOff x="914400" y="1075320"/>
              <a:chExt cx="394200" cy="599400"/>
            </a:xfrm>
          </p:grpSpPr>
          <p:sp>
            <p:nvSpPr>
              <p:cNvPr id="236" name=""/>
              <p:cNvSpPr/>
              <p:nvPr/>
            </p:nvSpPr>
            <p:spPr>
              <a:xfrm>
                <a:off x="962640" y="1075320"/>
                <a:ext cx="297360" cy="59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º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914400" y="1075320"/>
                <a:ext cx="394200" cy="599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1308960" y="1075320"/>
              <a:ext cx="707400" cy="599400"/>
              <a:chOff x="1308960" y="1075320"/>
              <a:chExt cx="707400" cy="599400"/>
            </a:xfrm>
          </p:grpSpPr>
          <p:sp>
            <p:nvSpPr>
              <p:cNvPr id="239" name=""/>
              <p:cNvSpPr/>
              <p:nvPr/>
            </p:nvSpPr>
            <p:spPr>
              <a:xfrm>
                <a:off x="1357200" y="1075320"/>
                <a:ext cx="610200" cy="59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[</a:t>
                </a: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g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308960" y="1075320"/>
                <a:ext cx="707400" cy="599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2017080" y="1075320"/>
              <a:ext cx="707400" cy="599400"/>
              <a:chOff x="2017080" y="1075320"/>
              <a:chExt cx="707400" cy="599400"/>
            </a:xfrm>
          </p:grpSpPr>
          <p:sp>
            <p:nvSpPr>
              <p:cNvPr id="242" name=""/>
              <p:cNvSpPr/>
              <p:nvPr/>
            </p:nvSpPr>
            <p:spPr>
              <a:xfrm>
                <a:off x="2065320" y="1075320"/>
                <a:ext cx="610200" cy="59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[seg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017080" y="1075320"/>
                <a:ext cx="707400" cy="599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2724840" y="1075320"/>
              <a:ext cx="698400" cy="599400"/>
              <a:chOff x="2724840" y="1075320"/>
              <a:chExt cx="698400" cy="599400"/>
            </a:xfrm>
          </p:grpSpPr>
          <p:sp>
            <p:nvSpPr>
              <p:cNvPr id="245" name=""/>
              <p:cNvSpPr/>
              <p:nvPr/>
            </p:nvSpPr>
            <p:spPr>
              <a:xfrm>
                <a:off x="2773080" y="1075320"/>
                <a:ext cx="601560" cy="59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[</a:t>
                </a: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g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724840" y="1075320"/>
                <a:ext cx="698400" cy="599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3423960" y="1075320"/>
              <a:ext cx="778680" cy="599400"/>
              <a:chOff x="3423960" y="1075320"/>
              <a:chExt cx="778680" cy="599400"/>
            </a:xfrm>
          </p:grpSpPr>
          <p:sp>
            <p:nvSpPr>
              <p:cNvPr id="248" name=""/>
              <p:cNvSpPr/>
              <p:nvPr/>
            </p:nvSpPr>
            <p:spPr>
              <a:xfrm>
                <a:off x="3472560" y="1075320"/>
                <a:ext cx="681120" cy="59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[seg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423960" y="1075320"/>
                <a:ext cx="778680" cy="599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4203360" y="1075320"/>
              <a:ext cx="695160" cy="599400"/>
              <a:chOff x="4203360" y="1075320"/>
              <a:chExt cx="695160" cy="599400"/>
            </a:xfrm>
          </p:grpSpPr>
          <p:sp>
            <p:nvSpPr>
              <p:cNvPr id="251" name=""/>
              <p:cNvSpPr/>
              <p:nvPr/>
            </p:nvSpPr>
            <p:spPr>
              <a:xfrm>
                <a:off x="4251600" y="1075320"/>
                <a:ext cx="597960" cy="59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[m</a:t>
                </a: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g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203360" y="1075320"/>
                <a:ext cx="695160" cy="599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4898880" y="1075320"/>
              <a:ext cx="682920" cy="599400"/>
              <a:chOff x="4898880" y="1075320"/>
              <a:chExt cx="682920" cy="599400"/>
            </a:xfrm>
          </p:grpSpPr>
          <p:sp>
            <p:nvSpPr>
              <p:cNvPr id="254" name=""/>
              <p:cNvSpPr/>
              <p:nvPr/>
            </p:nvSpPr>
            <p:spPr>
              <a:xfrm>
                <a:off x="4947120" y="1075320"/>
                <a:ext cx="585720" cy="59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[mseg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898880" y="1075320"/>
                <a:ext cx="682920" cy="599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5582520" y="1075320"/>
              <a:ext cx="594360" cy="599400"/>
              <a:chOff x="5582520" y="1075320"/>
              <a:chExt cx="594360" cy="599400"/>
            </a:xfrm>
          </p:grpSpPr>
          <p:sp>
            <p:nvSpPr>
              <p:cNvPr id="257" name=""/>
              <p:cNvSpPr/>
              <p:nvPr/>
            </p:nvSpPr>
            <p:spPr>
              <a:xfrm>
                <a:off x="5630760" y="1075320"/>
                <a:ext cx="497160" cy="59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[m</a:t>
                </a: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g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582520" y="1075320"/>
                <a:ext cx="594360" cy="599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6177240" y="1075320"/>
              <a:ext cx="675720" cy="599400"/>
              <a:chOff x="6177240" y="1075320"/>
              <a:chExt cx="675720" cy="599400"/>
            </a:xfrm>
          </p:grpSpPr>
          <p:sp>
            <p:nvSpPr>
              <p:cNvPr id="260" name=""/>
              <p:cNvSpPr/>
              <p:nvPr/>
            </p:nvSpPr>
            <p:spPr>
              <a:xfrm>
                <a:off x="6225480" y="1075320"/>
                <a:ext cx="578880" cy="59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[mseg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177240" y="1075320"/>
                <a:ext cx="675720" cy="599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6853680" y="1075320"/>
              <a:ext cx="681480" cy="599400"/>
              <a:chOff x="6853680" y="1075320"/>
              <a:chExt cx="681480" cy="599400"/>
            </a:xfrm>
          </p:grpSpPr>
          <p:sp>
            <p:nvSpPr>
              <p:cNvPr id="263" name=""/>
              <p:cNvSpPr/>
              <p:nvPr/>
            </p:nvSpPr>
            <p:spPr>
              <a:xfrm>
                <a:off x="6902280" y="1075320"/>
                <a:ext cx="583920" cy="59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[m</a:t>
                </a: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g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853680" y="1075320"/>
                <a:ext cx="681480" cy="599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7535520" y="1075320"/>
              <a:ext cx="693360" cy="599400"/>
              <a:chOff x="7535520" y="1075320"/>
              <a:chExt cx="693360" cy="599400"/>
            </a:xfrm>
          </p:grpSpPr>
          <p:sp>
            <p:nvSpPr>
              <p:cNvPr id="266" name=""/>
              <p:cNvSpPr/>
              <p:nvPr/>
            </p:nvSpPr>
            <p:spPr>
              <a:xfrm>
                <a:off x="7583760" y="1075320"/>
                <a:ext cx="596520" cy="59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[mseg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535520" y="1075320"/>
                <a:ext cx="693360" cy="599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etonadores Electrón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5410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ayor costo v/s beneficio tronadura económica (no “bar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minan virtualmente la dispersión de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joras del tiempo electrónico de prec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ando los detonadores electrónicos reemplazan a los retardos pirotécnicos existe una caída en la sobredimensión, estallido y vibración, que podría haber sido el resultado de intervalos imprecisos: el resultado completo de la tronadura se vuelve más uniforme y existe mayor uniformidad entre tronaduras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6073920" y="1773360"/>
            <a:ext cx="3070080" cy="422748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 flipH="1">
            <a:off x="7956720" y="1628640"/>
            <a:ext cx="28728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669080" y="13334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ici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020000" y="1916280"/>
            <a:ext cx="86508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156360" y="1484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xplos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6948360" y="4869000"/>
            <a:ext cx="93672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589800" y="616572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??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conect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ispositivo que permite intercalar un retardo de milésimas de segundo en una línea troncal de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guía detonante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unción : 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SECUENCI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ers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imples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unidirec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i - direc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8432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conect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095640" y="22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914400" y="909720"/>
          <a:ext cx="7620120" cy="594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909720"/>
                    <a:ext cx="7620120" cy="59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plificad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rtefactos explosivos de forma cilínd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tilizados para amplificar la energía de iniciación en presencia d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xplosivos insensib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a u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tonad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norm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aterial explosivo : mezcla d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ET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conocida con el nombre d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ENTOLI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unción : INICIACIÓ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0920" y="198000"/>
            <a:ext cx="31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plificado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276720" y="20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3274920" y="420840"/>
          <a:ext cx="5761080" cy="62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4920" y="420840"/>
                    <a:ext cx="5761080" cy="62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0" y="3963960"/>
            <a:ext cx="9132840" cy="289404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11160" y="0"/>
            <a:ext cx="913284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7240" y="19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iciación propiamente 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Corresponde a la acción o efecto que inicia la detonación de la columna explosiva en cada uno de los </a:t>
            </a:r>
            <a:r>
              <a:rPr b="0" i="1" sz="3200" spc="-1" strike="noStrike">
                <a:solidFill>
                  <a:srgbClr val="000000"/>
                </a:solidFill>
                <a:latin typeface="Arial"/>
              </a:rPr>
              <a:t>tiros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alidades De Inici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lerías o Túne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ción pequeña (A &lt; 10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ción mediana o grande (A &gt; 10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alería o Túnel sección pequeña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PLOSIV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r lo general sensible a u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onad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ICIACIÓN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tonador  corrien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exión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 exis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CUENCIA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gún el orden de encendido de l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uí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odas de la misma longitu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TIVACIÓN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cendido a fuego de cada uno de lo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r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través de l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uía  corrien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lería o Túnel sección pequeñ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386160" y="28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57200" y="1981080"/>
          <a:ext cx="8229600" cy="40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40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lería o Túnel sección pequeñ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64320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981080" y="1523880"/>
          <a:ext cx="5181840" cy="518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523880"/>
                    <a:ext cx="518184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lería o Túnel sección medi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ICIACIÓN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tonadores  “No Eléctricos” de retard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r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MS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para lo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ir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centrales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ainur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d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tardo larg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LP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 el res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EXIÓ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uía  detonan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que recorre la frente uniendo todos lo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ir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CUENCI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dan lo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onador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gún el número 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i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rrespondi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TIVACIÓ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r lo general se recurre a u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TONADOR ELÉCTRICO Nº 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instantáneo). También se puede utiliz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endido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eg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 u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TONAD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RRIEN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ás un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UÍ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RRIEN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lería o Túnel sección medi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333600" y="24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1219320" y="1600200"/>
          <a:ext cx="647676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00200"/>
                    <a:ext cx="647676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ería a cielo abier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sivo: insensible a un detonad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ciación: Guía detonante mas amplific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exión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ronc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 Guía tronc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encia: Microconectores, antes de cada tiro de la ramif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ación: Detonador eléctr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ería a cielo abier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457200" y="1817640"/>
          <a:ext cx="8229600" cy="409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17640"/>
                    <a:ext cx="8229600" cy="40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ería a cielo abier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695760" y="19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2895480" y="1341360"/>
          <a:ext cx="312588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341360"/>
                    <a:ext cx="312588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>
            <a:off x="276228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ería a cielo abiert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retardo en tiros grand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62280" y="21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2666880" y="1676520"/>
          <a:ext cx="367992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676520"/>
                    <a:ext cx="367992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64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ex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Se refiere a la necesidad de conectar todos los </a:t>
            </a:r>
            <a:r>
              <a:rPr b="0" i="1" sz="3200" spc="-1" strike="noStrike">
                <a:solidFill>
                  <a:srgbClr val="000000"/>
                </a:solidFill>
                <a:latin typeface="Arial"/>
              </a:rPr>
              <a:t>tiros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 entre sí, de modo de trasmitir o propagar la detonación a cada uno de ell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ería a cielo abiert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retardo en tiros grand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695760" y="19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76228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36240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1600200" y="1500120"/>
          <a:ext cx="5791320" cy="535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00120"/>
                    <a:ext cx="5791320" cy="53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ería subterráne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ros rad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PLOSIV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generalmente explosivos insensibles a u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TONADOR  Nº 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ICIACIÓN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U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MPLIFICAD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APD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más u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TONADOR  “NO ELÉCTRICO”  DE  MICRO-RRETARDO  (MS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n cada uno de lo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ir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EXIÓN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UÍA  DETONAN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que contornea cad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banic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d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ir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CUENCIA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TONADORES  “NO ELÉCTRICOS”  DE MICRORRETARDO  (MS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del mism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º de Seri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n cad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banic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TIVACIÓN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TONADOR  ELÉCTRICO Nº 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dherido al extremo de l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uí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on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ería subterráne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ros rad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89080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762120" y="1676520"/>
          <a:ext cx="7391160" cy="514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391160" cy="51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ería subterráne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ros rad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89080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13380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1905120" y="1785960"/>
          <a:ext cx="5105160" cy="507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785960"/>
                    <a:ext cx="5105160" cy="50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26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ue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Corresponde al efecto de imprimir un orden de </a:t>
            </a:r>
            <a:r>
              <a:rPr b="0" i="1" sz="3200" spc="-1" strike="noStrike">
                <a:solidFill>
                  <a:srgbClr val="000000"/>
                </a:solidFill>
                <a:latin typeface="Arial"/>
              </a:rPr>
              <a:t>salida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 al conjunto de cargas explosivas que conforman el diseño o </a:t>
            </a:r>
            <a:r>
              <a:rPr b="0" i="1" sz="3200" spc="-1" strike="noStrike">
                <a:solidFill>
                  <a:srgbClr val="000000"/>
                </a:solidFill>
                <a:latin typeface="Arial"/>
              </a:rPr>
              <a:t>diagrama de disparo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ación o encend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Se refiere a la fuente de energía inicial que activa el proceso de detonación de todo el conjunto de cargas explosivas involucradas en la </a:t>
            </a:r>
            <a:r>
              <a:rPr b="0" i="1" sz="3200" spc="-1" strike="noStrike">
                <a:solidFill>
                  <a:srgbClr val="000000"/>
                </a:solidFill>
                <a:latin typeface="Arial"/>
              </a:rPr>
              <a:t>tronadura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26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í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uía corr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uía conect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uía deton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800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ía Corri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77240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Cordón que contiene un núcleo de </a:t>
            </a:r>
            <a:r>
              <a:rPr b="0" i="1" sz="3200" spc="-1" strike="noStrike">
                <a:solidFill>
                  <a:srgbClr val="000000"/>
                </a:solidFill>
                <a:latin typeface="Arial"/>
              </a:rPr>
              <a:t>pólvora neg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Envoltura de fibra textil y/o plást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Transmite combustión a velocidad del orden de 0,75 [cm/seg]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3200" spc="-1" strike="noStrike">
                <a:solidFill>
                  <a:srgbClr val="000000"/>
                </a:solidFill>
                <a:latin typeface="Arial"/>
              </a:rPr>
              <a:t>Función:activación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  o  </a:t>
            </a:r>
            <a:r>
              <a:rPr b="0" i="1" sz="3200" spc="-1" strike="noStrike">
                <a:solidFill>
                  <a:srgbClr val="000000"/>
                </a:solidFill>
                <a:latin typeface="Arial"/>
              </a:rPr>
              <a:t>encendido</a:t>
            </a:r>
            <a:r>
              <a:rPr b="1" i="1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sz="3200" spc="-1" strike="noStrike">
                <a:solidFill>
                  <a:srgbClr val="000000"/>
                </a:solidFill>
                <a:latin typeface="Arial"/>
              </a:rPr>
              <a:t>a  fuego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26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ía Corri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219320" y="1143000"/>
          <a:ext cx="73152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143000"/>
                    <a:ext cx="73152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0T03:06:35Z</dcterms:created>
  <dc:creator>felipe</dc:creator>
  <dc:description/>
  <dc:language>en-US</dc:language>
  <cp:lastModifiedBy>FSB</cp:lastModifiedBy>
  <dcterms:modified xsi:type="dcterms:W3CDTF">2007-10-05T03:35:04Z</dcterms:modified>
  <cp:revision>36</cp:revision>
  <dc:subject/>
  <dc:title>MI 47 – A Perforación y Tronadura</dc:title>
</cp:coreProperties>
</file>