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4FD-536C-4DD1-AEF5-72C4E493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228-C3D6-4CF3-B1C6-5F003B3A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119-9FFB-4930-9167-25EE7F31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358-5B9C-43C8-B0E5-7384B2A4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EFB-0EC8-4917-8E5D-D360F662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D13-B4F6-4C80-BF75-A8DE5B33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CA0-FFB1-4DE7-B5E5-664559BA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1C3-EF0D-40EC-A759-AD843B0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0D1-2956-4232-8B17-25C50358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A61-3255-42DF-AE8A-9B52F19D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FEB-FC85-4390-ADBE-124C0091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3CE-1AFD-4B18-B96E-AF025584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C872-BD46-4618-94ED-6295C1D72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FSB</cp:lastModifiedBy>
  <dcterms:modified xsi:type="dcterms:W3CDTF">2007-09-07T06:03:37Z</dcterms:modified>
  <cp:revision>6</cp:revision>
  <dc:subject/>
  <dc:title>Diapositiva 1</dc:title>
</cp:coreProperties>
</file>