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9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3C2-5C23-4410-AC3E-02021FA20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E761-0994-42F4-AEF4-7555C06C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12D0-5B7F-4CEA-9233-87E4FD39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3B1-8869-467F-A973-B519FB79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981-59F5-4A31-9224-2195D3CD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CC15-5DDB-41FC-BC15-1851598A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CA7-BC90-4370-B89D-2E0160B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1E24-ECB3-458B-8D1A-793F19689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A8A-185A-4B53-B389-635DEBC6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AD4-4D4D-482F-80D7-5B962250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4AA-D918-4D1A-BE4E-FC5A71D5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A1F8-5E68-44AA-8DDD-7CD1A673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122B7-5366-4267-8F84-90275B798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4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1924200"/>
            <a:ext cx="849600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720" rIns="90000" tIns="76320" bIns="0" anchor="ctr">
            <a:spAutoFit/>
          </a:bodyPr>
          <a:p>
            <a:pPr algn="ctr"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ire comprimi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un medio de transmisión de energía y como tal es una fuente de fuerza motriz en faenas miner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PRESOR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piran aire del ambiente y aumentan su presión hasta que alcance un valor adecuado para su util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ción Termodinámica. Transmisión Fluodiná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"/>
              <a:tabLst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tualidad perforación neumática diámetros menores (27 a 41 mm) y a los martillos DTH (89 a 165 m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542880"/>
            <a:ext cx="6913440" cy="59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1640" y="496800"/>
            <a:ext cx="70563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4480" y="1700280"/>
          <a:ext cx="8880120" cy="41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00280"/>
                    <a:ext cx="8880120" cy="41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quema 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90760" y="1951200"/>
            <a:ext cx="3120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3519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73160" y="3563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ay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ussac V/T = c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042920" y="4554360"/>
                <a:ext cx="19447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 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R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0" name=""/>
          <p:cNvGraphicFramePr/>
          <p:nvPr/>
        </p:nvGraphicFramePr>
        <p:xfrm>
          <a:off x="3348000" y="4149720"/>
          <a:ext cx="5446440" cy="1917720"/>
        </p:xfrm>
        <a:graphic>
          <a:graphicData uri="http://schemas.openxmlformats.org/drawingml/2006/table">
            <a:tbl>
              <a:tblPr/>
              <a:tblGrid>
                <a:gridCol w="216000"/>
                <a:gridCol w="235080"/>
                <a:gridCol w="774720"/>
                <a:gridCol w="2790720"/>
                <a:gridCol w="1429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ión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Kgp/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específ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m</a:t>
                      </a:r>
                      <a:r>
                        <a:rPr b="1" lang="es-E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s-ES" sz="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eratura absolu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°K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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ante de los g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168560" y="6237360"/>
                <a:ext cx="64990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o</m:t>
                        </m:r>
                        <m:r>
                          <m:t xml:space="preserve">v</m:t>
                        </m:r>
                        <m:r>
                          <m:t xml:space="preserve">o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o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0 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0,77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p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den>
                        </m:f>
                        <m:r>
                          <m:t xml:space="preserve">x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°</m:t>
                            </m:r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,625   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gm / Kg x </m:t>
                    </m:r>
                    <m:r>
                      <m:t xml:space="preserve">°</m:t>
                    </m:r>
                    <m:r>
                      <m:t xml:space="preserve">K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26920" y="1581120"/>
            <a:ext cx="7490160" cy="3719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Isoterma v/s Adiab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2560" y="5608800"/>
            <a:ext cx="80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compresores reales se refrigera entonces el cilindro del compresor (camisa de agua), para obtener una curva AD que se ubica entre las dos anteriores: P V ^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K, donde "n"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1,3 para el 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Compresión Polifás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922480" y="1484280"/>
          <a:ext cx="531504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2480" y="1484280"/>
                    <a:ext cx="531504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39640" y="2060640"/>
            <a:ext cx="223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un mismo volumen inicial (V1) y presión final (P2), se obtiene un ahorro de energía representado por el área punteada BEDC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rabajo – Potencia – Rendimi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258920" y="1986120"/>
            <a:ext cx="7172280" cy="4251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116000" y="16272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77744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6000" y="765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isotérmica mono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16000" y="968400"/>
            <a:ext cx="717228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554200" y="5229360"/>
                <a:ext cx="4105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c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o 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708360" y="1125360"/>
          <a:ext cx="4692600" cy="35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125360"/>
                    <a:ext cx="4692600" cy="35276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268360" y="5013360"/>
            <a:ext cx="6312240" cy="14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4000" y="1413000"/>
                <a:ext cx="3114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4000" y="2519280"/>
                <a:ext cx="30765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-1332000" y="3587760"/>
            <a:ext cx="615636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DE  PIST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mono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mpresor bifásico enfriado por 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PRESORES  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URBOCOMPRE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1066680"/>
            <a:ext cx="7727760" cy="1354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2276640"/>
                <a:ext cx="5689800" cy="112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635280" y="3573360"/>
                <a:ext cx="1584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1   </m:t>
                        </m:r>
                        <m:r>
                          <m:t xml:space="preserve">P</m:t>
                        </m:r>
                        <m:r>
                          <m:t xml:space="preserve">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0920" y="4417920"/>
                <a:ext cx="417672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4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72000" y="4405320"/>
                <a:ext cx="432108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P</m:t>
                    </m:r>
                    <m:r>
                      <m:rPr>
                        <m:lit/>
                        <m:nor/>
                      </m:rPr>
                      <m:t xml:space="preserve">1  </m:t>
                    </m:r>
                    <m:r>
                      <m:t xml:space="preserve">V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6</m:t>
                                    </m:r>
                                  </m:num>
                                  <m:den>
                                    <m:r>
                                      <m:t xml:space="preserve">P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n-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     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04292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B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73408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esión trifá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81080" y="1844640"/>
                <a:ext cx="496728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Bif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 - 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P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Q</m:t>
                        </m:r>
                        <m:r>
                          <m:t xml:space="preserve">o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4</m:t>
                                        </m:r>
                                      </m:num>
                                      <m:den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o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num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</m:den>
                                </m:f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1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0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η</m:t>
                            </m:r>
                            <m:r>
                              <m:t xml:space="preserve">c</m:t>
                            </m:r>
                          </m:e>
                          <m:sup/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116000" y="62064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rabajo de una compresión polifás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3786120"/>
            <a:ext cx="853272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15920"/>
            <a:ext cx="676908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3184" r="0" b="0"/>
          <a:stretch/>
        </p:blipFill>
        <p:spPr>
          <a:xfrm>
            <a:off x="250920" y="3639960"/>
            <a:ext cx="4968720" cy="1643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rcRect l="4481" t="9881" r="47802" b="53036"/>
          <a:stretch/>
        </p:blipFill>
        <p:spPr>
          <a:xfrm>
            <a:off x="2268360" y="5445000"/>
            <a:ext cx="144000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rcRect l="0" t="13997" r="0" b="0"/>
          <a:stretch/>
        </p:blipFill>
        <p:spPr>
          <a:xfrm>
            <a:off x="5148360" y="3068640"/>
            <a:ext cx="3743280" cy="3017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566100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RNI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26028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64360" y="6308640"/>
            <a:ext cx="1513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LE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556000" y="692280"/>
            <a:ext cx="46767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20108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7770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632720" cy="56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744480"/>
            <a:ext cx="7200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4T14:31:55Z</dcterms:created>
  <dc:creator>*</dc:creator>
  <dc:description/>
  <dc:language>en-US</dc:language>
  <cp:lastModifiedBy>FSB</cp:lastModifiedBy>
  <dcterms:modified xsi:type="dcterms:W3CDTF">2007-09-07T06:03:37Z</dcterms:modified>
  <cp:revision>6</cp:revision>
  <dc:subject/>
  <dc:title>Diapositiva 1</dc:title>
</cp:coreProperties>
</file>