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99DD-81DE-47AE-A53A-D366DA17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F389-01BB-4B41-A882-5411598E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DF42-1C9A-497D-97B3-C97615F0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1ED-0BE5-4EDA-8208-1534C417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0D8-672C-4B1F-B9F3-B2F6B81F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D6A7-BF1B-43F2-8352-51502801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992-341D-4ED8-A85A-8B978FC6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2149-BE07-4DD4-941B-BB2CD578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D985-981D-4EA9-BC63-AF29D1D8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A49-68E5-46AD-BF8C-3DCDC709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570-52ED-43DD-B179-F74C6DB6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D691-FDB9-499A-9426-22135E7A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AFBD-A302-4091-95B3-746668BF6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4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1924200"/>
            <a:ext cx="8496000" cy="35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720" rIns="90000" tIns="76320" bIns="0" anchor="ctr">
            <a:spAutoFit/>
          </a:bodyPr>
          <a:p>
            <a:pPr algn="ctr"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ire Comprim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ire comprim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un medio de transmisión de energía y como tal es una fuente de fuerza motriz en faenas mineras subterrán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RESORE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piran aire del ambiente y aumentan su presión hasta que alcance un valor adecuado para su util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ción Termodinámica. Transmisión Fluodiná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ualidad perforación neumática diámetros menores (27 a 41 mm) y a los martillos DTH (89 a 165 m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542880"/>
            <a:ext cx="69134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71640" y="496800"/>
            <a:ext cx="705636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4480" y="1700280"/>
          <a:ext cx="8880120" cy="41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700280"/>
                    <a:ext cx="888012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quema 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85080" cy="3519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73160" y="3563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ay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ussac V/T = 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042920" y="4554360"/>
                <a:ext cx="19447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 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0" name=""/>
          <p:cNvGraphicFramePr/>
          <p:nvPr/>
        </p:nvGraphicFramePr>
        <p:xfrm>
          <a:off x="3348000" y="4149720"/>
          <a:ext cx="5446440" cy="1917720"/>
        </p:xfrm>
        <a:graphic>
          <a:graphicData uri="http://schemas.openxmlformats.org/drawingml/2006/table">
            <a:tbl>
              <a:tblPr/>
              <a:tblGrid>
                <a:gridCol w="216000"/>
                <a:gridCol w="235080"/>
                <a:gridCol w="774720"/>
                <a:gridCol w="2790720"/>
                <a:gridCol w="142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ión abso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Kgp/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específ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es-ES" sz="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g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eratura abso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°K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ante de los g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168560" y="6237360"/>
                <a:ext cx="64990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o</m:t>
                        </m:r>
                        <m:r>
                          <m:t xml:space="preserve">v</m:t>
                        </m:r>
                        <m:r>
                          <m:t xml:space="preserve">o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o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0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0,77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p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x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den>
                        </m:f>
                        <m:r>
                          <m:t xml:space="preserve">x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°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,625  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Kgm / Kg x </m:t>
                    </m:r>
                    <m:r>
                      <m:t xml:space="preserve">°</m:t>
                    </m:r>
                    <m:r>
                      <m:t xml:space="preserve">K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26920" y="1581120"/>
            <a:ext cx="7490160" cy="3719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Isoterma v/s Adiabá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2560" y="5608800"/>
            <a:ext cx="80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compresores reales se refrigera entonces el cilindro del compresor (camisa de agua), para obtener una curva AD que se ubica entre las dos anteriores: P V ^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K, donde "n"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1,3 para el 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mpresión Polifás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922480" y="1484280"/>
          <a:ext cx="531504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2480" y="1484280"/>
                    <a:ext cx="53150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539640" y="206064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un mismo volumen inicial (V1) y presión final (P2), se obtiene un ahorro de energía representado por el área punteada BEDC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Trabajo – Potencia – Rendimi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58920" y="1986120"/>
            <a:ext cx="7172280" cy="4251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16000" y="16272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isotérmica mono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777440" cy="3097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6000" y="765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isotérmica mono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16000" y="968400"/>
            <a:ext cx="7172280" cy="414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554200" y="5229360"/>
                <a:ext cx="41054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c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 - 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o 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o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η</m:t>
                            </m:r>
                            <m:r>
                              <m:t xml:space="preserve">c</m:t>
                            </m:r>
                          </m:e>
                          <m:sup/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708360" y="1125360"/>
          <a:ext cx="469260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125360"/>
                    <a:ext cx="4692600" cy="3527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268360" y="5013360"/>
            <a:ext cx="6312240" cy="1473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4000" y="1413000"/>
                <a:ext cx="3114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24000" y="2519280"/>
                <a:ext cx="3076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-1332000" y="3587760"/>
            <a:ext cx="615636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RESORES  DE  PIST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sor monofásico enfriado por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sor bifásico enfriado por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RESORES  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rni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al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URBOCOMPRE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066680"/>
            <a:ext cx="7727760" cy="1354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547640" y="2276640"/>
                <a:ext cx="5689800" cy="11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635280" y="3573360"/>
                <a:ext cx="1584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1   </m:t>
                        </m:r>
                        <m:r>
                          <m:t xml:space="preserve">P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0920" y="4417920"/>
                <a:ext cx="4176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72000" y="4405320"/>
                <a:ext cx="43210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6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42920" y="5734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esión Bif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5734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esión trif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81080" y="1844640"/>
                <a:ext cx="49672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 - 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Q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4</m:t>
                                        </m:r>
                                      </m:num>
                                      <m:den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o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η</m:t>
                            </m:r>
                            <m:r>
                              <m:t xml:space="preserve">c</m:t>
                            </m:r>
                          </m:e>
                          <m:sup/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3786120"/>
            <a:ext cx="853272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676908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13184" r="0" b="0"/>
          <a:stretch/>
        </p:blipFill>
        <p:spPr>
          <a:xfrm>
            <a:off x="250920" y="3639960"/>
            <a:ext cx="4968720" cy="1643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4481" t="9881" r="47802" b="53036"/>
          <a:stretch/>
        </p:blipFill>
        <p:spPr>
          <a:xfrm>
            <a:off x="2268360" y="544500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0" t="13997" r="0" b="0"/>
          <a:stretch/>
        </p:blipFill>
        <p:spPr>
          <a:xfrm>
            <a:off x="5148360" y="3068640"/>
            <a:ext cx="3743280" cy="3017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566100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RN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26028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4360" y="630864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L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556000" y="692280"/>
            <a:ext cx="467676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2010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7770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63272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4883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744480"/>
            <a:ext cx="720072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14:31:55Z</dcterms:created>
  <dc:creator>*</dc:creator>
  <dc:description/>
  <dc:language>en-US</dc:language>
  <cp:lastModifiedBy>FSB</cp:lastModifiedBy>
  <dcterms:modified xsi:type="dcterms:W3CDTF">2007-09-07T06:03:37Z</dcterms:modified>
  <cp:revision>6</cp:revision>
  <dc:subject/>
  <dc:title>Diapositiva 1</dc:title>
</cp:coreProperties>
</file>