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C98-65C9-44EA-9AFF-5E0AA3CE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B6C-7399-49DA-ADE1-22B6A1F6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D22-280C-4742-9712-B97DFD10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43C-BF6C-4804-8C5C-B685C4C3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B5D-543E-49C8-A671-F8EC911F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5C5-96D1-4FBF-B352-E693DAB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3CC-4399-4480-8EBA-899C6415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99E-C5AD-48C9-940B-FE3526F7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E18-FCBC-427B-8F11-13BF8A33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7E2-B6B6-448B-A2E2-E22C5015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A49-961C-466F-9343-5F46035B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2C4-DCEC-4AB4-8D74-B92447A8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0943-4FD5-414F-8167-D2E47D768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FSB</cp:lastModifiedBy>
  <dcterms:modified xsi:type="dcterms:W3CDTF">2007-09-07T06:03:37Z</dcterms:modified>
  <cp:revision>6</cp:revision>
  <dc:subject/>
  <dc:title>Diapositiva 1</dc:title>
</cp:coreProperties>
</file>