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BD9-9182-4216-A18F-1DB2AA5D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371-F0EC-40F7-898B-B64A66F2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C68-5A9F-4FB2-B041-DA27D6AC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222-3E11-43A5-8FBF-FC276708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544-91A0-469A-9A3F-59E1F26C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7CB2-AF7A-47A9-A82A-2281D8FC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DFA-A888-41FF-A2AD-D8C2BC43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E230-F0F3-45BB-8008-0E0612D2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B87F-4542-48B7-830D-239271B7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FBC3-18E5-4592-954E-12E3E2D9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4190-0803-4AE6-8740-059F3F9C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634F-3DFA-4A8A-9B24-90540327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9502-0D85-4C03-92F7-D1AB71C9D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FSB</cp:lastModifiedBy>
  <dcterms:modified xsi:type="dcterms:W3CDTF">2007-09-07T06:03:37Z</dcterms:modified>
  <cp:revision>6</cp:revision>
  <dc:subject/>
  <dc:title>Diapositiva 1</dc:title>
</cp:coreProperties>
</file>