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8CC-F35E-47E2-985A-FC803BE0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CC3-12E4-4E59-B03F-FDF66BFF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A18-3275-4887-8ADC-705E9728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4FB-50E0-4817-B28F-F28809FC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ABD-474E-4FD6-87BC-F4130563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80F-4526-4A76-B612-E8A56787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C83-5E81-4B9C-A4A6-6F83031F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22B-AC32-4E5F-B974-A81958B9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90F-15D5-465F-A86D-4EB4AB75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F8F-3D4B-4986-A0E5-D696C8C9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9B3-759F-4793-A436-73AF0A34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214-0EF7-4D3E-8B0A-A7EE300A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9787-346D-4C68-B06E-2A8A31656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FSB</cp:lastModifiedBy>
  <dcterms:modified xsi:type="dcterms:W3CDTF">2007-09-07T06:03:37Z</dcterms:modified>
  <cp:revision>6</cp:revision>
  <dc:subject/>
  <dc:title>Diapositiva 1</dc:title>
</cp:coreProperties>
</file>