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FBF-4FAE-4AC5-A278-A1232946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912-3E93-4417-B06B-9576AAED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0FD-EB21-4498-86D1-03839E3F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0D1-FCF3-440D-85D9-D9D8282A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20D-0EF6-4D45-9227-AC4CF7AB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255-AFBA-4A2D-B4AF-98F798A6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F26-383A-4323-A724-73587202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323-872E-4208-88BB-93D91A64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609-8E39-4B78-A94E-25E7872E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92B-0238-4DF8-934D-C642A99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A10-8A81-4C91-9F37-56F8EE3F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F80-5CBF-4240-B3D9-9CAD258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55B4-8052-4087-9859-ADF505E30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2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3141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xcavación de chime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 Ali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quipo: 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ros lar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ámetros: 4,5’’ a  6,5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652560" cy="56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11280" y="4508640"/>
            <a:ext cx="490716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248520" cy="59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476280"/>
            <a:ext cx="4257720" cy="607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80080" y="260280"/>
            <a:ext cx="39146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3:16:11Z</dcterms:created>
  <dc:creator>FSB</dc:creator>
  <dc:description/>
  <dc:language>en-US</dc:language>
  <cp:lastModifiedBy>FSB</cp:lastModifiedBy>
  <dcterms:modified xsi:type="dcterms:W3CDTF">2007-08-17T03:45:45Z</dcterms:modified>
  <cp:revision>8</cp:revision>
  <dc:subject/>
  <dc:title>Slide 1</dc:title>
</cp:coreProperties>
</file>