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6EEC-CA87-4119-AF5D-29701889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2FC-9876-433E-A702-7037D95F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7BC-66BA-4A4A-AD34-038878C1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92C-AB89-4846-AC53-DCED19D3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7BEE-C0A2-4097-918F-A6B20FAF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2FA-FC54-4281-9A03-4797F067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B67-0094-4866-9D30-BD8BA425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13D-E4EC-451F-8895-2934AFE7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9BD-AFF7-416B-9CAC-075051BE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B86-8F06-4D40-B40F-C1A97762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0AB-A32F-496D-8424-DD01AB1D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5C9C-81E5-4F20-BED1-903D66FD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1FB6-6941-41F1-832B-EC8264BF0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2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3141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xcavación de chime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378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todo Alim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quipo: 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ros lar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ámetros: 4,5’’ a  6,5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3652560" cy="56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11280" y="4508640"/>
            <a:ext cx="490716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6248520" cy="595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476280"/>
            <a:ext cx="4257720" cy="607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80080" y="260280"/>
            <a:ext cx="39146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03:16:11Z</dcterms:created>
  <dc:creator>FSB</dc:creator>
  <dc:description/>
  <dc:language>en-US</dc:language>
  <cp:lastModifiedBy>FSB</cp:lastModifiedBy>
  <dcterms:modified xsi:type="dcterms:W3CDTF">2007-08-17T03:45:45Z</dcterms:modified>
  <cp:revision>8</cp:revision>
  <dc:subject/>
  <dc:title>Slide 1</dc:title>
</cp:coreProperties>
</file>