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D63-36C4-4EEB-BB3D-BF7FA134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55C-A158-4AF6-B26C-40221B7B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3F8-49E8-41E6-BE15-B9EAC027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D4A-1885-44E6-9FDB-64C9BF69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D06-A755-43CC-B273-01340157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052-4E4A-4777-B9F7-3B4156BC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0F0-94B5-4C31-8698-1BFD3A21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3E0-24C2-465D-96D2-A15B4665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1C8-7122-4971-A7D6-7C6E38C4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E1B-BB09-4849-B788-CD80143F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903-0290-4186-8211-2EE2A12B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68B-BFC4-4D3D-AEAE-7E9DB85F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8AC-F0A6-4D20-9D77-D63261C36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2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xcavación de chime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 Ali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quipo: 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ro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ámetros: 4,5’’ a  6,5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652560" cy="56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1280" y="4508640"/>
            <a:ext cx="490716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248520" cy="59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476280"/>
            <a:ext cx="4257720" cy="607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0080" y="260280"/>
            <a:ext cx="39146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7T03:45:45Z</dcterms:modified>
  <cp:revision>8</cp:revision>
  <dc:subject/>
  <dc:title>Slide 1</dc:title>
</cp:coreProperties>
</file>