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3AF-65C8-4042-A913-DF59E855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854-EBB9-409F-86E3-ED541B6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14D-F6A0-41F8-AB34-C662231B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1AA-1976-4606-A1E4-B24FE082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1A2-5938-4773-B373-ED1B9E91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D24-E817-48B7-8011-A15542E3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052-3233-41DB-9B60-C78126D0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18F-804E-4ADC-B099-6A45C7F2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13A-06C5-4B31-874D-38800B3F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F73-1ECB-4E6A-9451-B9EE89CF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FFD-BDFC-41D3-AE3D-5FBDCFF8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DDD-0CEC-409D-AED1-435379F1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60F4-3186-42D1-9F3D-0F3E8A923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2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xcavación de chime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 Ali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quipo: 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ro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ámetros: 4,5’’ a  6,5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652560" cy="56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1280" y="4508640"/>
            <a:ext cx="490716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248520" cy="59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476280"/>
            <a:ext cx="4257720" cy="607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0080" y="260280"/>
            <a:ext cx="39146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7T03:45:45Z</dcterms:modified>
  <cp:revision>8</cp:revision>
  <dc:subject/>
  <dc:title>Slide 1</dc:title>
</cp:coreProperties>
</file>