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0BC-A991-41E7-B114-3ACB64F6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661-9C33-422D-BAE6-D2008623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6F5-A5E3-4725-B512-8303B7D2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465-2CEE-4367-8D41-2B7C58BE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FC0-E9FC-4F2A-A3DD-E136566B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E7C-B868-4A19-8F8D-E985E106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075-27FB-46C8-BADC-15494646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F98-1908-4AD6-8D04-54783BB1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3BF-7BE2-4DE1-80FE-F69DCCAC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289-2415-4BF2-B3E1-F09AA0F4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FF9-1FE3-4A1A-B042-91AF8D9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294-EB11-4F31-B6A2-9C4B243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5DA3-2080-4ABD-9962-B8AA4F060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2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3141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xcavación de chime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 Alim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quipo: 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ros lar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ámetros: 4,5’’ a  6,5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652560" cy="56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11280" y="4508640"/>
            <a:ext cx="490716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248520" cy="59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476280"/>
            <a:ext cx="4257720" cy="607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0080" y="260280"/>
            <a:ext cx="39146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3:16:11Z</dcterms:created>
  <dc:creator>FSB</dc:creator>
  <dc:description/>
  <dc:language>en-US</dc:language>
  <cp:lastModifiedBy>FSB</cp:lastModifiedBy>
  <dcterms:modified xsi:type="dcterms:W3CDTF">2007-08-17T03:45:45Z</dcterms:modified>
  <cp:revision>8</cp:revision>
  <dc:subject/>
  <dc:title>Slide 1</dc:title>
</cp:coreProperties>
</file>