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D9E-31BC-4760-9472-400B358E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547-2A81-4E6C-8193-BF21C990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6DA-C9A0-408F-A67B-8EC5F7AB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373-9D02-4325-A89F-76526B34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13C-FE8B-451A-A1CE-CEF6E216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9FA-1CEC-44BB-8785-CA5314A9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B07-699A-41EF-BB48-C168D2E2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59A-726B-4054-95EC-EC21F0DC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35F-E60C-45CD-BF63-8338CD86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835-176B-4671-B9D0-5FC1325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296-5D07-4AD8-9A60-9FB389D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4A3-F596-47CD-BA93-96E6FB2D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4CC2-0CD8-4A6D-AA9B-B4C4FE611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scopco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1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" y="1526760"/>
            <a:ext cx="86868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ranque (perforación y tronadura) y manejo de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eral, roca, yacimiento, mina (instal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jo - Subter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413160"/>
            <a:ext cx="3600720" cy="332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5280" y="3575160"/>
            <a:ext cx="34574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000" y="2139840"/>
            <a:ext cx="4187160" cy="1900440"/>
            <a:chOff x="108000" y="2139840"/>
            <a:chExt cx="4187160" cy="1900440"/>
          </a:xfrm>
        </p:grpSpPr>
        <p:sp>
          <p:nvSpPr>
            <p:cNvPr id="90" name=""/>
            <p:cNvSpPr/>
            <p:nvPr/>
          </p:nvSpPr>
          <p:spPr>
            <a:xfrm>
              <a:off x="108000" y="3454200"/>
              <a:ext cx="2254320" cy="79920"/>
            </a:xfrm>
            <a:custGeom>
              <a:avLst/>
              <a:gdLst/>
              <a:ahLst/>
              <a:rect l="l" t="t" r="r" b="b"/>
              <a:pathLst>
                <a:path w="5040" h="180">
                  <a:moveTo>
                    <a:pt x="0" y="180"/>
                  </a:moveTo>
                  <a:lnTo>
                    <a:pt x="360" y="0"/>
                  </a:lnTo>
                  <a:lnTo>
                    <a:pt x="5040" y="0"/>
                  </a:lnTo>
                  <a:lnTo>
                    <a:pt x="486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1680" y="2809800"/>
              <a:ext cx="1852200" cy="724680"/>
            </a:xfrm>
            <a:custGeom>
              <a:avLst/>
              <a:gdLst/>
              <a:ahLst/>
              <a:rect l="l" t="t" r="r" b="b"/>
              <a:pathLst>
                <a:path w="4140" h="1620">
                  <a:moveTo>
                    <a:pt x="0" y="1620"/>
                  </a:moveTo>
                  <a:lnTo>
                    <a:pt x="1260" y="0"/>
                  </a:lnTo>
                  <a:lnTo>
                    <a:pt x="4140" y="0"/>
                  </a:lnTo>
                  <a:lnTo>
                    <a:pt x="4140" y="1620"/>
                  </a:lnTo>
                  <a:lnTo>
                    <a:pt x="0" y="162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2809800"/>
              <a:ext cx="177120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00" y="3051360"/>
              <a:ext cx="482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2320" y="3051360"/>
              <a:ext cx="24192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000" y="2218320"/>
              <a:ext cx="4025880" cy="392400"/>
            </a:xfrm>
            <a:custGeom>
              <a:avLst/>
              <a:gdLst/>
              <a:ahLst/>
              <a:rect l="l" t="t" r="r" b="b"/>
              <a:pathLst>
                <a:path w="9000" h="540">
                  <a:moveTo>
                    <a:pt x="0" y="540"/>
                  </a:moveTo>
                  <a:lnTo>
                    <a:pt x="9000" y="54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5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1000" y="2148480"/>
              <a:ext cx="163800" cy="473760"/>
            </a:xfrm>
            <a:custGeom>
              <a:avLst/>
              <a:gdLst/>
              <a:ahLst/>
              <a:rect l="l" t="t" r="r" b="b"/>
              <a:pathLst>
                <a:path w="282" h="815">
                  <a:moveTo>
                    <a:pt x="0" y="120"/>
                  </a:moveTo>
                  <a:lnTo>
                    <a:pt x="270" y="0"/>
                  </a:lnTo>
                  <a:lnTo>
                    <a:pt x="282" y="676"/>
                  </a:lnTo>
                  <a:lnTo>
                    <a:pt x="5" y="815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9200" y="2723760"/>
              <a:ext cx="160920" cy="644400"/>
            </a:xfrm>
            <a:custGeom>
              <a:avLst/>
              <a:gdLst/>
              <a:ahLst/>
              <a:rect l="l" t="t" r="r" b="b"/>
              <a:pathLst>
                <a:path w="360" h="1440">
                  <a:moveTo>
                    <a:pt x="0" y="180"/>
                  </a:moveTo>
                  <a:lnTo>
                    <a:pt x="360" y="0"/>
                  </a:lnTo>
                  <a:lnTo>
                    <a:pt x="360" y="1260"/>
                  </a:lnTo>
                  <a:lnTo>
                    <a:pt x="0" y="144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000" y="2723760"/>
              <a:ext cx="1932120" cy="80280"/>
            </a:xfrm>
            <a:custGeom>
              <a:avLst/>
              <a:gdLst/>
              <a:ahLst/>
              <a:rect l="l" t="t" r="r" b="b"/>
              <a:pathLst>
                <a:path w="4680" h="192">
                  <a:moveTo>
                    <a:pt x="4320" y="192"/>
                  </a:moveTo>
                  <a:lnTo>
                    <a:pt x="4680" y="12"/>
                  </a:lnTo>
                  <a:lnTo>
                    <a:pt x="295" y="0"/>
                  </a:lnTo>
                  <a:lnTo>
                    <a:pt x="0" y="192"/>
                  </a:lnTo>
                  <a:lnTo>
                    <a:pt x="4320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000" y="2139840"/>
              <a:ext cx="4187160" cy="85680"/>
            </a:xfrm>
            <a:custGeom>
              <a:avLst/>
              <a:gdLst/>
              <a:ahLst/>
              <a:rect l="l" t="t" r="r" b="b"/>
              <a:pathLst>
                <a:path w="9360" h="192">
                  <a:moveTo>
                    <a:pt x="9360" y="12"/>
                  </a:moveTo>
                  <a:lnTo>
                    <a:pt x="310" y="0"/>
                  </a:lnTo>
                  <a:lnTo>
                    <a:pt x="0" y="192"/>
                  </a:lnTo>
                  <a:lnTo>
                    <a:pt x="9000" y="192"/>
                  </a:lnTo>
                  <a:lnTo>
                    <a:pt x="9360" y="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5800" y="2728800"/>
              <a:ext cx="1449000" cy="80640"/>
            </a:xfrm>
            <a:custGeom>
              <a:avLst/>
              <a:gdLst/>
              <a:ahLst/>
              <a:rect l="l" t="t" r="r" b="b"/>
              <a:pathLst>
                <a:path w="3240" h="180">
                  <a:moveTo>
                    <a:pt x="0" y="180"/>
                  </a:moveTo>
                  <a:lnTo>
                    <a:pt x="360" y="0"/>
                  </a:lnTo>
                  <a:lnTo>
                    <a:pt x="3240" y="0"/>
                  </a:lnTo>
                  <a:lnTo>
                    <a:pt x="288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33880" y="2728800"/>
              <a:ext cx="160920" cy="805320"/>
            </a:xfrm>
            <a:custGeom>
              <a:avLst/>
              <a:gdLst/>
              <a:ahLst/>
              <a:rect l="l" t="t" r="r" b="b"/>
              <a:pathLst>
                <a:path w="360" h="1800">
                  <a:moveTo>
                    <a:pt x="0" y="180"/>
                  </a:moveTo>
                  <a:lnTo>
                    <a:pt x="360" y="0"/>
                  </a:lnTo>
                  <a:lnTo>
                    <a:pt x="360" y="1620"/>
                  </a:lnTo>
                  <a:lnTo>
                    <a:pt x="0" y="180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40400" y="3172680"/>
              <a:ext cx="598680" cy="356400"/>
            </a:xfrm>
            <a:custGeom>
              <a:avLst/>
              <a:gdLst/>
              <a:ahLst/>
              <a:rect l="l" t="t" r="r" b="b"/>
              <a:pathLst>
                <a:path w="1339" h="797">
                  <a:moveTo>
                    <a:pt x="44" y="797"/>
                  </a:moveTo>
                  <a:cubicBezTo>
                    <a:pt x="31" y="766"/>
                    <a:pt x="9" y="738"/>
                    <a:pt x="4" y="705"/>
                  </a:cubicBezTo>
                  <a:cubicBezTo>
                    <a:pt x="0" y="680"/>
                    <a:pt x="8" y="653"/>
                    <a:pt x="19" y="630"/>
                  </a:cubicBezTo>
                  <a:cubicBezTo>
                    <a:pt x="59" y="541"/>
                    <a:pt x="96" y="517"/>
                    <a:pt x="184" y="495"/>
                  </a:cubicBezTo>
                  <a:cubicBezTo>
                    <a:pt x="229" y="428"/>
                    <a:pt x="254" y="421"/>
                    <a:pt x="334" y="405"/>
                  </a:cubicBezTo>
                  <a:cubicBezTo>
                    <a:pt x="365" y="280"/>
                    <a:pt x="327" y="404"/>
                    <a:pt x="379" y="300"/>
                  </a:cubicBezTo>
                  <a:cubicBezTo>
                    <a:pt x="386" y="286"/>
                    <a:pt x="380" y="262"/>
                    <a:pt x="394" y="255"/>
                  </a:cubicBezTo>
                  <a:cubicBezTo>
                    <a:pt x="426" y="239"/>
                    <a:pt x="464" y="245"/>
                    <a:pt x="499" y="240"/>
                  </a:cubicBezTo>
                  <a:cubicBezTo>
                    <a:pt x="658" y="134"/>
                    <a:pt x="359" y="324"/>
                    <a:pt x="649" y="195"/>
                  </a:cubicBezTo>
                  <a:cubicBezTo>
                    <a:pt x="665" y="188"/>
                    <a:pt x="665" y="161"/>
                    <a:pt x="679" y="150"/>
                  </a:cubicBezTo>
                  <a:cubicBezTo>
                    <a:pt x="742" y="100"/>
                    <a:pt x="839" y="126"/>
                    <a:pt x="919" y="120"/>
                  </a:cubicBezTo>
                  <a:cubicBezTo>
                    <a:pt x="956" y="8"/>
                    <a:pt x="902" y="126"/>
                    <a:pt x="1099" y="60"/>
                  </a:cubicBezTo>
                  <a:cubicBezTo>
                    <a:pt x="1114" y="55"/>
                    <a:pt x="1103" y="26"/>
                    <a:pt x="1114" y="15"/>
                  </a:cubicBezTo>
                  <a:cubicBezTo>
                    <a:pt x="1125" y="4"/>
                    <a:pt x="1144" y="5"/>
                    <a:pt x="1159" y="0"/>
                  </a:cubicBezTo>
                  <a:cubicBezTo>
                    <a:pt x="1211" y="7"/>
                    <a:pt x="1296" y="2"/>
                    <a:pt x="1339" y="45"/>
                  </a:cubicBezTo>
                  <a:lnTo>
                    <a:pt x="764" y="797"/>
                  </a:lnTo>
                  <a:lnTo>
                    <a:pt x="44" y="797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1120" y="2804040"/>
              <a:ext cx="61056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asted 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81320" y="2964960"/>
              <a:ext cx="160920" cy="241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17920" y="2502000"/>
              <a:ext cx="563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rea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92080" y="2663280"/>
              <a:ext cx="32184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1040" y="3319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6520" y="335196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060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5012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684800">
              <a:off x="1182240" y="3371760"/>
              <a:ext cx="155880" cy="133920"/>
            </a:xfrm>
            <a:custGeom>
              <a:avLst/>
              <a:gdLst/>
              <a:ahLst/>
              <a:rect l="l" t="t" r="r" b="b"/>
              <a:pathLst>
                <a:path w="1620" h="720">
                  <a:moveTo>
                    <a:pt x="0" y="0"/>
                  </a:moveTo>
                  <a:lnTo>
                    <a:pt x="0" y="360"/>
                  </a:lnTo>
                  <a:lnTo>
                    <a:pt x="180" y="540"/>
                  </a:lnTo>
                  <a:lnTo>
                    <a:pt x="540" y="720"/>
                  </a:lnTo>
                  <a:lnTo>
                    <a:pt x="1260" y="720"/>
                  </a:lnTo>
                  <a:lnTo>
                    <a:pt x="1440" y="540"/>
                  </a:lnTo>
                  <a:lnTo>
                    <a:pt x="162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8560" y="3346200"/>
              <a:ext cx="183600" cy="170640"/>
            </a:xfrm>
            <a:custGeom>
              <a:avLst/>
              <a:gdLst/>
              <a:ahLst/>
              <a:rect l="l" t="t" r="r" b="b"/>
              <a:pathLst>
                <a:path w="316" h="294">
                  <a:moveTo>
                    <a:pt x="31" y="87"/>
                  </a:moveTo>
                  <a:cubicBezTo>
                    <a:pt x="33" y="132"/>
                    <a:pt x="29" y="178"/>
                    <a:pt x="37" y="223"/>
                  </a:cubicBezTo>
                  <a:cubicBezTo>
                    <a:pt x="38" y="230"/>
                    <a:pt x="53" y="225"/>
                    <a:pt x="58" y="230"/>
                  </a:cubicBezTo>
                  <a:cubicBezTo>
                    <a:pt x="122" y="294"/>
                    <a:pt x="0" y="209"/>
                    <a:pt x="85" y="264"/>
                  </a:cubicBezTo>
                  <a:cubicBezTo>
                    <a:pt x="146" y="259"/>
                    <a:pt x="171" y="257"/>
                    <a:pt x="222" y="244"/>
                  </a:cubicBezTo>
                  <a:cubicBezTo>
                    <a:pt x="243" y="229"/>
                    <a:pt x="255" y="211"/>
                    <a:pt x="276" y="196"/>
                  </a:cubicBezTo>
                  <a:cubicBezTo>
                    <a:pt x="287" y="165"/>
                    <a:pt x="293" y="141"/>
                    <a:pt x="310" y="114"/>
                  </a:cubicBezTo>
                  <a:cubicBezTo>
                    <a:pt x="297" y="71"/>
                    <a:pt x="316" y="113"/>
                    <a:pt x="283" y="87"/>
                  </a:cubicBezTo>
                  <a:cubicBezTo>
                    <a:pt x="276" y="82"/>
                    <a:pt x="276" y="71"/>
                    <a:pt x="269" y="66"/>
                  </a:cubicBezTo>
                  <a:cubicBezTo>
                    <a:pt x="242" y="45"/>
                    <a:pt x="201" y="56"/>
                    <a:pt x="167" y="53"/>
                  </a:cubicBezTo>
                  <a:cubicBezTo>
                    <a:pt x="131" y="0"/>
                    <a:pt x="103" y="22"/>
                    <a:pt x="51" y="39"/>
                  </a:cubicBezTo>
                  <a:cubicBezTo>
                    <a:pt x="30" y="54"/>
                    <a:pt x="18" y="62"/>
                    <a:pt x="31" y="87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000" y="3404880"/>
              <a:ext cx="165960" cy="99360"/>
            </a:xfrm>
            <a:custGeom>
              <a:avLst/>
              <a:gdLst/>
              <a:ahLst/>
              <a:rect l="l" t="t" r="r" b="b"/>
              <a:pathLst>
                <a:path w="286" h="171">
                  <a:moveTo>
                    <a:pt x="8" y="0"/>
                  </a:moveTo>
                  <a:cubicBezTo>
                    <a:pt x="10" y="50"/>
                    <a:pt x="0" y="102"/>
                    <a:pt x="15" y="150"/>
                  </a:cubicBezTo>
                  <a:cubicBezTo>
                    <a:pt x="19" y="164"/>
                    <a:pt x="44" y="159"/>
                    <a:pt x="58" y="164"/>
                  </a:cubicBezTo>
                  <a:cubicBezTo>
                    <a:pt x="76" y="170"/>
                    <a:pt x="96" y="169"/>
                    <a:pt x="115" y="171"/>
                  </a:cubicBezTo>
                  <a:cubicBezTo>
                    <a:pt x="146" y="166"/>
                    <a:pt x="178" y="167"/>
                    <a:pt x="207" y="157"/>
                  </a:cubicBezTo>
                  <a:cubicBezTo>
                    <a:pt x="224" y="151"/>
                    <a:pt x="238" y="120"/>
                    <a:pt x="250" y="107"/>
                  </a:cubicBezTo>
                  <a:cubicBezTo>
                    <a:pt x="258" y="83"/>
                    <a:pt x="246" y="33"/>
                    <a:pt x="286" y="57"/>
                  </a:cubicBezTo>
                  <a:cubicBezTo>
                    <a:pt x="234" y="5"/>
                    <a:pt x="183" y="26"/>
                    <a:pt x="100" y="22"/>
                  </a:cubicBezTo>
                  <a:cubicBezTo>
                    <a:pt x="68" y="11"/>
                    <a:pt x="42" y="0"/>
                    <a:pt x="8" y="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720" y="3366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5800" y="3343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5840" y="3377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720" y="2581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5600" y="261360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3932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4884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628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4880" y="2605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4920" y="2639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8760" y="2577240"/>
              <a:ext cx="65304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86000" y="2647440"/>
              <a:ext cx="384840" cy="126000"/>
            </a:xfrm>
            <a:custGeom>
              <a:avLst/>
              <a:gdLst/>
              <a:ahLst/>
              <a:rect l="l" t="t" r="r" b="b"/>
              <a:pathLst>
                <a:path w="720" h="236">
                  <a:moveTo>
                    <a:pt x="120" y="236"/>
                  </a:moveTo>
                  <a:lnTo>
                    <a:pt x="0" y="236"/>
                  </a:lnTo>
                  <a:lnTo>
                    <a:pt x="0" y="157"/>
                  </a:lnTo>
                  <a:lnTo>
                    <a:pt x="240" y="79"/>
                  </a:lnTo>
                  <a:lnTo>
                    <a:pt x="480" y="79"/>
                  </a:lnTo>
                  <a:lnTo>
                    <a:pt x="480" y="0"/>
                  </a:lnTo>
                  <a:lnTo>
                    <a:pt x="600" y="0"/>
                  </a:lnTo>
                  <a:lnTo>
                    <a:pt x="480" y="0"/>
                  </a:lnTo>
                  <a:lnTo>
                    <a:pt x="480" y="79"/>
                  </a:lnTo>
                  <a:lnTo>
                    <a:pt x="720" y="39"/>
                  </a:lnTo>
                  <a:lnTo>
                    <a:pt x="720" y="157"/>
                  </a:lnTo>
                  <a:lnTo>
                    <a:pt x="720" y="236"/>
                  </a:lnTo>
                  <a:lnTo>
                    <a:pt x="120" y="23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9920" y="265212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5200" y="2629440"/>
              <a:ext cx="125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15040" y="266328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03640" y="2520000"/>
              <a:ext cx="83520" cy="25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540"/>
                  </a:moveTo>
                  <a:lnTo>
                    <a:pt x="0" y="0"/>
                  </a:lnTo>
                  <a:lnTo>
                    <a:pt x="180" y="0"/>
                  </a:lnTo>
                  <a:lnTo>
                    <a:pt x="180" y="540"/>
                  </a:lnTo>
                  <a:lnTo>
                    <a:pt x="0" y="5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358280" y="2630160"/>
              <a:ext cx="75240" cy="75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08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3160" y="2715480"/>
              <a:ext cx="36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812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76624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7920" y="276624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1484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0600" y="275508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5560" y="277056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1680" y="277056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6920" y="277488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3268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3160" y="27702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93600">
              <a:off x="3094200" y="2575440"/>
              <a:ext cx="376560" cy="155160"/>
            </a:xfrm>
            <a:custGeom>
              <a:avLst/>
              <a:gdLst/>
              <a:ahLst/>
              <a:rect l="l" t="t" r="r" b="b"/>
              <a:pathLst>
                <a:path w="900" h="360">
                  <a:moveTo>
                    <a:pt x="540" y="360"/>
                  </a:moveTo>
                  <a:lnTo>
                    <a:pt x="180" y="360"/>
                  </a:lnTo>
                  <a:lnTo>
                    <a:pt x="0" y="180"/>
                  </a:lnTo>
                  <a:lnTo>
                    <a:pt x="900" y="0"/>
                  </a:lnTo>
                  <a:lnTo>
                    <a:pt x="900" y="180"/>
                  </a:lnTo>
                  <a:lnTo>
                    <a:pt x="540" y="36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8280" y="2685960"/>
              <a:ext cx="1173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7480" y="2687040"/>
              <a:ext cx="1173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1560" y="2532240"/>
              <a:ext cx="335880" cy="84240"/>
            </a:xfrm>
            <a:custGeom>
              <a:avLst/>
              <a:gdLst/>
              <a:ahLst/>
              <a:rect l="l" t="t" r="r" b="b"/>
              <a:pathLst>
                <a:path w="578" h="145">
                  <a:moveTo>
                    <a:pt x="38" y="145"/>
                  </a:moveTo>
                  <a:lnTo>
                    <a:pt x="578" y="145"/>
                  </a:lnTo>
                  <a:cubicBezTo>
                    <a:pt x="556" y="126"/>
                    <a:pt x="537" y="103"/>
                    <a:pt x="513" y="87"/>
                  </a:cubicBezTo>
                  <a:cubicBezTo>
                    <a:pt x="498" y="78"/>
                    <a:pt x="478" y="80"/>
                    <a:pt x="463" y="71"/>
                  </a:cubicBezTo>
                  <a:cubicBezTo>
                    <a:pt x="449" y="63"/>
                    <a:pt x="443" y="44"/>
                    <a:pt x="429" y="37"/>
                  </a:cubicBezTo>
                  <a:cubicBezTo>
                    <a:pt x="398" y="21"/>
                    <a:pt x="329" y="4"/>
                    <a:pt x="329" y="4"/>
                  </a:cubicBezTo>
                  <a:cubicBezTo>
                    <a:pt x="256" y="9"/>
                    <a:pt x="181" y="0"/>
                    <a:pt x="111" y="20"/>
                  </a:cubicBezTo>
                  <a:cubicBezTo>
                    <a:pt x="81" y="29"/>
                    <a:pt x="66" y="65"/>
                    <a:pt x="44" y="87"/>
                  </a:cubicBezTo>
                  <a:cubicBezTo>
                    <a:pt x="2" y="129"/>
                    <a:pt x="0" y="111"/>
                    <a:pt x="38" y="145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080" y="214668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illing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9400" y="2326320"/>
              <a:ext cx="44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4840" y="2192040"/>
              <a:ext cx="136044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uck backfills after most ore is muc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880" y="358272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HD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1360" y="3831120"/>
              <a:ext cx="3419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or can be of any type: Ore, backfill or sill (mat) pil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Bench and Fill Stoping – Cut and 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4545000" y="1484280"/>
            <a:ext cx="4419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hiringkage Sto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5419800" cy="5543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696000" y="5025960"/>
            <a:ext cx="22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tas Ang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a 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5030640" cy="5503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51640" y="4724280"/>
            <a:ext cx="3238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sor 30 a 6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lock - Pan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8720" y="1197000"/>
            <a:ext cx="5688000" cy="4608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5295960"/>
            <a:ext cx="3095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3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oración de A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362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24360" y="17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o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157720"/>
            <a:ext cx="741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ed – Boomer – Perfo – Panel ppal y de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rigeracion y Lubricación – Power pack -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5736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635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mbo Electro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6588000" y="62164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atlascopc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657360"/>
            <a:ext cx="85690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y Aceros de Perf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por Perc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p Hammer (perfo-barra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TH (barra-martillo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Hidrául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Perfo - Shank – Copla – Barra - B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20600" y="106200"/>
            <a:ext cx="6864480" cy="3827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2705040" cy="180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3640" y="4338720"/>
            <a:ext cx="2089080" cy="2062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724360" y="4076640"/>
            <a:ext cx="1849680" cy="2565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40720" y="5442120"/>
            <a:ext cx="1152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esféricos o balístic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03200"/>
            <a:ext cx="475272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369900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476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foración y Trona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734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uío y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404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n serie (integrales o 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80cm – 160cm – 240cm ….. 60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xtensibles (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5903640" cy="387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2000" y="2809800"/>
            <a:ext cx="2881080" cy="18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5997600"/>
            <a:ext cx="77770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38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ex  35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Barr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46200" y="304920"/>
            <a:ext cx="612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Métodos de Explotación Subterrán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  <a:endCxn id="53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4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5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1" idx="2"/>
            <a:endCxn id="59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2"/>
            <a:endCxn id="60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1" idx="2"/>
            <a:endCxn id="61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2" idx="2"/>
            <a:endCxn id="65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2" idx="2"/>
            <a:endCxn id="66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2" idx="2"/>
            <a:endCxn id="67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oom &amp;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271520"/>
            <a:ext cx="8064360" cy="537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13240" y="4859280"/>
            <a:ext cx="37958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Wagon - drill o Track – drill Top hammer o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51 a 1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5 a 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17600" y="228600"/>
            <a:ext cx="4262400" cy="6369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02400" y="59245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on 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St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497196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08720" y="4149720"/>
            <a:ext cx="3454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tas 3 a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Jumbo Radial Electro –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48 a 76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VCR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vertical crater ret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272" r="0" b="0"/>
          <a:stretch/>
        </p:blipFill>
        <p:spPr>
          <a:xfrm>
            <a:off x="1908000" y="1268280"/>
            <a:ext cx="5351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LBH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long blast h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486108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8920" y="4653000"/>
            <a:ext cx="36370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Track drill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115 a 16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30 a 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0T05:48:55Z</dcterms:modified>
  <cp:revision>6</cp:revision>
  <dc:subject/>
  <dc:title>Slide 1</dc:title>
</cp:coreProperties>
</file>