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jpeg" ContentType="image/jpeg"/>
  <Override PartName="/ppt/media/image8.jpeg" ContentType="image/jpeg"/>
  <Override PartName="/ppt/media/image10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18.png" ContentType="image/png"/>
  <Override PartName="/ppt/media/image28.jpeg" ContentType="image/jpeg"/>
  <Override PartName="/ppt/media/image13.png" ContentType="image/pn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21.jpeg" ContentType="image/jpeg"/>
  <Override PartName="/ppt/media/image16.jpeg" ContentType="image/jpeg"/>
  <Override PartName="/ppt/media/image17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media/image25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3BF9B-2BB3-47DE-BFF9-F331FBD65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F2271-6928-4954-A180-B531FDE4B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F69BF-7303-4421-A2EC-4E1D142D8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58E30-0E35-4DA8-8556-3285256C2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BAC51-8A4B-40AF-855E-F2915F367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8C9E9-5D36-4ED5-A324-773F9DBC0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CEA84-A655-4A43-821E-2051AEF8E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B19D5-9632-4D79-9CE1-CE35718A1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15EFE-42D4-4AA7-BCEC-4711E51CA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2569B-217C-4101-B63E-396CF6566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B9386-42B0-455F-9DFF-E24E3E211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7B8E1-8C78-47DE-AA14-33B5CEDDF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7D21F-0C68-47D6-9B81-064FD42579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1.png"/><Relationship Id="rId9" Type="http://schemas.openxmlformats.org/officeDocument/2006/relationships/image" Target="../media/image14.jpeg"/><Relationship Id="rId1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hyperlink" Target="http://www.atlascopco.com/" TargetMode="External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 u="sng">
                <a:solidFill>
                  <a:srgbClr val="000000"/>
                </a:solidFill>
                <a:uFillTx/>
                <a:latin typeface="Arial"/>
              </a:rPr>
              <a:t>Auxiliar 1 MI47A Perforación y Tronadura</a:t>
            </a:r>
            <a:br>
              <a:rPr sz="2800"/>
            </a:br>
            <a:r>
              <a:rPr b="0" lang="es-CL" sz="2800" spc="-1" strike="noStrike" u="sng">
                <a:solidFill>
                  <a:srgbClr val="000000"/>
                </a:solidFill>
                <a:uFillTx/>
                <a:latin typeface="Arial"/>
              </a:rPr>
              <a:t>Javier Santibáñez Bor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33200" y="1526760"/>
            <a:ext cx="8686800" cy="16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rranque (perforación y tronadura) y manejo de miner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Mineral, roca, yacimiento, mina (instalacion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Rajo - Subterrán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39640" y="3413160"/>
            <a:ext cx="3600720" cy="33289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5075280" y="3575160"/>
            <a:ext cx="3457440" cy="316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108000" y="2139840"/>
            <a:ext cx="4187160" cy="1900440"/>
            <a:chOff x="108000" y="2139840"/>
            <a:chExt cx="4187160" cy="1900440"/>
          </a:xfrm>
        </p:grpSpPr>
        <p:sp>
          <p:nvSpPr>
            <p:cNvPr id="90" name=""/>
            <p:cNvSpPr/>
            <p:nvPr/>
          </p:nvSpPr>
          <p:spPr>
            <a:xfrm>
              <a:off x="108000" y="3454200"/>
              <a:ext cx="2254320" cy="79920"/>
            </a:xfrm>
            <a:custGeom>
              <a:avLst/>
              <a:gdLst/>
              <a:ahLst/>
              <a:rect l="l" t="t" r="r" b="b"/>
              <a:pathLst>
                <a:path w="5040" h="180">
                  <a:moveTo>
                    <a:pt x="0" y="180"/>
                  </a:moveTo>
                  <a:lnTo>
                    <a:pt x="360" y="0"/>
                  </a:lnTo>
                  <a:lnTo>
                    <a:pt x="5040" y="0"/>
                  </a:lnTo>
                  <a:lnTo>
                    <a:pt x="4860" y="180"/>
                  </a:lnTo>
                  <a:lnTo>
                    <a:pt x="0" y="180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281680" y="2809800"/>
              <a:ext cx="1852200" cy="724680"/>
            </a:xfrm>
            <a:custGeom>
              <a:avLst/>
              <a:gdLst/>
              <a:ahLst/>
              <a:rect l="l" t="t" r="r" b="b"/>
              <a:pathLst>
                <a:path w="4140" h="1620">
                  <a:moveTo>
                    <a:pt x="0" y="1620"/>
                  </a:moveTo>
                  <a:lnTo>
                    <a:pt x="1260" y="0"/>
                  </a:lnTo>
                  <a:lnTo>
                    <a:pt x="4140" y="0"/>
                  </a:lnTo>
                  <a:lnTo>
                    <a:pt x="4140" y="1620"/>
                  </a:lnTo>
                  <a:lnTo>
                    <a:pt x="0" y="1620"/>
                  </a:ln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08000" y="2809800"/>
              <a:ext cx="1771200" cy="563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68000" y="3051360"/>
              <a:ext cx="482400" cy="16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Backfil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32320" y="3051360"/>
              <a:ext cx="241920" cy="16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08000" y="2218320"/>
              <a:ext cx="4025880" cy="392400"/>
            </a:xfrm>
            <a:custGeom>
              <a:avLst/>
              <a:gdLst/>
              <a:ahLst/>
              <a:rect l="l" t="t" r="r" b="b"/>
              <a:pathLst>
                <a:path w="9000" h="540">
                  <a:moveTo>
                    <a:pt x="0" y="540"/>
                  </a:moveTo>
                  <a:lnTo>
                    <a:pt x="9000" y="540"/>
                  </a:lnTo>
                  <a:lnTo>
                    <a:pt x="9000" y="0"/>
                  </a:lnTo>
                  <a:lnTo>
                    <a:pt x="0" y="0"/>
                  </a:lnTo>
                  <a:lnTo>
                    <a:pt x="0" y="54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131000" y="2148480"/>
              <a:ext cx="163800" cy="473760"/>
            </a:xfrm>
            <a:custGeom>
              <a:avLst/>
              <a:gdLst/>
              <a:ahLst/>
              <a:rect l="l" t="t" r="r" b="b"/>
              <a:pathLst>
                <a:path w="282" h="815">
                  <a:moveTo>
                    <a:pt x="0" y="120"/>
                  </a:moveTo>
                  <a:lnTo>
                    <a:pt x="270" y="0"/>
                  </a:lnTo>
                  <a:lnTo>
                    <a:pt x="282" y="676"/>
                  </a:lnTo>
                  <a:lnTo>
                    <a:pt x="5" y="815"/>
                  </a:lnTo>
                  <a:lnTo>
                    <a:pt x="0" y="12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879200" y="2723760"/>
              <a:ext cx="160920" cy="644400"/>
            </a:xfrm>
            <a:custGeom>
              <a:avLst/>
              <a:gdLst/>
              <a:ahLst/>
              <a:rect l="l" t="t" r="r" b="b"/>
              <a:pathLst>
                <a:path w="360" h="1440">
                  <a:moveTo>
                    <a:pt x="0" y="180"/>
                  </a:moveTo>
                  <a:lnTo>
                    <a:pt x="360" y="0"/>
                  </a:lnTo>
                  <a:lnTo>
                    <a:pt x="360" y="1260"/>
                  </a:lnTo>
                  <a:lnTo>
                    <a:pt x="0" y="1440"/>
                  </a:lnTo>
                  <a:lnTo>
                    <a:pt x="0" y="18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08000" y="2723760"/>
              <a:ext cx="1932120" cy="80280"/>
            </a:xfrm>
            <a:custGeom>
              <a:avLst/>
              <a:gdLst/>
              <a:ahLst/>
              <a:rect l="l" t="t" r="r" b="b"/>
              <a:pathLst>
                <a:path w="4680" h="192">
                  <a:moveTo>
                    <a:pt x="4320" y="192"/>
                  </a:moveTo>
                  <a:lnTo>
                    <a:pt x="4680" y="12"/>
                  </a:lnTo>
                  <a:lnTo>
                    <a:pt x="295" y="0"/>
                  </a:lnTo>
                  <a:lnTo>
                    <a:pt x="0" y="192"/>
                  </a:lnTo>
                  <a:lnTo>
                    <a:pt x="4320" y="192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08000" y="2139840"/>
              <a:ext cx="4187160" cy="85680"/>
            </a:xfrm>
            <a:custGeom>
              <a:avLst/>
              <a:gdLst/>
              <a:ahLst/>
              <a:rect l="l" t="t" r="r" b="b"/>
              <a:pathLst>
                <a:path w="9360" h="192">
                  <a:moveTo>
                    <a:pt x="9360" y="12"/>
                  </a:moveTo>
                  <a:lnTo>
                    <a:pt x="310" y="0"/>
                  </a:lnTo>
                  <a:lnTo>
                    <a:pt x="0" y="192"/>
                  </a:lnTo>
                  <a:lnTo>
                    <a:pt x="9000" y="192"/>
                  </a:lnTo>
                  <a:lnTo>
                    <a:pt x="9360" y="12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845800" y="2728800"/>
              <a:ext cx="1449000" cy="80640"/>
            </a:xfrm>
            <a:custGeom>
              <a:avLst/>
              <a:gdLst/>
              <a:ahLst/>
              <a:rect l="l" t="t" r="r" b="b"/>
              <a:pathLst>
                <a:path w="3240" h="180">
                  <a:moveTo>
                    <a:pt x="0" y="180"/>
                  </a:moveTo>
                  <a:lnTo>
                    <a:pt x="360" y="0"/>
                  </a:lnTo>
                  <a:lnTo>
                    <a:pt x="3240" y="0"/>
                  </a:lnTo>
                  <a:lnTo>
                    <a:pt x="2880" y="180"/>
                  </a:lnTo>
                  <a:lnTo>
                    <a:pt x="0" y="180"/>
                  </a:lnTo>
                  <a:close/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133880" y="2728800"/>
              <a:ext cx="160920" cy="805320"/>
            </a:xfrm>
            <a:custGeom>
              <a:avLst/>
              <a:gdLst/>
              <a:ahLst/>
              <a:rect l="l" t="t" r="r" b="b"/>
              <a:pathLst>
                <a:path w="360" h="1800">
                  <a:moveTo>
                    <a:pt x="0" y="180"/>
                  </a:moveTo>
                  <a:lnTo>
                    <a:pt x="360" y="0"/>
                  </a:lnTo>
                  <a:lnTo>
                    <a:pt x="360" y="1620"/>
                  </a:lnTo>
                  <a:lnTo>
                    <a:pt x="0" y="1800"/>
                  </a:lnTo>
                  <a:lnTo>
                    <a:pt x="0" y="180"/>
                  </a:lnTo>
                  <a:close/>
                </a:path>
              </a:pathLst>
            </a:cu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940400" y="3172680"/>
              <a:ext cx="598680" cy="356400"/>
            </a:xfrm>
            <a:custGeom>
              <a:avLst/>
              <a:gdLst/>
              <a:ahLst/>
              <a:rect l="l" t="t" r="r" b="b"/>
              <a:pathLst>
                <a:path w="1339" h="797">
                  <a:moveTo>
                    <a:pt x="44" y="797"/>
                  </a:moveTo>
                  <a:cubicBezTo>
                    <a:pt x="31" y="766"/>
                    <a:pt x="9" y="738"/>
                    <a:pt x="4" y="705"/>
                  </a:cubicBezTo>
                  <a:cubicBezTo>
                    <a:pt x="0" y="680"/>
                    <a:pt x="8" y="653"/>
                    <a:pt x="19" y="630"/>
                  </a:cubicBezTo>
                  <a:cubicBezTo>
                    <a:pt x="59" y="541"/>
                    <a:pt x="96" y="517"/>
                    <a:pt x="184" y="495"/>
                  </a:cubicBezTo>
                  <a:cubicBezTo>
                    <a:pt x="229" y="428"/>
                    <a:pt x="254" y="421"/>
                    <a:pt x="334" y="405"/>
                  </a:cubicBezTo>
                  <a:cubicBezTo>
                    <a:pt x="365" y="280"/>
                    <a:pt x="327" y="404"/>
                    <a:pt x="379" y="300"/>
                  </a:cubicBezTo>
                  <a:cubicBezTo>
                    <a:pt x="386" y="286"/>
                    <a:pt x="380" y="262"/>
                    <a:pt x="394" y="255"/>
                  </a:cubicBezTo>
                  <a:cubicBezTo>
                    <a:pt x="426" y="239"/>
                    <a:pt x="464" y="245"/>
                    <a:pt x="499" y="240"/>
                  </a:cubicBezTo>
                  <a:cubicBezTo>
                    <a:pt x="658" y="134"/>
                    <a:pt x="359" y="324"/>
                    <a:pt x="649" y="195"/>
                  </a:cubicBezTo>
                  <a:cubicBezTo>
                    <a:pt x="665" y="188"/>
                    <a:pt x="665" y="161"/>
                    <a:pt x="679" y="150"/>
                  </a:cubicBezTo>
                  <a:cubicBezTo>
                    <a:pt x="742" y="100"/>
                    <a:pt x="839" y="126"/>
                    <a:pt x="919" y="120"/>
                  </a:cubicBezTo>
                  <a:cubicBezTo>
                    <a:pt x="956" y="8"/>
                    <a:pt x="902" y="126"/>
                    <a:pt x="1099" y="60"/>
                  </a:cubicBezTo>
                  <a:cubicBezTo>
                    <a:pt x="1114" y="55"/>
                    <a:pt x="1103" y="26"/>
                    <a:pt x="1114" y="15"/>
                  </a:cubicBezTo>
                  <a:cubicBezTo>
                    <a:pt x="1125" y="4"/>
                    <a:pt x="1144" y="5"/>
                    <a:pt x="1159" y="0"/>
                  </a:cubicBezTo>
                  <a:cubicBezTo>
                    <a:pt x="1211" y="7"/>
                    <a:pt x="1296" y="2"/>
                    <a:pt x="1339" y="45"/>
                  </a:cubicBezTo>
                  <a:lnTo>
                    <a:pt x="764" y="797"/>
                  </a:lnTo>
                  <a:lnTo>
                    <a:pt x="44" y="797"/>
                  </a:lnTo>
                  <a:close/>
                </a:path>
              </a:pathLst>
            </a:cu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121120" y="2804040"/>
              <a:ext cx="610560" cy="16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Blasted Or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flipH="1">
              <a:off x="2281320" y="2964960"/>
              <a:ext cx="160920" cy="24192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717920" y="2502000"/>
              <a:ext cx="563400" cy="16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Retreating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 flipH="1">
              <a:off x="1792080" y="2663280"/>
              <a:ext cx="321840" cy="36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41040" y="3319200"/>
              <a:ext cx="410400" cy="10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76520" y="3351960"/>
              <a:ext cx="418680" cy="137160"/>
            </a:xfrm>
            <a:custGeom>
              <a:avLst/>
              <a:gdLst/>
              <a:ahLst/>
              <a:rect l="l" t="t" r="r" b="b"/>
              <a:pathLst>
                <a:path w="1080" h="540">
                  <a:moveTo>
                    <a:pt x="180" y="540"/>
                  </a:moveTo>
                  <a:lnTo>
                    <a:pt x="0" y="540"/>
                  </a:lnTo>
                  <a:lnTo>
                    <a:pt x="0" y="360"/>
                  </a:lnTo>
                  <a:lnTo>
                    <a:pt x="360" y="180"/>
                  </a:lnTo>
                  <a:lnTo>
                    <a:pt x="720" y="180"/>
                  </a:lnTo>
                  <a:lnTo>
                    <a:pt x="720" y="0"/>
                  </a:lnTo>
                  <a:lnTo>
                    <a:pt x="900" y="0"/>
                  </a:lnTo>
                  <a:lnTo>
                    <a:pt x="720" y="0"/>
                  </a:lnTo>
                  <a:lnTo>
                    <a:pt x="720" y="180"/>
                  </a:lnTo>
                  <a:lnTo>
                    <a:pt x="900" y="180"/>
                  </a:lnTo>
                  <a:lnTo>
                    <a:pt x="1080" y="360"/>
                  </a:lnTo>
                  <a:lnTo>
                    <a:pt x="1080" y="540"/>
                  </a:lnTo>
                  <a:lnTo>
                    <a:pt x="180" y="540"/>
                  </a:lnTo>
                  <a:close/>
                </a:path>
              </a:pathLst>
            </a:custGeom>
            <a:solidFill>
              <a:srgbClr val="96969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0600" y="3425760"/>
              <a:ext cx="104400" cy="108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050120" y="3425760"/>
              <a:ext cx="104400" cy="108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 flipH="1" rot="1684800">
              <a:off x="1182240" y="3371760"/>
              <a:ext cx="155880" cy="133920"/>
            </a:xfrm>
            <a:custGeom>
              <a:avLst/>
              <a:gdLst/>
              <a:ahLst/>
              <a:rect l="l" t="t" r="r" b="b"/>
              <a:pathLst>
                <a:path w="1620" h="720">
                  <a:moveTo>
                    <a:pt x="0" y="0"/>
                  </a:moveTo>
                  <a:lnTo>
                    <a:pt x="0" y="360"/>
                  </a:lnTo>
                  <a:lnTo>
                    <a:pt x="180" y="540"/>
                  </a:lnTo>
                  <a:lnTo>
                    <a:pt x="540" y="720"/>
                  </a:lnTo>
                  <a:lnTo>
                    <a:pt x="1260" y="720"/>
                  </a:lnTo>
                  <a:lnTo>
                    <a:pt x="1440" y="540"/>
                  </a:lnTo>
                  <a:lnTo>
                    <a:pt x="1620" y="36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168560" y="3346200"/>
              <a:ext cx="183600" cy="170640"/>
            </a:xfrm>
            <a:custGeom>
              <a:avLst/>
              <a:gdLst/>
              <a:ahLst/>
              <a:rect l="l" t="t" r="r" b="b"/>
              <a:pathLst>
                <a:path w="316" h="294">
                  <a:moveTo>
                    <a:pt x="31" y="87"/>
                  </a:moveTo>
                  <a:cubicBezTo>
                    <a:pt x="33" y="132"/>
                    <a:pt x="29" y="178"/>
                    <a:pt x="37" y="223"/>
                  </a:cubicBezTo>
                  <a:cubicBezTo>
                    <a:pt x="38" y="230"/>
                    <a:pt x="53" y="225"/>
                    <a:pt x="58" y="230"/>
                  </a:cubicBezTo>
                  <a:cubicBezTo>
                    <a:pt x="122" y="294"/>
                    <a:pt x="0" y="209"/>
                    <a:pt x="85" y="264"/>
                  </a:cubicBezTo>
                  <a:cubicBezTo>
                    <a:pt x="146" y="259"/>
                    <a:pt x="171" y="257"/>
                    <a:pt x="222" y="244"/>
                  </a:cubicBezTo>
                  <a:cubicBezTo>
                    <a:pt x="243" y="229"/>
                    <a:pt x="255" y="211"/>
                    <a:pt x="276" y="196"/>
                  </a:cubicBezTo>
                  <a:cubicBezTo>
                    <a:pt x="287" y="165"/>
                    <a:pt x="293" y="141"/>
                    <a:pt x="310" y="114"/>
                  </a:cubicBezTo>
                  <a:cubicBezTo>
                    <a:pt x="297" y="71"/>
                    <a:pt x="316" y="113"/>
                    <a:pt x="283" y="87"/>
                  </a:cubicBezTo>
                  <a:cubicBezTo>
                    <a:pt x="276" y="82"/>
                    <a:pt x="276" y="71"/>
                    <a:pt x="269" y="66"/>
                  </a:cubicBezTo>
                  <a:cubicBezTo>
                    <a:pt x="242" y="45"/>
                    <a:pt x="201" y="56"/>
                    <a:pt x="167" y="53"/>
                  </a:cubicBezTo>
                  <a:cubicBezTo>
                    <a:pt x="131" y="0"/>
                    <a:pt x="103" y="22"/>
                    <a:pt x="51" y="39"/>
                  </a:cubicBezTo>
                  <a:cubicBezTo>
                    <a:pt x="30" y="54"/>
                    <a:pt x="18" y="62"/>
                    <a:pt x="31" y="87"/>
                  </a:cubicBezTo>
                  <a:close/>
                </a:path>
              </a:pathLst>
            </a:cu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79000" y="3404880"/>
              <a:ext cx="165960" cy="99360"/>
            </a:xfrm>
            <a:custGeom>
              <a:avLst/>
              <a:gdLst/>
              <a:ahLst/>
              <a:rect l="l" t="t" r="r" b="b"/>
              <a:pathLst>
                <a:path w="286" h="171">
                  <a:moveTo>
                    <a:pt x="8" y="0"/>
                  </a:moveTo>
                  <a:cubicBezTo>
                    <a:pt x="10" y="50"/>
                    <a:pt x="0" y="102"/>
                    <a:pt x="15" y="150"/>
                  </a:cubicBezTo>
                  <a:cubicBezTo>
                    <a:pt x="19" y="164"/>
                    <a:pt x="44" y="159"/>
                    <a:pt x="58" y="164"/>
                  </a:cubicBezTo>
                  <a:cubicBezTo>
                    <a:pt x="76" y="170"/>
                    <a:pt x="96" y="169"/>
                    <a:pt x="115" y="171"/>
                  </a:cubicBezTo>
                  <a:cubicBezTo>
                    <a:pt x="146" y="166"/>
                    <a:pt x="178" y="167"/>
                    <a:pt x="207" y="157"/>
                  </a:cubicBezTo>
                  <a:cubicBezTo>
                    <a:pt x="224" y="151"/>
                    <a:pt x="238" y="120"/>
                    <a:pt x="250" y="107"/>
                  </a:cubicBezTo>
                  <a:cubicBezTo>
                    <a:pt x="258" y="83"/>
                    <a:pt x="246" y="33"/>
                    <a:pt x="286" y="57"/>
                  </a:cubicBezTo>
                  <a:cubicBezTo>
                    <a:pt x="234" y="5"/>
                    <a:pt x="183" y="26"/>
                    <a:pt x="100" y="22"/>
                  </a:cubicBezTo>
                  <a:cubicBezTo>
                    <a:pt x="68" y="11"/>
                    <a:pt x="42" y="0"/>
                    <a:pt x="8" y="0"/>
                  </a:cubicBezTo>
                  <a:close/>
                </a:path>
              </a:pathLst>
            </a:custGeom>
            <a:solidFill>
              <a:srgbClr val="33333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080720" y="3366360"/>
              <a:ext cx="24840" cy="24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045800" y="3343680"/>
              <a:ext cx="10440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095840" y="3377520"/>
              <a:ext cx="2484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080720" y="2581200"/>
              <a:ext cx="410400" cy="10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75600" y="2613600"/>
              <a:ext cx="418680" cy="137160"/>
            </a:xfrm>
            <a:custGeom>
              <a:avLst/>
              <a:gdLst/>
              <a:ahLst/>
              <a:rect l="l" t="t" r="r" b="b"/>
              <a:pathLst>
                <a:path w="1080" h="540">
                  <a:moveTo>
                    <a:pt x="180" y="540"/>
                  </a:moveTo>
                  <a:lnTo>
                    <a:pt x="0" y="540"/>
                  </a:lnTo>
                  <a:lnTo>
                    <a:pt x="0" y="360"/>
                  </a:lnTo>
                  <a:lnTo>
                    <a:pt x="360" y="180"/>
                  </a:lnTo>
                  <a:lnTo>
                    <a:pt x="720" y="180"/>
                  </a:lnTo>
                  <a:lnTo>
                    <a:pt x="720" y="0"/>
                  </a:lnTo>
                  <a:lnTo>
                    <a:pt x="900" y="0"/>
                  </a:lnTo>
                  <a:lnTo>
                    <a:pt x="720" y="0"/>
                  </a:lnTo>
                  <a:lnTo>
                    <a:pt x="720" y="180"/>
                  </a:lnTo>
                  <a:lnTo>
                    <a:pt x="900" y="180"/>
                  </a:lnTo>
                  <a:lnTo>
                    <a:pt x="1080" y="360"/>
                  </a:lnTo>
                  <a:lnTo>
                    <a:pt x="1080" y="540"/>
                  </a:lnTo>
                  <a:lnTo>
                    <a:pt x="180" y="540"/>
                  </a:lnTo>
                  <a:close/>
                </a:path>
              </a:pathLst>
            </a:custGeom>
            <a:solidFill>
              <a:srgbClr val="96969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039320" y="2687760"/>
              <a:ext cx="104400" cy="108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248840" y="2687760"/>
              <a:ext cx="104400" cy="108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279440" y="2628360"/>
              <a:ext cx="24840" cy="24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244880" y="2605680"/>
              <a:ext cx="10440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294920" y="2639520"/>
              <a:ext cx="2484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038760" y="2577240"/>
              <a:ext cx="653040" cy="132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186000" y="2647440"/>
              <a:ext cx="384840" cy="126000"/>
            </a:xfrm>
            <a:custGeom>
              <a:avLst/>
              <a:gdLst/>
              <a:ahLst/>
              <a:rect l="l" t="t" r="r" b="b"/>
              <a:pathLst>
                <a:path w="720" h="236">
                  <a:moveTo>
                    <a:pt x="120" y="236"/>
                  </a:moveTo>
                  <a:lnTo>
                    <a:pt x="0" y="236"/>
                  </a:lnTo>
                  <a:lnTo>
                    <a:pt x="0" y="157"/>
                  </a:lnTo>
                  <a:lnTo>
                    <a:pt x="240" y="79"/>
                  </a:lnTo>
                  <a:lnTo>
                    <a:pt x="480" y="79"/>
                  </a:lnTo>
                  <a:lnTo>
                    <a:pt x="480" y="0"/>
                  </a:lnTo>
                  <a:lnTo>
                    <a:pt x="600" y="0"/>
                  </a:lnTo>
                  <a:lnTo>
                    <a:pt x="480" y="0"/>
                  </a:lnTo>
                  <a:lnTo>
                    <a:pt x="480" y="79"/>
                  </a:lnTo>
                  <a:lnTo>
                    <a:pt x="720" y="39"/>
                  </a:lnTo>
                  <a:lnTo>
                    <a:pt x="720" y="157"/>
                  </a:lnTo>
                  <a:lnTo>
                    <a:pt x="720" y="236"/>
                  </a:lnTo>
                  <a:lnTo>
                    <a:pt x="120" y="236"/>
                  </a:lnTo>
                  <a:close/>
                </a:path>
              </a:pathLst>
            </a:custGeom>
            <a:solidFill>
              <a:srgbClr val="96969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499920" y="2652120"/>
              <a:ext cx="24840" cy="24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445200" y="2629440"/>
              <a:ext cx="12564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515040" y="2663280"/>
              <a:ext cx="2484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 flipH="1">
              <a:off x="1403640" y="2520000"/>
              <a:ext cx="83520" cy="251280"/>
            </a:xfrm>
            <a:custGeom>
              <a:avLst/>
              <a:gdLst/>
              <a:ahLst/>
              <a:rect l="l" t="t" r="r" b="b"/>
              <a:pathLst>
                <a:path w="180" h="540">
                  <a:moveTo>
                    <a:pt x="0" y="540"/>
                  </a:moveTo>
                  <a:lnTo>
                    <a:pt x="0" y="0"/>
                  </a:lnTo>
                  <a:lnTo>
                    <a:pt x="180" y="0"/>
                  </a:lnTo>
                  <a:lnTo>
                    <a:pt x="180" y="540"/>
                  </a:lnTo>
                  <a:lnTo>
                    <a:pt x="0" y="540"/>
                  </a:lnTo>
                  <a:close/>
                </a:path>
              </a:pathLst>
            </a:cu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flipV="1">
              <a:off x="1358280" y="2630160"/>
              <a:ext cx="75240" cy="7524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522080" y="2764800"/>
              <a:ext cx="360" cy="5886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433160" y="2715480"/>
              <a:ext cx="360" cy="41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518120" y="2764800"/>
              <a:ext cx="360" cy="49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622160" y="2766240"/>
              <a:ext cx="360" cy="5886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627920" y="2766240"/>
              <a:ext cx="360" cy="49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914840" y="2764800"/>
              <a:ext cx="360" cy="5886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920600" y="2755080"/>
              <a:ext cx="360" cy="50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825560" y="2770560"/>
              <a:ext cx="360" cy="5886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831680" y="2770560"/>
              <a:ext cx="360" cy="50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726920" y="2774880"/>
              <a:ext cx="360" cy="5886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732680" y="2764800"/>
              <a:ext cx="360" cy="49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433160" y="2770200"/>
              <a:ext cx="360" cy="49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rot="693600">
              <a:off x="3094200" y="2575440"/>
              <a:ext cx="376560" cy="155160"/>
            </a:xfrm>
            <a:custGeom>
              <a:avLst/>
              <a:gdLst/>
              <a:ahLst/>
              <a:rect l="l" t="t" r="r" b="b"/>
              <a:pathLst>
                <a:path w="900" h="360">
                  <a:moveTo>
                    <a:pt x="540" y="360"/>
                  </a:moveTo>
                  <a:lnTo>
                    <a:pt x="180" y="360"/>
                  </a:lnTo>
                  <a:lnTo>
                    <a:pt x="0" y="180"/>
                  </a:lnTo>
                  <a:lnTo>
                    <a:pt x="900" y="0"/>
                  </a:lnTo>
                  <a:lnTo>
                    <a:pt x="900" y="180"/>
                  </a:lnTo>
                  <a:lnTo>
                    <a:pt x="540" y="360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48280" y="2685960"/>
              <a:ext cx="117360" cy="122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417480" y="2687040"/>
              <a:ext cx="117360" cy="122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121560" y="2532240"/>
              <a:ext cx="335880" cy="84240"/>
            </a:xfrm>
            <a:custGeom>
              <a:avLst/>
              <a:gdLst/>
              <a:ahLst/>
              <a:rect l="l" t="t" r="r" b="b"/>
              <a:pathLst>
                <a:path w="578" h="145">
                  <a:moveTo>
                    <a:pt x="38" y="145"/>
                  </a:moveTo>
                  <a:lnTo>
                    <a:pt x="578" y="145"/>
                  </a:lnTo>
                  <a:cubicBezTo>
                    <a:pt x="556" y="126"/>
                    <a:pt x="537" y="103"/>
                    <a:pt x="513" y="87"/>
                  </a:cubicBezTo>
                  <a:cubicBezTo>
                    <a:pt x="498" y="78"/>
                    <a:pt x="478" y="80"/>
                    <a:pt x="463" y="71"/>
                  </a:cubicBezTo>
                  <a:cubicBezTo>
                    <a:pt x="449" y="63"/>
                    <a:pt x="443" y="44"/>
                    <a:pt x="429" y="37"/>
                  </a:cubicBezTo>
                  <a:cubicBezTo>
                    <a:pt x="398" y="21"/>
                    <a:pt x="329" y="4"/>
                    <a:pt x="329" y="4"/>
                  </a:cubicBezTo>
                  <a:cubicBezTo>
                    <a:pt x="256" y="9"/>
                    <a:pt x="181" y="0"/>
                    <a:pt x="111" y="20"/>
                  </a:cubicBezTo>
                  <a:cubicBezTo>
                    <a:pt x="81" y="29"/>
                    <a:pt x="66" y="65"/>
                    <a:pt x="44" y="87"/>
                  </a:cubicBezTo>
                  <a:cubicBezTo>
                    <a:pt x="2" y="129"/>
                    <a:pt x="0" y="111"/>
                    <a:pt x="38" y="145"/>
                  </a:cubicBezTo>
                  <a:close/>
                </a:path>
              </a:pathLst>
            </a:cu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31080" y="2146680"/>
              <a:ext cx="1151280" cy="209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rilling Equip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39400" y="2326320"/>
              <a:ext cx="44640" cy="31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724840" y="2192040"/>
              <a:ext cx="1360440" cy="313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ruck backfills after most ore is muck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06880" y="3582720"/>
              <a:ext cx="1151280" cy="209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HD Equip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11360" y="3831120"/>
              <a:ext cx="3419280" cy="209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loor can be of any type: Ore, backfill or sill (mat) pilla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Bench and Fill Stoping – Cut and Fi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9">
            <a:lum bright="-10000"/>
          </a:blip>
          <a:stretch/>
        </p:blipFill>
        <p:spPr>
          <a:xfrm>
            <a:off x="4545000" y="1484280"/>
            <a:ext cx="4419720" cy="42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Shiringkage Stop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1187280" y="1125360"/>
            <a:ext cx="5419800" cy="554364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6696000" y="5025960"/>
            <a:ext cx="22687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Vetas Angost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1 a 3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Sub Level Cav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611280" y="1052640"/>
            <a:ext cx="5030640" cy="55036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5651640" y="4724280"/>
            <a:ext cx="3238200" cy="18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spesor 30 a 60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quipo: Jumbo radial electro hidrául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iámetro: 48 a 76 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rgo tiros: hasta 40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Block - Panel Cav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828720" y="1197000"/>
            <a:ext cx="5688000" cy="460836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5796000" y="5295960"/>
            <a:ext cx="3095640" cy="14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quipo: Jumbo radial electro hidrául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iámetro: 48 a 76 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rgo tiros: hasta 30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Perforación de Av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900000" y="1125360"/>
            <a:ext cx="7488360" cy="36291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3924360" y="170028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erforado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804000" y="234936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Fe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708360" y="263052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Bo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826920" y="5157720"/>
            <a:ext cx="74170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Feed – Boomer – Perfo – Panel ppal y de contro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Refrigeracion y Lubricación – Power pack - Carri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84360" y="1557360"/>
            <a:ext cx="3166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8360" y="1663560"/>
            <a:ext cx="30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Jumbo Electro Hidrául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>
            <a:hlinkClick r:id="rId2"/>
          </p:cNvPr>
          <p:cNvSpPr/>
          <p:nvPr/>
        </p:nvSpPr>
        <p:spPr>
          <a:xfrm>
            <a:off x="6588000" y="621648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www.atlascopco.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324000" y="657360"/>
            <a:ext cx="8569080" cy="56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395280" y="692280"/>
            <a:ext cx="8353440" cy="52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611280" y="836640"/>
            <a:ext cx="784836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Elementos y Aceros de Perfor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Perforación por Percus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Top Hammer (perfo-barra-bi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DTH (barra-martillo-bi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Perforación Hidráulic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(Perfo - Shank – Copla – Barra - Bit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1020600" y="106200"/>
            <a:ext cx="6864480" cy="382752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324000" y="4437000"/>
            <a:ext cx="2705040" cy="180180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3"/>
          <a:stretch/>
        </p:blipFill>
        <p:spPr>
          <a:xfrm>
            <a:off x="3203640" y="4338720"/>
            <a:ext cx="2089080" cy="20620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4"/>
          <a:stretch/>
        </p:blipFill>
        <p:spPr>
          <a:xfrm>
            <a:off x="5724360" y="4076640"/>
            <a:ext cx="1849680" cy="256536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7740720" y="5442120"/>
            <a:ext cx="1152360" cy="11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Cro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Butt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(esféricos o balístico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50920" y="403200"/>
            <a:ext cx="4752720" cy="30970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4788000" y="3699000"/>
            <a:ext cx="3960720" cy="2970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64000" y="476280"/>
            <a:ext cx="266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erforación y Tronadu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71640" y="5734080"/>
            <a:ext cx="187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arguío y Transpor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468360" y="404640"/>
            <a:ext cx="822960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Barras en serie (integrales o bit recambiab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80cm – 160cm – 240cm ….. 600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Barras extensibles (bit recambiab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324000" y="1989000"/>
            <a:ext cx="5903640" cy="38703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6012000" y="2809800"/>
            <a:ext cx="2881080" cy="181620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755640" y="5997600"/>
            <a:ext cx="7777080" cy="67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R38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Hex  35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R3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Tipo Hilo 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diámetro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Tipo Barra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diámetro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Tipo hilo diámetro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38160"/>
            <a:ext cx="9144000" cy="685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546200" y="304920"/>
            <a:ext cx="61214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0000"/>
                </a:solidFill>
                <a:latin typeface="Arial"/>
              </a:rPr>
              <a:t>Métodos de Explotación Subterráne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33520" y="1371600"/>
            <a:ext cx="220968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Soport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Por Pila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352680" y="1371600"/>
            <a:ext cx="221004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Artificialmen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Soport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con Relle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00800" y="1371600"/>
            <a:ext cx="220968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Sin soporte 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Hundimi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52280" y="3276720"/>
            <a:ext cx="137160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Room and Pil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828800" y="3276720"/>
            <a:ext cx="137160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Sublevel an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Longho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stop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447920" y="4952880"/>
            <a:ext cx="13716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Bench and Fi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stop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0" idx="2"/>
            <a:endCxn id="53" idx="0"/>
          </p:cNvCxnSpPr>
          <p:nvPr/>
        </p:nvCxnSpPr>
        <p:spPr>
          <a:xfrm rot="5400000">
            <a:off x="856440" y="2495160"/>
            <a:ext cx="762840" cy="801000"/>
          </a:xfrm>
          <a:prstGeom prst="bentConnector3">
            <a:avLst>
              <a:gd name="adj1" fmla="val 50000"/>
            </a:avLst>
          </a:prstGeom>
          <a:ln w="5724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0" idx="2"/>
            <a:endCxn id="54" idx="0"/>
          </p:cNvCxnSpPr>
          <p:nvPr/>
        </p:nvCxnSpPr>
        <p:spPr>
          <a:xfrm flipH="1" rot="16200000">
            <a:off x="1695240" y="2457000"/>
            <a:ext cx="762840" cy="876960"/>
          </a:xfrm>
          <a:prstGeom prst="bentConnector3">
            <a:avLst>
              <a:gd name="adj1" fmla="val 50000"/>
            </a:avLst>
          </a:prstGeom>
          <a:ln w="5724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51" idx="2"/>
            <a:endCxn id="55" idx="0"/>
          </p:cNvCxnSpPr>
          <p:nvPr/>
        </p:nvCxnSpPr>
        <p:spPr>
          <a:xfrm rot="5400000">
            <a:off x="2076120" y="2571480"/>
            <a:ext cx="2439000" cy="2324880"/>
          </a:xfrm>
          <a:prstGeom prst="bentConnector3">
            <a:avLst>
              <a:gd name="adj1" fmla="val 80454"/>
            </a:avLst>
          </a:prstGeom>
          <a:ln w="57240">
            <a:solidFill>
              <a:srgbClr val="808080"/>
            </a:solidFill>
            <a:miter/>
            <a:tailEnd len="med" type="triangle" w="med"/>
          </a:ln>
        </p:spPr>
      </p:cxnSp>
      <p:sp>
        <p:nvSpPr>
          <p:cNvPr id="59" name=""/>
          <p:cNvSpPr/>
          <p:nvPr/>
        </p:nvSpPr>
        <p:spPr>
          <a:xfrm>
            <a:off x="3124080" y="4952880"/>
            <a:ext cx="13716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Cut and Fil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Stop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10160" y="4952880"/>
            <a:ext cx="13716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Shrin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Stop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172200" y="4952880"/>
            <a:ext cx="13716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VC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Stop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"/>
          <p:cNvCxnSpPr>
            <a:stCxn id="51" idx="2"/>
            <a:endCxn id="59" idx="0"/>
          </p:cNvCxnSpPr>
          <p:nvPr/>
        </p:nvCxnSpPr>
        <p:spPr>
          <a:xfrm rot="5400000">
            <a:off x="2914560" y="3409560"/>
            <a:ext cx="2439000" cy="648360"/>
          </a:xfrm>
          <a:prstGeom prst="bentConnector3">
            <a:avLst>
              <a:gd name="adj1" fmla="val 79672"/>
            </a:avLst>
          </a:prstGeom>
          <a:ln w="5724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51" idx="2"/>
            <a:endCxn id="60" idx="0"/>
          </p:cNvCxnSpPr>
          <p:nvPr/>
        </p:nvCxnSpPr>
        <p:spPr>
          <a:xfrm flipH="1" rot="16200000">
            <a:off x="3657600" y="3314160"/>
            <a:ext cx="2439000" cy="838800"/>
          </a:xfrm>
          <a:prstGeom prst="bentConnector3">
            <a:avLst>
              <a:gd name="adj1" fmla="val 80336"/>
            </a:avLst>
          </a:prstGeom>
          <a:ln w="5724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64" name=""/>
          <p:cNvCxnSpPr>
            <a:stCxn id="51" idx="2"/>
            <a:endCxn id="61" idx="0"/>
          </p:cNvCxnSpPr>
          <p:nvPr/>
        </p:nvCxnSpPr>
        <p:spPr>
          <a:xfrm flipH="1" rot="16200000">
            <a:off x="4437720" y="2533320"/>
            <a:ext cx="2439000" cy="2400840"/>
          </a:xfrm>
          <a:prstGeom prst="bentConnector3">
            <a:avLst>
              <a:gd name="adj1" fmla="val 79613"/>
            </a:avLst>
          </a:prstGeom>
          <a:ln w="57240">
            <a:solidFill>
              <a:srgbClr val="808080"/>
            </a:solidFill>
            <a:miter/>
            <a:tailEnd len="med" type="triangle" w="med"/>
          </a:ln>
        </p:spPr>
      </p:cxnSp>
      <p:sp>
        <p:nvSpPr>
          <p:cNvPr id="65" name=""/>
          <p:cNvSpPr/>
          <p:nvPr/>
        </p:nvSpPr>
        <p:spPr>
          <a:xfrm>
            <a:off x="4648320" y="3124080"/>
            <a:ext cx="13716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Lonw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Mi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210360" y="3124080"/>
            <a:ext cx="13716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Sub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Cav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734240" y="3124080"/>
            <a:ext cx="13716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Blo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Cav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"/>
          <p:cNvCxnSpPr>
            <a:stCxn id="52" idx="2"/>
            <a:endCxn id="65" idx="0"/>
          </p:cNvCxnSpPr>
          <p:nvPr/>
        </p:nvCxnSpPr>
        <p:spPr>
          <a:xfrm rot="5400000">
            <a:off x="6114960" y="1733400"/>
            <a:ext cx="610200" cy="2171880"/>
          </a:xfrm>
          <a:prstGeom prst="bentConnector3">
            <a:avLst>
              <a:gd name="adj1" fmla="val 50000"/>
            </a:avLst>
          </a:prstGeom>
          <a:ln w="5724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69" name=""/>
          <p:cNvCxnSpPr>
            <a:stCxn id="52" idx="2"/>
            <a:endCxn id="66" idx="0"/>
          </p:cNvCxnSpPr>
          <p:nvPr/>
        </p:nvCxnSpPr>
        <p:spPr>
          <a:xfrm rot="5400000">
            <a:off x="6895440" y="2514240"/>
            <a:ext cx="610200" cy="610200"/>
          </a:xfrm>
          <a:prstGeom prst="bentConnector3">
            <a:avLst>
              <a:gd name="adj1" fmla="val 50000"/>
            </a:avLst>
          </a:prstGeom>
          <a:ln w="5724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52" idx="2"/>
            <a:endCxn id="67" idx="0"/>
          </p:cNvCxnSpPr>
          <p:nvPr/>
        </p:nvCxnSpPr>
        <p:spPr>
          <a:xfrm flipH="1" rot="16200000">
            <a:off x="7657920" y="2361600"/>
            <a:ext cx="610200" cy="915120"/>
          </a:xfrm>
          <a:prstGeom prst="bentConnector3">
            <a:avLst>
              <a:gd name="adj1" fmla="val 50000"/>
            </a:avLst>
          </a:prstGeom>
          <a:ln w="57240">
            <a:solidFill>
              <a:srgbClr val="808080"/>
            </a:solidFill>
            <a:miter/>
            <a:tailEnd len="med" type="triangle" w="med"/>
          </a:ln>
        </p:spPr>
      </p:cxnSp>
      <p:sp>
        <p:nvSpPr>
          <p:cNvPr id="71" name=""/>
          <p:cNvSpPr/>
          <p:nvPr/>
        </p:nvSpPr>
        <p:spPr>
          <a:xfrm>
            <a:off x="457200" y="5791320"/>
            <a:ext cx="7924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971800" y="5562720"/>
            <a:ext cx="403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Desplazamiento de la roca de caj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609120" y="6248520"/>
            <a:ext cx="7620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409760" y="5981760"/>
            <a:ext cx="647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Energía de deformación almacenada en las proximidades de una excav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Room &amp; Pill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611280" y="1271520"/>
            <a:ext cx="8064360" cy="537696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5313240" y="4859280"/>
            <a:ext cx="3795840" cy="19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quipo: Wagon - drill o Track – drill Top hammer o D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iámetros: 51 a 115 m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rgo tiros: 5 a 15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317600" y="228600"/>
            <a:ext cx="4262400" cy="63691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5702400" y="5924520"/>
            <a:ext cx="18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Wagon - dr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Sub Level Stop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392040" y="1152360"/>
            <a:ext cx="4971960" cy="573264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5508720" y="4149720"/>
            <a:ext cx="3454200" cy="15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Vetas 3 a 20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quipo: Jumbo Radial Electro – Hidrául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iámetros: 48 a 76 m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rgo Tiros: hasta 40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507960"/>
            <a:ext cx="9144000" cy="60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Sub Level Stoping VCR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(vertical crater retrea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rcRect l="0" t="272" r="0" b="0"/>
          <a:stretch/>
        </p:blipFill>
        <p:spPr>
          <a:xfrm>
            <a:off x="1908000" y="1268280"/>
            <a:ext cx="5351760" cy="55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Sub Level Stoping LBH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(long blast ho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431640" y="1111320"/>
            <a:ext cx="4861080" cy="56610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5398920" y="4653000"/>
            <a:ext cx="3637080" cy="20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quipo: Track drill D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iámetros: 115 a 165 m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rgo tiros: 30 a 80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10T03:16:11Z</dcterms:created>
  <dc:creator>FSB</dc:creator>
  <dc:description/>
  <dc:language>en-US</dc:language>
  <cp:lastModifiedBy>FSB</cp:lastModifiedBy>
  <dcterms:modified xsi:type="dcterms:W3CDTF">2007-08-10T05:48:55Z</dcterms:modified>
  <cp:revision>6</cp:revision>
  <dc:subject/>
  <dc:title>Slide 1</dc:title>
</cp:coreProperties>
</file>