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29.wmf" ContentType="image/x-wmf"/>
  <Override PartName="/ppt/media/image1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23.wmf" ContentType="image/x-wmf"/>
  <Override PartName="/ppt/media/image26.png" ContentType="image/png"/>
  <Override PartName="/ppt/media/image32.jpeg" ContentType="image/jpeg"/>
  <Override PartName="/ppt/media/image11.wmf" ContentType="image/x-wmf"/>
  <Override PartName="/ppt/media/image5.jpeg" ContentType="image/jpeg"/>
  <Override PartName="/ppt/media/image12.jpeg" ContentType="image/jpeg"/>
  <Override PartName="/ppt/media/image34.wmf" ContentType="image/x-wmf"/>
  <Override PartName="/ppt/media/image35.wmf" ContentType="image/x-wmf"/>
  <Override PartName="/ppt/media/image24.jpeg" ContentType="image/jpeg"/>
  <Override PartName="/ppt/media/image36.wmf" ContentType="image/x-wmf"/>
  <Override PartName="/ppt/media/image7.jpeg" ContentType="image/jpeg"/>
  <Override PartName="/ppt/media/image6.jpeg" ContentType="image/jpeg"/>
  <Override PartName="/ppt/media/image30.png" ContentType="image/png"/>
  <Override PartName="/ppt/media/image3.jpeg" ContentType="image/jpeg"/>
  <Override PartName="/ppt/media/image28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7.wmf" ContentType="image/x-wm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35E2A0-6057-4902-AC79-864131B60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42E5-DFEB-4149-8CD2-D12DEA56C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F251-B803-445D-814A-80A2B3523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9BEE-B1CB-4027-98D3-D3153F270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8CCE-D1D4-4245-B4A1-8FCB9B1468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21DE-4615-4FF2-B63C-E47A65649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A7954-0707-4705-BC4C-A7441F33B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7DDC6-37AF-4781-B747-0C55FCC32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22FE-428A-492C-A65B-544569C87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1A99-D7EE-422F-A5D9-178E5278A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C783-0AFD-4961-87FC-05B9D6254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8375-C80C-4804-8AD2-619748DE7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17BC-8B40-4451-9F0F-B88F78E12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67A52985-55F3-44ED-8582-1A9DD7DBB71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840" y="208260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Miner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521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 Raúl Cast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6960" y="3625920"/>
            <a:ext cx="5021280" cy="2774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6640" y="1984320"/>
            <a:ext cx="1751040" cy="758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arga Vertical Sobre 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96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ga litoesta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ación del esfuerzo induc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19320" y="2209680"/>
                <a:ext cx="12952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909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P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63720" y="3765600"/>
          <a:ext cx="2101680" cy="10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3720" y="3765600"/>
                    <a:ext cx="210168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90720" y="4876920"/>
                <a:ext cx="48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37" name=""/>
          <p:cNvGraphicFramePr/>
          <p:nvPr/>
        </p:nvGraphicFramePr>
        <p:xfrm>
          <a:off x="947880" y="5410080"/>
          <a:ext cx="267480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47880" y="5410080"/>
                    <a:ext cx="26748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518840" y="50292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rga litoestatica (MP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6640" y="5638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cuperación Min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554D-095D-428E-BAB2-941D9EFE08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03200" y="2805120"/>
            <a:ext cx="2619360" cy="1457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Área Tributare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85800" y="289548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21B0-DE4E-4C18-B8D2-910FD28AC1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03360" y="2649600"/>
            <a:ext cx="960480" cy="11793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Concentración de Esfuerzos como Función de la Recuper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1626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828800" y="2743200"/>
                <a:ext cx="56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77FB-1D9C-4D7F-8517-DCBB4D86AA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rea Tributaria para Muros y Pilares Rectangu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952560" y="1397160"/>
            <a:ext cx="6202440" cy="51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A155-888E-4647-9FD4-A80A50AC15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4160" y="2773440"/>
            <a:ext cx="3206520" cy="3116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Tracción Sobre el Techo del Caser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z máxima para un estrato de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30760" y="1039680"/>
            <a:ext cx="5029200" cy="2354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H="1" flipV="1">
            <a:off x="4362480" y="1447560"/>
            <a:ext cx="350640" cy="82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91520" y="1418760"/>
            <a:ext cx="411120" cy="5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718160" y="1523880"/>
                <a:ext cx="4604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699080" y="2433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52960" y="2514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99040" y="1457280"/>
            <a:ext cx="97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173640" y="111276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384120" y="2874960"/>
          <a:ext cx="1382760" cy="94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874960"/>
                    <a:ext cx="1382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880" y="233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74680" y="3809880"/>
          <a:ext cx="1581120" cy="98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680" y="3809880"/>
                    <a:ext cx="15811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255560" y="556272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: Módulo de elasticidad del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880" y="4897440"/>
          <a:ext cx="1143000" cy="88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897440"/>
                    <a:ext cx="11430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343400" y="5867280"/>
                <a:ext cx="2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4640400" y="5867280"/>
            <a:ext cx="22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eso específico de la r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692520"/>
            <a:ext cx="5105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l fallamiento del techo del caserón va a generalmente ser debido al esfuerzo de tracción y no de co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a formula se puede usar solo como aproximación inici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 asume que los estratos se separ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720" y="2265480"/>
            <a:ext cx="264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eoría de vigas caso empot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F5D2-177A-42BC-8051-74E023EEF0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75040" y="4665600"/>
            <a:ext cx="1054080" cy="665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1240" y="529740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31840" y="344016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4480" y="1936800"/>
            <a:ext cx="2711520" cy="8524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Miner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574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rdy and Agapito (19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ert and Duvall (1967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alamon and Munro (1967), Holland (196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289548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70720" y="287964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632640" y="397836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467480" y="175248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 flipV="1">
            <a:off x="7467480" y="2286000"/>
            <a:ext cx="1526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039680" y="1984320"/>
                <a:ext cx="2133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579480" y="220968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, especim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, Pi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39840" y="3505320"/>
                <a:ext cx="178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0" name=""/>
          <p:cNvGraphicFramePr/>
          <p:nvPr/>
        </p:nvGraphicFramePr>
        <p:xfrm>
          <a:off x="1077840" y="5334120"/>
          <a:ext cx="157788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5334120"/>
                    <a:ext cx="157788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114800" y="4800600"/>
                <a:ext cx="762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021640" y="495288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edidos en pilares cúbicos W/H=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C279-21A9-4DF2-99ED-325F23C140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s Utilizadas Para El Diseño de Pi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328FB-E802-458B-9CC7-09A641AB2F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29080" y="3652920"/>
            <a:ext cx="3440160" cy="1241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17560" y="4800600"/>
            <a:ext cx="2727360" cy="838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00160" y="2386080"/>
            <a:ext cx="184464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Ajustando el Valor de Resistencia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calamiento del espéc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sistencia del pilar Obert and Duv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mplemente utilizar el criterio de Hoek and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376280" y="24652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62120" y="4780080"/>
                <a:ext cx="2774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10080" y="3733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45CD-0941-43F8-9567-2355655980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ros Ábacos Empír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19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os gráficos se utilizan en roca competente y se refieren a casos estudiados en Norteamé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sidera el hecho que los pilares mineros poseen algún grado de confinamiento el cual se estima con modelos numé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318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029200" y="51055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la geometría del pil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8B95-86FF-4FB8-AF54-9C4CF26C4D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90560" y="2401920"/>
            <a:ext cx="2635200" cy="79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esistencia como función del Confinamiento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97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define el confinamiento medio del pil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a formula nace del análisis de múltiples geometrías modeladas numéricamente y estimación del confinamiento al interior del pi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3079" t="0" r="0" b="0"/>
          <a:stretch/>
        </p:blipFill>
        <p:spPr>
          <a:xfrm>
            <a:off x="3886200" y="1828800"/>
            <a:ext cx="5257800" cy="349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852480" y="2496960"/>
                <a:ext cx="2438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029200" y="551664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el confinamiento medio normaliz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EA43-5F15-4868-9A59-9CD188B52D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91040" y="1255680"/>
            <a:ext cx="4152960" cy="528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otivación: Necesario para el Diseñ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83360" y="189396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211800" y="4356000"/>
                <a:ext cx="46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57880" y="550224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3097-15A3-4171-B4D7-776A646E1E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83040" y="37162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83040" y="20764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Para Roca Compet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652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Pakalnis Y Lunde (1997) proponen una relación para estimar la resistencia del pilar considerando el confinamiento medio de los pila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146480" y="2133720"/>
          <a:ext cx="49975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6480" y="2133720"/>
                    <a:ext cx="49975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267080" y="3962520"/>
                <a:ext cx="4859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73DFB-3923-42FA-B909-881DADA379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barrer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517680" y="1138320"/>
            <a:ext cx="705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or lo general estos pilares tienen grandes dimensiones y protegen al panel de collapsos tipo cas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formulas empiricas de resistencia de pilares son validas para W/H &lt;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ara el caso de pilares barrera (minas de carbo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85840" y="3463920"/>
          <a:ext cx="609588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3463920"/>
                    <a:ext cx="60958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609480" y="5853240"/>
            <a:ext cx="78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ara casos de minas metálicas se requiere usar Hoek and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2708-43EA-4CA2-AD77-066C8EC313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 of Safe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100% de los pilares diseñados con un FS mayor 1.6 se ha mantenido es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relación corresponde a la experiencia de 1 mina, cada operación debería tener sus propios estánd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11660" r="0" b="1189"/>
          <a:stretch/>
        </p:blipFill>
        <p:spPr>
          <a:xfrm>
            <a:off x="3657600" y="1981080"/>
            <a:ext cx="5486400" cy="3241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486400" y="52578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tro-análisis de pilares de minas de carbón Sudafricanas, Salamon y Munro (1967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A49C-17B7-441D-8E09-D23AE1D91A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a Importancia de W/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esbeltez del pilar define el grado de confinamiento de es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pilares con relaciones W/H menor a 4 se produce el fenómeno de relajación post falla (strain softenning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e ábaco es fundamental para entender el estallido de roca en minería profun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0" t="0" r="5086" b="1693"/>
          <a:stretch/>
        </p:blipFill>
        <p:spPr>
          <a:xfrm>
            <a:off x="4724280" y="1219320"/>
            <a:ext cx="3861000" cy="4419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876920" y="579132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Das, 1986. Curvas de esfuerzo deformación completas para testigo de pilares de carbón. Modelamiento de relajación post fa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CFA55-876A-4A7A-AFE7-BC52498D8E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stallido de roca en mineria profun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320920" y="1413000"/>
          <a:ext cx="56516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413000"/>
                    <a:ext cx="56516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863800" y="4087800"/>
          <a:ext cx="47926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3800" y="4087800"/>
                    <a:ext cx="47926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90680" y="1184400"/>
            <a:ext cx="33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0960" y="4340160"/>
            <a:ext cx="280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quina 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quina st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8232-90CD-4D1A-921F-2DEE148DB7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stable/inestable falla de pilares en mina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519360" y="1760400"/>
          <a:ext cx="179568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1760400"/>
                    <a:ext cx="17956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26880" y="181944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Ocurre falla e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1600" y="327816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Ocurre falla repenti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6600" y="3262320"/>
          <a:ext cx="169560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6600" y="3262320"/>
                    <a:ext cx="16956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89120" y="4678200"/>
            <a:ext cx="65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 rigidez local de la mina depende del modulo de la roca (piso/techo/pilar) y el diseño (ubicación de pilares/pilares barrera/caseron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C95F-E9AB-473A-87DB-CE52E18B42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Rigidez loc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30200" y="1579680"/>
          <a:ext cx="534348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1579680"/>
                    <a:ext cx="534348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F5D1-5D96-4DB3-9E7E-BCB9254111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jemplos de Collapsos de pilates Diseño Minas de Carbón US y Canadá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44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583F-E555-424C-BEFC-A58F483706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collapso de pilares R&amp;P en Yacimientos Metá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182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9AE31-20CE-4629-B96E-ECBD0D25C0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R&amp;P en Yacimientos No Meta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771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9B1F-A558-4B23-A1A6-2227434407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5440" y="1441440"/>
            <a:ext cx="8385120" cy="5145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91EA-1021-4396-A791-C3A35844BE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15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señar los caserones y pilares para un yacimiento mantiforme de 10m de potencia que se encuentra a una profundidad de 2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s características de la roca de caja y mineral se presentan a continu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55EB3-DFA3-4B9A-B38B-FBF319C44D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094C-9E54-441A-8018-22E43F7D30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33440" y="1471680"/>
            <a:ext cx="5781600" cy="2666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Luz Máxima y Dilu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0" t="0" r="29081" b="53520"/>
          <a:stretch/>
        </p:blipFill>
        <p:spPr>
          <a:xfrm>
            <a:off x="609480" y="1676520"/>
            <a:ext cx="389124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DB86-1789-4AC0-AEEC-CF106F3A0F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874880"/>
            <a:ext cx="9144000" cy="4076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l Pilar Unitari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A6A9-E269-4A63-8BE7-3DC491A806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1782720"/>
            <a:ext cx="7605720" cy="32544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0" t="0" r="16813" b="0"/>
          <a:stretch/>
        </p:blipFill>
        <p:spPr>
          <a:xfrm>
            <a:off x="76320" y="1905120"/>
            <a:ext cx="7289640" cy="29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E80F-1E96-4F17-85EF-43422BE3EF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xili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petir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vez de usar GSI estimar el  RMR 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fundidad del cuerpo mineralizado varia entre 1000 a 1100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el método de Hoek and Brown para estimar la resistencia de un pilar uni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una formula de resistencia de pilar de Obert and Duv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ar pilares rectangulares y mu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alizar el diseño de la mina pensar en cuanto pilares se pueden introducir en el ancho del cuerpo mineralizado y en la corr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B0C9-7DC9-4C8E-B07E-B98577439E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 (Geologic Strength index), índice geológico de resiste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=RMR(76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5B05-3E7B-4A76-A4A0-530E495F59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3200" y="2571840"/>
            <a:ext cx="3828960" cy="384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967F-1FDB-4F6D-9AF2-791A460268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 mi para Distintos Tipos de Roca Intact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9E93-14ED-4793-BC8C-EA5B6EEB2E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0AB9-DD26-4571-8788-0D95EB0FC2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041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maximizar la recuperación de la unidad básica de explotación a través de un diseño seguro y v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diseño de pilares debe obedecer a un análisis de las cargas o solicitaciones y la resistencia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F8C6-7EE1-4160-9451-2D1E52CCBA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80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roduce re distribución de esfuerzos al realizar minería de la cámara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esfuerzos tienden a ser mayores en las esquinas produciendo fallas por exceso de ciza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24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D6759-07B6-45B7-935B-2E43CC328A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Raul Castro</cp:lastModifiedBy>
  <dcterms:modified xsi:type="dcterms:W3CDTF">2007-09-27T15:47:54Z</dcterms:modified>
  <cp:revision>247</cp:revision>
  <dc:subject/>
  <dc:title>Muestreo y Control de Calidad</dc:title>
</cp:coreProperties>
</file>