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3.wmf" ContentType="image/x-wmf"/>
  <Override PartName="/ppt/media/image26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2.jpeg" ContentType="image/jpeg"/>
  <Override PartName="/ppt/media/image34.wmf" ContentType="image/x-wmf"/>
  <Override PartName="/ppt/media/image35.wmf" ContentType="image/x-wmf"/>
  <Override PartName="/ppt/media/image24.jpeg" ContentType="image/jpeg"/>
  <Override PartName="/ppt/media/image36.wmf" ContentType="image/x-wmf"/>
  <Override PartName="/ppt/media/image7.jpeg" ContentType="image/jpeg"/>
  <Override PartName="/ppt/media/image6.jpeg" ContentType="image/jpeg"/>
  <Override PartName="/ppt/media/image30.png" ContentType="image/png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7E539B-DA98-4AA0-B059-7A6292C5B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31B7-3E50-478E-BFE6-58F43D2D5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49B5-CEDE-41B3-81C6-C3280AAB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B632-2D3E-4E4C-9C61-8B43BB899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8FCF-F882-401C-9972-919567534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CA47-B3CB-427C-ADD3-E29FE0FFE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DF99-8DD0-489A-B0B9-FD09A2B6A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AFA4-59F3-44E7-8725-AF6FE8A27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14D5-DA96-4EBE-8D19-FDCC3EA7F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92A4-2437-4A50-9F89-500131CD4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9D43-7AAA-426A-B4F9-A9F1EAB20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7966-BAE8-430E-AA5C-5C8BA9A82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AA59-2916-4AC6-865B-667097C84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44A035BC-EED9-49EB-9F71-9A80C67B5E1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208260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 Raúl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3720" y="3765600"/>
          <a:ext cx="210168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3765600"/>
                    <a:ext cx="2101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947880" y="5410080"/>
          <a:ext cx="267480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7880" y="5410080"/>
                    <a:ext cx="2674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D57C-04F7-4A66-97B5-AB36BE127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7E35-9114-4B45-B1B7-8398410E9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25CC-7BF7-47AF-8FF9-FF4FF5F8A7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4686-EA4B-49C9-8DDD-1BF2487039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4160" y="2773440"/>
            <a:ext cx="320652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0760" y="1039680"/>
            <a:ext cx="5029200" cy="2354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4362480" y="1447560"/>
            <a:ext cx="350640" cy="8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91520" y="1418760"/>
            <a:ext cx="411120" cy="5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8160" y="1523880"/>
                <a:ext cx="460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99080" y="243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2960" y="2514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99040" y="1457280"/>
            <a:ext cx="97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173640" y="111276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384120" y="2874960"/>
          <a:ext cx="138276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874960"/>
                    <a:ext cx="1382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680" y="3809880"/>
          <a:ext cx="15811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80" y="3809880"/>
                    <a:ext cx="1581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897440"/>
          <a:ext cx="1143000" cy="8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897440"/>
                    <a:ext cx="1143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692520"/>
            <a:ext cx="5105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 formula se puede usar solo como aproximación inic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 asume que los estratos se separ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720" y="2265480"/>
            <a:ext cx="26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eoría de vigas caso empot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8053-13E1-4F75-8F49-608DC19A9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39680" y="1984320"/>
                <a:ext cx="2133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1077840" y="5334120"/>
          <a:ext cx="157788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334120"/>
                    <a:ext cx="15778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77EE-210B-4E06-AC23-BFE17CEC8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69D2-9394-4D0A-BECE-7DD4348AB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FFDB-2FB9-4297-A9E2-50EF816CE9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F68B-A3F1-4EE7-BE90-AF4ACE5EA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029200" y="551664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7A5C-3CA7-4FB1-A08C-D2D783CF0D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D27C-1260-459C-9F5F-7A2965BA27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6480" y="2133720"/>
          <a:ext cx="4997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6480" y="2133720"/>
                    <a:ext cx="4997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45C4-96C2-4635-B578-5A177DF35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barr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17680" y="1138320"/>
            <a:ext cx="705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or lo general estos pilares tienen grandes dimensiones y protegen al panel de collapsos tipo cas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formulas empiricas de resistencia de pilares son validas para W/H &lt;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el caso de pilares barrera (minas de carb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5840" y="3463920"/>
          <a:ext cx="60958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3463920"/>
                    <a:ext cx="60958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09480" y="58532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casos de minas metálicas se requiere usar Hoek and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81B4-F82D-483C-AA2C-7D45DEFBB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00AA-45CB-4AC6-903C-FBD71DBAB2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D9B1-D206-47BC-90D2-115204E8D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stallido de roca en mineria profun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320920" y="1413000"/>
          <a:ext cx="56516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13000"/>
                    <a:ext cx="56516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63800" y="4087800"/>
          <a:ext cx="47926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3800" y="4087800"/>
                    <a:ext cx="47926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0680" y="118440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4340160"/>
            <a:ext cx="280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F8ED-C98F-4FBC-B93C-E5D528E199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stable/inestable falla de pilares en mina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19360" y="1760400"/>
          <a:ext cx="17956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1760400"/>
                    <a:ext cx="17956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26880" y="18194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1600" y="327816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repent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6600" y="3262320"/>
          <a:ext cx="169560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6600" y="3262320"/>
                    <a:ext cx="1695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89120" y="46782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rigidez local de la mina depende del modulo de la roca (piso/techo/pilar) y el diseño (ubicación de pilares/pilares barrera/caser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F957-E74A-4DF5-B178-A5B149D5AF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igidez loc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30200" y="1579680"/>
          <a:ext cx="534348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579680"/>
                    <a:ext cx="53434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53BF-478B-45B9-B781-25565589F6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Collapsos de pilates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7D48-3561-4E8F-976C-87B4A95401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collapso de pilares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2F48-01D8-4BD1-A28C-282824A94F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7503-7D54-4EDB-95CD-10942377D1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9CBF-3E56-4A56-8168-7982FFD68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2B0D-7739-4E07-AD11-E416925F58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3D69-5C11-4B8D-8031-49212B4F0F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29081" b="53520"/>
          <a:stretch/>
        </p:blipFill>
        <p:spPr>
          <a:xfrm>
            <a:off x="609480" y="1676520"/>
            <a:ext cx="38912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167C-E125-4083-A2CB-540574E7A1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F89D-755E-4920-9C68-5B4367E3A5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782720"/>
            <a:ext cx="760572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16813" b="0"/>
          <a:stretch/>
        </p:blipFill>
        <p:spPr>
          <a:xfrm>
            <a:off x="76320" y="1905120"/>
            <a:ext cx="728964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256C-96A7-45A6-B284-58001D4ED7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AF5C-F3CD-44EC-AC8B-E1ACB77593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0A2A-47B9-4367-8649-73B8B17C0C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B365-E965-4082-A1E9-31A1E8677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5E4F-E5EA-4158-B032-83CF1FB2A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8DBD-120F-4101-AD0F-897A9F53D7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647B-36A8-4FB7-8DF0-D19D94149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C07A-0211-4254-91FE-C48453969B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27T15:47:54Z</dcterms:modified>
  <cp:revision>247</cp:revision>
  <dc:subject/>
  <dc:title>Muestreo y Control de Calidad</dc:title>
</cp:coreProperties>
</file>