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29.wmf" ContentType="image/x-wmf"/>
  <Override PartName="/ppt/media/image1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23.wmf" ContentType="image/x-wmf"/>
  <Override PartName="/ppt/media/image26.png" ContentType="image/png"/>
  <Override PartName="/ppt/media/image32.jpeg" ContentType="image/jpeg"/>
  <Override PartName="/ppt/media/image11.wmf" ContentType="image/x-wmf"/>
  <Override PartName="/ppt/media/image5.jpeg" ContentType="image/jpeg"/>
  <Override PartName="/ppt/media/image12.jpeg" ContentType="image/jpeg"/>
  <Override PartName="/ppt/media/image34.wmf" ContentType="image/x-wmf"/>
  <Override PartName="/ppt/media/image35.wmf" ContentType="image/x-wmf"/>
  <Override PartName="/ppt/media/image24.jpeg" ContentType="image/jpeg"/>
  <Override PartName="/ppt/media/image36.wmf" ContentType="image/x-wmf"/>
  <Override PartName="/ppt/media/image7.jpeg" ContentType="image/jpeg"/>
  <Override PartName="/ppt/media/image6.jpeg" ContentType="image/jpeg"/>
  <Override PartName="/ppt/media/image30.png" ContentType="image/png"/>
  <Override PartName="/ppt/media/image3.jpeg" ContentType="image/jpeg"/>
  <Override PartName="/ppt/media/image28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7.wmf" ContentType="image/x-wmf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063703-C3B6-4070-8415-9B4AD3E6F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F7E79-C980-4B92-9390-BBD63D8FF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596CB-E570-4AAE-B431-54AE2C994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173CB-CCCA-4DD3-8885-DF971B3A3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3E456-D759-4A9E-BE6C-13F5323780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0A66-C998-474D-8294-F5C9F07081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5D64-DA18-497B-96A7-5AF36281C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7BB7-8574-45D5-933A-91D7A045A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1437-A395-4F03-B153-B4F2A0C06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172A2-DDF0-42C3-8914-7BE39A7EE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CD53-63C1-436A-9EDB-964EA6B9D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6134F-B5C3-4E6A-BDF8-48264ED7E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B9F7-1153-46E9-8811-294C7F680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BDA3213B-82D7-4667-869C-582B5DDE7F4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840" y="208260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 Miner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5212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 Raúl Cast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mestre Primavera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96960" y="3625920"/>
            <a:ext cx="5021280" cy="2774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6640" y="1984320"/>
            <a:ext cx="1751040" cy="758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arga Vertical Sobre 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96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ga litoesta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imación del esfuerzo induc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19320" y="2209680"/>
                <a:ext cx="12952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909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P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63720" y="3765600"/>
          <a:ext cx="2101680" cy="100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3720" y="3765600"/>
                    <a:ext cx="210168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90720" y="4876920"/>
                <a:ext cx="48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37" name=""/>
          <p:cNvGraphicFramePr/>
          <p:nvPr/>
        </p:nvGraphicFramePr>
        <p:xfrm>
          <a:off x="947880" y="5410080"/>
          <a:ext cx="267480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47880" y="5410080"/>
                    <a:ext cx="26748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518840" y="502920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rga litoestatica (MP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6640" y="563868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cuperación Mine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B2F6-4FA0-485A-A484-1A7A582610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03200" y="2805120"/>
            <a:ext cx="2619360" cy="1457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Área Tributare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85800" y="2895480"/>
                <a:ext cx="2209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086B4-648C-4985-8EA0-64BA96794C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03360" y="2649600"/>
            <a:ext cx="960480" cy="11793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Concentración de Esfuerzos como Función de la Recuperació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1626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828800" y="2743200"/>
                <a:ext cx="56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D877E-9AC3-4D32-8457-BDCA7D1975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rea Tributaria para Muros y Pilares Rectangu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952560" y="1397160"/>
            <a:ext cx="6202440" cy="51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5E85F-BE7A-490F-BCF2-568AEE04A2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4160" y="2773440"/>
            <a:ext cx="3206520" cy="3116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Tracción Sobre el Techo del Caser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uz máxima para un estrato de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30760" y="1039680"/>
            <a:ext cx="5029200" cy="2354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H="1" flipV="1">
            <a:off x="4362480" y="1447560"/>
            <a:ext cx="350640" cy="82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91520" y="1418760"/>
            <a:ext cx="411120" cy="5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718160" y="1523880"/>
                <a:ext cx="4604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699080" y="24336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52960" y="2514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99040" y="1457280"/>
            <a:ext cx="97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173640" y="111276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384120" y="2874960"/>
          <a:ext cx="1382760" cy="94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874960"/>
                    <a:ext cx="1382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5880" y="23353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74680" y="3809880"/>
          <a:ext cx="1581120" cy="98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680" y="3809880"/>
                    <a:ext cx="15811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4255560" y="556272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: Módulo de elasticidad del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80880" y="4897440"/>
          <a:ext cx="1143000" cy="88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4897440"/>
                    <a:ext cx="11430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343400" y="5867280"/>
                <a:ext cx="2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4640400" y="5867280"/>
            <a:ext cx="22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eso específico de la ro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692520"/>
            <a:ext cx="5105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l fallamiento del techo del caserón va a generalmente ser debido al esfuerzo de tracción y no de co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a formula se puede usar solo como aproximación inicia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 asume que los estratos se separ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720" y="2265480"/>
            <a:ext cx="264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eoría de vigas caso empot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44551-94C4-4EF9-9592-1D30FCFB82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75040" y="4665600"/>
            <a:ext cx="1054080" cy="665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1240" y="529740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31840" y="344016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4480" y="1936800"/>
            <a:ext cx="2711520" cy="8524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Miner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574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rdy and Agapito (197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bert and Duvall (1967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alamon and Munro (1967), Holland (196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289548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70720" y="287964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632640" y="397836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467480" y="175248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 flipV="1">
            <a:off x="7467480" y="2286000"/>
            <a:ext cx="152640" cy="9144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039680" y="1984320"/>
                <a:ext cx="2133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579480" y="220968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S, especim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, Pil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239840" y="3505320"/>
                <a:ext cx="17874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0" name=""/>
          <p:cNvGraphicFramePr/>
          <p:nvPr/>
        </p:nvGraphicFramePr>
        <p:xfrm>
          <a:off x="1077840" y="5334120"/>
          <a:ext cx="157788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5334120"/>
                    <a:ext cx="157788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114800" y="4800600"/>
                <a:ext cx="762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5021640" y="495288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edidos en pilares cúbicos W/H=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83B8D-1EDA-4CBF-9BD8-D8BED11EE0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s Utilizadas Para El Diseño de Pi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8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F4B7-B961-4E41-AD1B-AA4ADF7036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29080" y="3652920"/>
            <a:ext cx="3440160" cy="1241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17560" y="4800600"/>
            <a:ext cx="2727360" cy="838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00160" y="2386080"/>
            <a:ext cx="184464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Ajustando el Valor de Resistencia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calamiento del espéc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sistencia del pilar Obert and Duv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mplemente utilizar el criterio de Hoek and B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376280" y="2465280"/>
                <a:ext cx="129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62120" y="4780080"/>
                <a:ext cx="2774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410080" y="3733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4A98D-19F3-4F14-AEEB-EA31BAD169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ros Ábacos Empír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19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os gráficos se utilizan en roca competente y se refieren a casos estudiados en Norteamé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sidera el hecho que los pilares mineros poseen algún grado de confinamiento el cual se estima con modelos numér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318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029200" y="51055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la geometría del pila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7C52-C882-4A7B-A3D3-98A341D207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90560" y="2401920"/>
            <a:ext cx="2635200" cy="79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Resistencia como función del Confinamiento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97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define el confinamiento medio del pila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a formula nace del análisis de múltiples geometrías modeladas numéricamente y estimación del confinamiento al interior del pi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3079" t="0" r="0" b="0"/>
          <a:stretch/>
        </p:blipFill>
        <p:spPr>
          <a:xfrm>
            <a:off x="3886200" y="1828800"/>
            <a:ext cx="5257800" cy="349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852480" y="2496960"/>
                <a:ext cx="24382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029200" y="551664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el confinamiento medio normaliz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38D4-F844-4340-9024-A0EACB203C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991040" y="1255680"/>
            <a:ext cx="4152960" cy="528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otivación: Necesario para el Diseñ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83360" y="189396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211800" y="4356000"/>
                <a:ext cx="461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57880" y="550224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1914-F8E3-4212-8D59-0B05D219BC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83040" y="37162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83040" y="20764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Para Roca Competen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652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Pakalnis Y Lunde (1997) proponen una relación para estimar la resistencia del pilar considerando el confinamiento medio de los pila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146480" y="2133720"/>
          <a:ext cx="49975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6480" y="2133720"/>
                    <a:ext cx="49975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267080" y="3962520"/>
                <a:ext cx="4859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8F5F9-42FB-46B9-8F2B-A3CC7D3DF5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 barrer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517680" y="1138320"/>
            <a:ext cx="705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or lo general estos pilares tienen grandes dimensiones y protegen al panel de collapsos tipo cas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formulas empiricas de resistencia de pilares son validas para W/H &lt;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ara el caso de pilares barrera (minas de carbo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85840" y="3463920"/>
          <a:ext cx="609588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3463920"/>
                    <a:ext cx="60958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609480" y="5853240"/>
            <a:ext cx="78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ara casos de minas metálicas se requiere usar Hoek and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07953-D334-4D5D-9B65-4015B1948E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 of Safe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100% de los pilares diseñados con un FS mayor 1.6 se ha mantenido es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 relación corresponde a la experiencia de 1 mina, cada operación debería tener sus propios estánd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11660" r="0" b="1189"/>
          <a:stretch/>
        </p:blipFill>
        <p:spPr>
          <a:xfrm>
            <a:off x="3657600" y="1981080"/>
            <a:ext cx="5486400" cy="3241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486400" y="52578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tro-análisis de pilares de minas de carbón Sudafricanas, Salamon y Munro (1967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3AF46-F7D9-4D0F-BE71-97C943B361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a Importancia de W/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esbeltez del pilar define el grado de confinamiento de es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a pilares con relaciones W/H menor a 4 se produce el fenómeno de relajación post falla (strain softenning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e ábaco es fundamental para entender el estallido de roca en minería profun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0" t="0" r="5086" b="1693"/>
          <a:stretch/>
        </p:blipFill>
        <p:spPr>
          <a:xfrm>
            <a:off x="4724280" y="1219320"/>
            <a:ext cx="3861000" cy="4419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876920" y="5791320"/>
            <a:ext cx="39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Das, 1986. Curvas de esfuerzo deformación completas para testigo de pilares de carbón. Modelamiento de relajación post fal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EC97-7964-42DA-AC32-2B236751FB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stallido de roca en mineria profund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320920" y="1413000"/>
          <a:ext cx="56516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413000"/>
                    <a:ext cx="56516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863800" y="4087800"/>
          <a:ext cx="479268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3800" y="4087800"/>
                    <a:ext cx="47926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90680" y="1184400"/>
            <a:ext cx="33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0960" y="4340160"/>
            <a:ext cx="280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quina so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quina sti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352C3-B25E-4769-A62F-BC3B928C38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stable/inestable falla de pilares en mina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519360" y="1760400"/>
          <a:ext cx="179568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1760400"/>
                    <a:ext cx="17956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26880" y="181944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Ocurre falla es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1600" y="327816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Ocurre falla repenti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6600" y="3262320"/>
          <a:ext cx="169560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6600" y="3262320"/>
                    <a:ext cx="16956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789120" y="4678200"/>
            <a:ext cx="65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 rigidez local de la mina depende del modulo de la roca (piso/techo/pilar) y el diseño (ubicación de pilares/pilares barrera/caseron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ACAC8-1425-4AF4-A35A-C77F3C0B67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Rigidez loc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30200" y="1579680"/>
          <a:ext cx="534348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1579680"/>
                    <a:ext cx="534348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A3923-2D3E-435E-B1D9-7B02F3149D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jemplos de Collapsos de pilates Diseño Minas de Carbón US y Canadá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443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4B8F1-8EF3-4343-B931-DF69DAA7A6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collapso de pilares R&amp;P en Yacimientos Metá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86800" cy="182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286B4-F05E-4C60-B509-561E959713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R&amp;P en Yacimientos No Meta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771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A041-F098-416C-88D8-B717C80BA9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5440" y="1441440"/>
            <a:ext cx="8385120" cy="5145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54240" y="1908000"/>
                <a:ext cx="460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82680" y="4370400"/>
                <a:ext cx="461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28760" y="5516640"/>
                <a:ext cx="46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A4C3B-A1E3-4DFF-912D-A139C92303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15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iseñar los caserones y pilares para un yacimiento mantiforme de 10m de potencia que se encuentra a una profundidad de 200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s características de la roca de caja y mineral se presentan a continu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6B1B-4454-4D54-89F5-90089F22D3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2978280"/>
                <a:gridCol w="25081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Ca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M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o (KN/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c ang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dimentaria alte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b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ruc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bu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5972-B565-4424-9F1E-5065C6E5CD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33440" y="1471680"/>
            <a:ext cx="5781600" cy="2666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Luz Máxima y Dilu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0" t="0" r="29081" b="53520"/>
          <a:stretch/>
        </p:blipFill>
        <p:spPr>
          <a:xfrm>
            <a:off x="609480" y="1676520"/>
            <a:ext cx="389124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BD832-B21F-4023-A9A0-C762A7156B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874880"/>
            <a:ext cx="9144000" cy="4076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l Pilar Unitari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0" r="7142" b="0"/>
          <a:stretch/>
        </p:blipFill>
        <p:spPr>
          <a:xfrm>
            <a:off x="304920" y="1981080"/>
            <a:ext cx="883908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ABA7-AE27-4B6F-BBA9-0219C97A29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1782720"/>
            <a:ext cx="7605720" cy="32544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rcRect l="0" t="0" r="16813" b="0"/>
          <a:stretch/>
        </p:blipFill>
        <p:spPr>
          <a:xfrm>
            <a:off x="76320" y="1905120"/>
            <a:ext cx="7289640" cy="297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7599-F4AD-4B43-9BDF-1094372229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xili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petir 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vez de usar GSI estimar el  RMR 7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profundidad del cuerpo mineralizado varia entre 1000 a 1100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el método de Hoek and Brown para estimar la resistencia de un pilar uni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una formula de resistencia de pilar de Obert and Duv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eñar pilares rectangulares y mu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alizar el diseño de la mina pensar en cuanto pilares se pueden introducir en el ancho del cuerpo mineralizado y en la corr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47E8-F3E9-4FCC-A8C2-7B8359C327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71840" y="12949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 (Geologic Strength index), índice geológico de resiste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=RMR(76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382680"/>
            <a:ext cx="4738680" cy="64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3A48-369E-4443-BF0A-605FC28882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3200" y="2571840"/>
            <a:ext cx="3828960" cy="384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6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BFA8E-D2A7-43FF-9A8C-C39C9C6AB0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 mi para Distintos Tipos de Roca Intact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486400" cy="49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30C4-5122-4ED3-8E05-F0FBD0D25C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CC83-A3D4-488F-A233-B01BCE13D3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041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maximizar la recuperación de la unidad básica de explotación a través de un diseño seguro y v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diseño de pilares debe obedecer a un análisis de las cargas o solicitaciones y la resistencia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C8AC-A995-4F6E-97C5-7C901206EF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80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roduce re distribución de esfuerzos al realizar minería de la cámara de 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esfuerzos tienden a ser mayores en las esquinas produciendo fallas por exceso de ciza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724280" cy="24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73D67-6E7A-4B93-824C-5872AA6AD6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Raul Castro</cp:lastModifiedBy>
  <dcterms:modified xsi:type="dcterms:W3CDTF">2007-09-27T15:47:54Z</dcterms:modified>
  <cp:revision>247</cp:revision>
  <dc:subject/>
  <dc:title>Muestreo y Control de Calidad</dc:title>
</cp:coreProperties>
</file>