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7.png" ContentType="image/png"/>
  <Override PartName="/ppt/media/image6.wmf" ContentType="image/x-wmf"/>
  <Override PartName="/ppt/media/image5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9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C06DB4-AB9A-4E4B-9F70-D7D27C76A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17A5-2813-46E8-950A-BB075E8AD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A2E3-BA8A-41F7-A2CE-1EB67C2AE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4FFD-95BA-4C9B-910A-1329A062C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31AC-7AAE-4EE3-A6F5-C5263DDF1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A2C3-FDCE-4B24-9AF2-CCD0FB2BF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6B6B-2204-42E2-BE9E-1290B4BA2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4D69-6E67-42ED-804B-42A803BC5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A821-B3A0-4878-967B-0432EF373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AC07-A8D8-43F0-92B8-32FF1054D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259B-1F08-48EC-9E92-8AE227899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0CC5-551B-4E91-88A0-9C0903DE7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5786-8F44-4EF8-AF65-BCBC8C501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4E10E865-2D4F-4D47-8CFA-90A400C2D62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3320" y="1787400"/>
            <a:ext cx="773424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Introducción a la Geomecánica aplic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4160" y="527328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f. Raúl Cast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8120" y="129852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93DB-17A8-47CE-B8F8-6984A5B090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Determinación de constantes de Mohr Coulomb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06800" y="1749600"/>
                <a:ext cx="2133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3103560" y="3144960"/>
          <a:ext cx="20876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3560" y="3144960"/>
                    <a:ext cx="20876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6280" y="148608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lmer (195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63880" y="4334040"/>
                <a:ext cx="262728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838840" y="197172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fuerzo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2960" y="31813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fuerzo de c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0120" y="477216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rivando H-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29480" y="442908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SI &gt; 25, a=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8200" y="537228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SI &lt; 25, s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F85D-BBC9-46DA-8F91-5F59D1F9E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Determinación de constantes de Mohr Coulom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51160" y="2500200"/>
                <a:ext cx="319068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828720" y="1638360"/>
            <a:ext cx="65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esistencia compresión uniaxial del maci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28880" y="487692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alores de c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on sensible a elección de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6BE3-9FF0-44A2-9045-C53463CD3C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6120" y="4640400"/>
          <a:ext cx="6630840" cy="163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640400"/>
                    <a:ext cx="663084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00200" y="1787400"/>
                <a:ext cx="218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81440" y="140976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191120" y="1992240"/>
                <a:ext cx="1981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505320" y="3086280"/>
                <a:ext cx="12571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638680" y="3174840"/>
                <a:ext cx="952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629880" y="2705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6920" y="270504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409760"/>
            <a:ext cx="31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6440" y="3371760"/>
            <a:ext cx="1581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GSI= 6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mi=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ci= 10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813C-B75B-47E1-BA33-9284A9E27C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de calcu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1040" y="1392120"/>
            <a:ext cx="5919480" cy="330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71760" y="4952880"/>
            <a:ext cx="2544840" cy="482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09680" y="576252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jercicio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calcule las ctes de M-C con parámetros GSI 50, mi=19, sci= 60 MP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AFE6-6023-4BAA-A556-24F147E043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Algunas Relaciones de Interé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1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ahoma"/>
              </a:rPr>
              <a:t>Módulo de elasticidad del macizo rocoso en función de los índice de calidad de macizo rocos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5400720" cy="38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7C85-3CDF-414A-9873-988C5CA969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ngulo de Fracturamiento y Esfuerzo Princip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lación entre la magnitud del esfuerzo principal y el ángulo de fractur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a relación permite entender el modo de fa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ngulo de mayor debilidad se produc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86480" y="1230480"/>
            <a:ext cx="2024280" cy="5002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851120" y="5931000"/>
                <a:ext cx="11383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286240" y="3984480"/>
            <a:ext cx="766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alla en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07040" y="4308480"/>
            <a:ext cx="804960" cy="16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977D-6550-4937-9ED6-174D62C615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lanos de fracturamiento vs Esfuerzo Deviator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esfuerzo deviatorico como factor causal de la falla para diferentes niveles de confi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onath, 19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cLamore and Gray, 19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69000" y="1469880"/>
            <a:ext cx="3286080" cy="4581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A79F-7CBA-448A-B046-DA89458418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Esfuerzos in-situ &amp; induci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2280" y="1977840"/>
            <a:ext cx="83930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fuerzos in situ existen antes de las excav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fuerzos inducidos son los que resultan por la existencia de la excavación (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6FD6-BEEF-43E0-A5D8-5CBE233257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596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1. Excavaciones subterráneas: métodos de diseño Geomecán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923760" y="2486160"/>
            <a:ext cx="74487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e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roducción a criterios geomecánicos en el diseño de excav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istencia macizo rocoso (repa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fuerzos in-si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fuerzos inducidos por excav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luciones ana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Expresiones analít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97440" y="1925640"/>
            <a:ext cx="40608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3800" y="1836720"/>
            <a:ext cx="390060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8EBD-8377-4B56-ACD1-A5CB818AA1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ción de Kirsch en el contorno de la excavació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4400" y="2171520"/>
            <a:ext cx="4119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38840" y="1522440"/>
            <a:ext cx="3620880" cy="3444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12400" y="229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90120" y="295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31760" y="4408560"/>
                <a:ext cx="1351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39680" y="2905200"/>
                <a:ext cx="1428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800440" y="2838600"/>
            <a:ext cx="16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presion en las par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5040" y="4324320"/>
            <a:ext cx="16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ensión en el t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486A-D094-4B33-A489-36DE95A631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Ejemplo de Kirsch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4400" y="2279520"/>
            <a:ext cx="41194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la condición de resistencia 16 MPa a la compresión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-26,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condición de resistencia a la tracción to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79, 1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4760" y="1905120"/>
            <a:ext cx="3695760" cy="36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943760" y="3600360"/>
            <a:ext cx="4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,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3486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2,5 M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7B09-995A-4248-BBC4-E55677AD41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Zonas de falla y da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17600" y="1795320"/>
            <a:ext cx="4324320" cy="3865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657520" y="591516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f: Martin (1997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D852-BB62-4A7C-ACBA-CCCB01768D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Efecto de varias excavacione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6880" y="1724040"/>
            <a:ext cx="8393400" cy="3225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524844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suman los esfuerzos inducidos de cada exca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C433-D28A-4138-B3C4-90DD18A076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</a:t>
            </a: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ño y sismic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utiliza un modelo numérico para estimar contorno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grafica el esfuerzo deviator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compara con una envolvente de falla del sistema minero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 último se obtiene con microsis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89520" y="3875040"/>
            <a:ext cx="2909880" cy="2600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102360" y="1120680"/>
            <a:ext cx="250020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131E-D538-430D-AD4F-E26C5638A3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tapas diseño geomecán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4181400" y="97164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acter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mecá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62320" y="188604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elo m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3240" y="2838600"/>
            <a:ext cx="224820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33880" y="373392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19600" y="4724280"/>
            <a:ext cx="327636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 maci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itor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57720" y="5705640"/>
            <a:ext cx="224784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ck anál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152800" y="1200240"/>
            <a:ext cx="1552320" cy="5086440"/>
            <a:chOff x="2152800" y="1200240"/>
            <a:chExt cx="1552320" cy="5086440"/>
          </a:xfrm>
        </p:grpSpPr>
        <p:sp>
          <p:nvSpPr>
            <p:cNvPr id="62" name=""/>
            <p:cNvSpPr/>
            <p:nvPr/>
          </p:nvSpPr>
          <p:spPr>
            <a:xfrm>
              <a:off x="2162160" y="1200240"/>
              <a:ext cx="9720" cy="5086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71880" y="120996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81240" y="228636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1240" y="321012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2160" y="4019760"/>
              <a:ext cx="152424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71880" y="504864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52800" y="626760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5992920" y="624960"/>
            <a:ext cx="549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676080" y="3466800"/>
            <a:ext cx="388620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ceso de análisis en ingeniería de ro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7E52-342C-4C71-BDDD-5D187276C2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Criterios de diseño subterráneo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143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fuer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antificar el daño y diseñar so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47840" y="1231920"/>
            <a:ext cx="5996160" cy="421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7DAE-BCE2-43D0-9449-EEB326B65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Resistencia maciz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roceso de Escal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2133720" cy="134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flipH="1" rot="16200000">
            <a:off x="468360" y="1626480"/>
            <a:ext cx="21286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505320" y="4343400"/>
            <a:ext cx="1014840" cy="1600200"/>
            <a:chOff x="3505320" y="4343400"/>
            <a:chExt cx="1014840" cy="1600200"/>
          </a:xfrm>
        </p:grpSpPr>
        <p:sp>
          <p:nvSpPr>
            <p:cNvPr id="79" name=""/>
            <p:cNvSpPr/>
            <p:nvPr/>
          </p:nvSpPr>
          <p:spPr>
            <a:xfrm>
              <a:off x="3505320" y="4800600"/>
              <a:ext cx="228600" cy="6858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9440" y="4343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38520" y="5486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4680" y="49528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U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a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15040" y="1676520"/>
            <a:ext cx="3163680" cy="2373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69200" y="5029200"/>
            <a:ext cx="2652480" cy="764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racterización d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Macizo Roco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9080" y="16765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istencia 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cizo Rocos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905120"/>
            <a:ext cx="1524240" cy="83808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7" idx="1"/>
            <a:endCxn id="76" idx="0"/>
          </p:cNvCxnSpPr>
          <p:nvPr/>
        </p:nvCxnSpPr>
        <p:spPr>
          <a:xfrm rot="5400000">
            <a:off x="1182600" y="4145400"/>
            <a:ext cx="691200" cy="10440"/>
          </a:xfrm>
          <a:prstGeom prst="bentConnector3">
            <a:avLst>
              <a:gd name="adj1" fmla="val 4986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88" name=""/>
          <p:cNvCxnSpPr>
            <a:stCxn id="76" idx="3"/>
            <a:endCxn id="79" idx="1"/>
          </p:cNvCxnSpPr>
          <p:nvPr/>
        </p:nvCxnSpPr>
        <p:spPr>
          <a:xfrm flipV="1">
            <a:off x="2590920" y="5143320"/>
            <a:ext cx="915120" cy="24480"/>
          </a:xfrm>
          <a:prstGeom prst="straightConnector1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89" name=""/>
          <p:cNvCxnSpPr>
            <a:stCxn id="81" idx="0"/>
            <a:endCxn id="84" idx="2"/>
          </p:cNvCxnSpPr>
          <p:nvPr/>
        </p:nvCxnSpPr>
        <p:spPr>
          <a:xfrm flipH="1" flipV="1" rot="5400000">
            <a:off x="5194800" y="4242600"/>
            <a:ext cx="143640" cy="3258360"/>
          </a:xfrm>
          <a:prstGeom prst="bentConnector3">
            <a:avLst>
              <a:gd name="adj1" fmla="val -59798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90" name=""/>
          <p:cNvCxnSpPr>
            <a:stCxn id="84" idx="0"/>
            <a:endCxn id="83" idx="2"/>
          </p:cNvCxnSpPr>
          <p:nvPr/>
        </p:nvCxnSpPr>
        <p:spPr>
          <a:xfrm flipH="1" flipV="1" rot="5400000">
            <a:off x="6406920" y="4538160"/>
            <a:ext cx="980280" cy="2160"/>
          </a:xfrm>
          <a:prstGeom prst="bentConnector3">
            <a:avLst>
              <a:gd name="adj1" fmla="val 4988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047D-147A-4FAE-A9D9-2D2C94E9A2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2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 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(Hoek and Brown, 1980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31880" y="1800360"/>
            <a:ext cx="4768920" cy="42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9938-BD95-4928-A474-E93190B0A8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Modelos Constitutivos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mayor confina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máxima aum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frágil a dúctil, comportamiento plá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residual aumenta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4632480" cy="31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618160" y="560376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Ensayos triaxiales en Marble Tenesse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Wawersik and Fairhurst, 19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A265-3E44-47A1-A8C4-FB6B52C7EA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5736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10CB-F1EE-49F9-84B5-D783D3A7DD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Raul Castro</cp:lastModifiedBy>
  <dcterms:modified xsi:type="dcterms:W3CDTF">2007-09-11T15:47:56Z</dcterms:modified>
  <cp:revision>243</cp:revision>
  <dc:subject/>
  <dc:title>Muestreo y Control de Calidad</dc:title>
</cp:coreProperties>
</file>