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7.png" ContentType="image/png"/>
  <Override PartName="/ppt/media/image6.wmf" ContentType="image/x-wmf"/>
  <Override PartName="/ppt/media/image5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F649AA-0D53-425A-AEE0-F2752A994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59A0-A042-4C1A-B66E-15966CB78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4B4F-2B21-4736-82C5-5F3217D40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9532-B50B-4F32-9F23-AE556B1E4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3D9E-9151-4353-ADFD-5C3B96AED2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1767-12F3-4CE6-A419-40A8DCD10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D076-E441-41C8-ABF6-79C95AD39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3F95-2E70-473D-9415-DD3628D09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2FE5-9897-480E-985E-E81100761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5299-569D-4A9A-AB6A-69D351F39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7716-2AF3-4803-853D-F82537A9E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CF68-4727-4FB1-A1AE-ECBE7D754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0E87-0601-43B0-B2DE-B6FE84F09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CB2CE390-0DA7-4940-974B-C6E54D88007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3320" y="1787400"/>
            <a:ext cx="773424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Introducción a la Geomecánica aplic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4160" y="527328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. Raúl Cast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8120" y="129852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1B1A-4C20-4A6E-BDF5-C35468C868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06800" y="1749600"/>
                <a:ext cx="2133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3103560" y="3144960"/>
          <a:ext cx="20876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3560" y="3144960"/>
                    <a:ext cx="20876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6280" y="148608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lmer (195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63880" y="4334040"/>
                <a:ext cx="26272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838840" y="197172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2960" y="31813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de c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0120" y="477216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rivando H-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29480" y="442908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gt; 25, a=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8200" y="53722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lt; 25, s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561A-1046-4ABA-9AE3-3BD6B937E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51160" y="2500200"/>
                <a:ext cx="31906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8720" y="1638360"/>
            <a:ext cx="65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esistencia compresión uniaxial del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8880" y="487692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alores de c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on sensible a elección de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C3444-9871-46A8-9F18-F57D6987CD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6120" y="4640400"/>
          <a:ext cx="6630840" cy="163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640400"/>
                    <a:ext cx="66308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0200" y="1787400"/>
                <a:ext cx="218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81440" y="140976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191120" y="1992240"/>
                <a:ext cx="1981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05320" y="3086280"/>
                <a:ext cx="12571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638680" y="3174840"/>
                <a:ext cx="952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629880" y="2705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6920" y="270504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409760"/>
            <a:ext cx="31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440" y="3371760"/>
            <a:ext cx="1581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GSI= 6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mi=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ci= 1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E3A2-4554-4532-9210-5B3B58C97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de calcu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1040" y="1392120"/>
            <a:ext cx="5919480" cy="330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71760" y="4952880"/>
            <a:ext cx="2544840" cy="482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9680" y="57625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rcicio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lcule las ctes de M-C con parámetros GSI 50, mi=19, sci= 60 MP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60F1-5447-4BA5-8320-3A9FAFE5E3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Algunas Relaciones de Interé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1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ahoma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95AA-047B-4035-B67B-911BA0072A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ngulo de Fracturamiento y Esfuerzo Princip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lación entre la magnitud del esfuerzo principal y el ángulo de fractur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a relación permite entender el modo de fa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ngulo de mayor debilidad se produc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86480" y="1230480"/>
            <a:ext cx="2024280" cy="500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851120" y="5931000"/>
                <a:ext cx="11383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286240" y="3984480"/>
            <a:ext cx="766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alla en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07040" y="4308480"/>
            <a:ext cx="804960" cy="16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1F56-79FE-4E95-9E3F-59FF27407C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lanos de fracturamiento vs Esfuerzo Deviator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fuerzo deviatorico como factor causal de la falla para diferentes niveles de confi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nath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cLamore and Gray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69000" y="1469880"/>
            <a:ext cx="3286080" cy="4581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CC64-154E-49EE-8A66-F51E8F4294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Esfuerzos in-situ &amp; induc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2280" y="1977840"/>
            <a:ext cx="83930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 situ existen antes de las excav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ducidos son los que resultan por la existencia de la excavación (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09EE-B70E-476C-9FA8-7C2F0D2E5E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596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1. Excavaciones subterráneas: métodos de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923760" y="2486160"/>
            <a:ext cx="74487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e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roducción a criterios geomecánicos en el diseño de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istencia macizo rocoso (repa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-si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ducidos por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luciones ana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xpresiones analít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97440" y="1925640"/>
            <a:ext cx="40608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3800" y="1836720"/>
            <a:ext cx="390060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63C1-E9A2-44DB-B076-62F7AE5E83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ción de Kirsch en el contorno de la excavació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4400" y="2171520"/>
            <a:ext cx="4119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38840" y="1522440"/>
            <a:ext cx="3620880" cy="3444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12400" y="229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90120" y="295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31760" y="4408560"/>
                <a:ext cx="1351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39680" y="2905200"/>
                <a:ext cx="142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800440" y="2838600"/>
            <a:ext cx="16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presion en las par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5040" y="4324320"/>
            <a:ext cx="16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en el t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B850-E167-433E-AD4F-00E52D3515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jemplo de Kirsch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400" y="2279520"/>
            <a:ext cx="41194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la condición de resistencia 16 MPa a la compresión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-26,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condición de resistencia a la tracción to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79,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4760" y="1905120"/>
            <a:ext cx="36957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943760" y="3600360"/>
            <a:ext cx="4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486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,5 M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C05C-62DF-4078-A30E-C5E4E6694A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Zonas de falla y da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17600" y="1795320"/>
            <a:ext cx="4324320" cy="3865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57520" y="591516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f: Martin (1997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A335-7FBE-453B-BA44-C7230B0CF8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Efecto de varias excavacione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6880" y="1724040"/>
            <a:ext cx="8393400" cy="322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524844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suman los esfuerzos inducidos de cada exca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C004-419A-4540-9127-D7DD8E7E20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ño y sismic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utiliza un modelo numérico para estimar contorno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grafica el esfuerzo deviato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compara con una envolvente de falla del sistema minero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 último se obtiene con microsis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89520" y="3875040"/>
            <a:ext cx="29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102360" y="1120680"/>
            <a:ext cx="250020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EA2A-F8C5-4AB8-8124-93FF73A820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tapas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4181400" y="9716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acter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62320" y="18860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m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3240" y="2838600"/>
            <a:ext cx="2248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33880" y="373392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9600" y="4724280"/>
            <a:ext cx="327636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7720" y="5705640"/>
            <a:ext cx="224784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ck anál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152800" y="1200240"/>
            <a:ext cx="1552320" cy="5086440"/>
            <a:chOff x="2152800" y="1200240"/>
            <a:chExt cx="1552320" cy="5086440"/>
          </a:xfrm>
        </p:grpSpPr>
        <p:sp>
          <p:nvSpPr>
            <p:cNvPr id="62" name=""/>
            <p:cNvSpPr/>
            <p:nvPr/>
          </p:nvSpPr>
          <p:spPr>
            <a:xfrm>
              <a:off x="2162160" y="1200240"/>
              <a:ext cx="9720" cy="5086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71880" y="12099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1240" y="22863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1240" y="321012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2160" y="4019760"/>
              <a:ext cx="15242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71880" y="504864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52800" y="626760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5992920" y="624960"/>
            <a:ext cx="549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676080" y="3466800"/>
            <a:ext cx="3886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ceso de análisis en ingeniería de ro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5AB4-8263-468A-84C2-83081D74CE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Criterios de diseño subterráneo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143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fuer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antificar el daño y diseñar so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47840" y="1231920"/>
            <a:ext cx="5996160" cy="421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8EE2-0BBF-4A01-89DA-CF86E5AAF3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Resistencia maciz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roceso de Escal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79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7" idx="1"/>
            <a:endCxn id="76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8" name=""/>
          <p:cNvCxnSpPr>
            <a:stCxn id="76" idx="3"/>
            <a:endCxn id="79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9" name=""/>
          <p:cNvCxnSpPr>
            <a:stCxn id="81" idx="0"/>
            <a:endCxn id="84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90" name=""/>
          <p:cNvCxnSpPr>
            <a:stCxn id="84" idx="0"/>
            <a:endCxn id="83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5F85-C720-473F-95C6-8B67D358ED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2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 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(Hoek and Brown, 1980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31880" y="1800360"/>
            <a:ext cx="47689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B27C-9CFD-4498-97EF-5183BA1D9A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Modelos Constitutivos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mayor confin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máxima aum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frágil a dúctil, comportamiento plá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residual aumenta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4632480" cy="31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18160" y="560376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Ensayos triaxiales en Marble Tenesse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Wawersik and Fairhurst, 19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6358-1155-4044-AFEF-6BEACB4C62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736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FDA8-F71E-4C45-877D-155330D141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11T15:47:56Z</dcterms:modified>
  <cp:revision>243</cp:revision>
  <dc:subject/>
  <dc:title>Muestreo y Control de Calidad</dc:title>
</cp:coreProperties>
</file>