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7.png" ContentType="image/png"/>
  <Override PartName="/ppt/media/image6.wmf" ContentType="image/x-wmf"/>
  <Override PartName="/ppt/media/image5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9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E8F5FA-C964-4D5B-9C03-11F7DF946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850B-8BDA-4F2A-936F-5225E4B69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2669-711D-40A4-AF11-50E1F418D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111E-21B5-4E2C-91D5-BF3F38054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1339-7DAF-4E58-A65D-311F1F3E6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4B22-523D-4BA2-BD5F-3D84CF33B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BA59-09A9-457B-8289-6394BD9EF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BCBA-AB48-4048-BC8B-98396D1B9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A1E3-2A04-40C9-8E56-9EA1B8AAE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1D81-33C1-43EA-BD52-0D67A67EA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D25D-9E81-44A2-99AB-EC412B871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854A-2C0E-4C98-9191-9CCCAC5A0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7C9C-23E5-4540-8F8B-5ED36E258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B380D708-95FD-4A3B-B811-76A4841F661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3320" y="1787400"/>
            <a:ext cx="773424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Introducción a la Geomecánica aplic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4160" y="527328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f. Raúl Cast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8120" y="129852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9B00-5679-4FBF-AFFC-AFB924C042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Determinación de constantes de Mohr Coulomb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06800" y="1749600"/>
                <a:ext cx="2133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3103560" y="3144960"/>
          <a:ext cx="20876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3560" y="3144960"/>
                    <a:ext cx="20876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6280" y="148608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lmer (195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63880" y="4334040"/>
                <a:ext cx="262728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838840" y="197172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fuerzo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2960" y="31813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fuerzo de c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0120" y="477216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rivando H-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29480" y="442908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SI &gt; 25, a=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8200" y="537228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SI &lt; 25, s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EA57-FAD6-45C4-94A1-86272814BE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Determinación de constantes de Mohr Coulom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51160" y="2500200"/>
                <a:ext cx="319068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828720" y="1638360"/>
            <a:ext cx="65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esistencia compresión uniaxial del maci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28880" y="487692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alores de c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on sensible a elección de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0914-33CB-46CA-A6B4-A6B212B0D1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6120" y="4640400"/>
          <a:ext cx="6630840" cy="163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640400"/>
                    <a:ext cx="663084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00200" y="1787400"/>
                <a:ext cx="218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81440" y="140976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191120" y="1992240"/>
                <a:ext cx="1981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505320" y="3086280"/>
                <a:ext cx="12571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638680" y="3174840"/>
                <a:ext cx="952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629880" y="2705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6920" y="270504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409760"/>
            <a:ext cx="31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6440" y="3371760"/>
            <a:ext cx="1581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GSI= 6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mi=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ci= 10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C7B2-FF74-4041-A2D9-0D17F9D642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de calcu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1040" y="1392120"/>
            <a:ext cx="5919480" cy="330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71760" y="4952880"/>
            <a:ext cx="2544840" cy="482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09680" y="576252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jercicio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calcule las ctes de M-C con parámetros GSI 50, mi=19, sci= 60 MP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7FFD-1CAB-4487-927B-20ADBE5FE0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Algunas Relaciones de Interé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1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ahoma"/>
              </a:rPr>
              <a:t>Módulo de elasticidad del macizo rocoso en función de los índice de calidad de macizo rocos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5400720" cy="38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1C8B-5F44-4C9B-A7BA-3E9D8AD1F1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ngulo de Fracturamiento y Esfuerzo Princip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lación entre la magnitud del esfuerzo principal y el ángulo de fractur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a relación permite entender el modo de fa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ngulo de mayor debilidad se produc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86480" y="1230480"/>
            <a:ext cx="2024280" cy="5002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851120" y="5931000"/>
                <a:ext cx="11383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286240" y="3984480"/>
            <a:ext cx="766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alla en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07040" y="4308480"/>
            <a:ext cx="804960" cy="16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D37E-8F81-427C-8DD2-DC1D7CB68B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lanos de fracturamiento vs Esfuerzo Deviator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esfuerzo deviatorico como factor causal de la falla para diferentes niveles de confi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onath, 19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cLamore and Gray, 19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69000" y="1469880"/>
            <a:ext cx="3286080" cy="4581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EAAC-315B-49CF-B76D-DFB08470F6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Esfuerzos in-situ &amp; induci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2280" y="1977840"/>
            <a:ext cx="83930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fuerzos in situ existen antes de las excav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fuerzos inducidos son los que resultan por la existencia de la excavación (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75CA-200B-48C8-99D7-CEF86ABB20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596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1. Excavaciones subterráneas: métodos de diseño Geomecán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923760" y="2486160"/>
            <a:ext cx="74487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e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roducción a criterios geomecánicos en el diseño de excav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istencia macizo rocoso (repa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fuerzos in-si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fuerzos inducidos por excav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luciones ana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Expresiones analít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97440" y="1925640"/>
            <a:ext cx="40608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3800" y="1836720"/>
            <a:ext cx="390060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0B74-DCFE-4C5F-829A-77689A9C92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ción de Kirsch en el contorno de la excavació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4400" y="2171520"/>
            <a:ext cx="4119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38840" y="1522440"/>
            <a:ext cx="3620880" cy="3444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12400" y="229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90120" y="295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31760" y="4408560"/>
                <a:ext cx="1351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39680" y="2905200"/>
                <a:ext cx="1428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800440" y="2838600"/>
            <a:ext cx="16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presion en las par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5040" y="4324320"/>
            <a:ext cx="16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ensión en el t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5D36-2D79-4EFC-BE4E-B06CFBB45B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Ejemplo de Kirsch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4400" y="2279520"/>
            <a:ext cx="41194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la condición de resistencia 16 MPa a la compresión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-26,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condición de resistencia a la tracción to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79, 1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4760" y="1905120"/>
            <a:ext cx="3695760" cy="36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943760" y="3600360"/>
            <a:ext cx="4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,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3486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2,5 M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D984-BA4B-46FB-AB68-DDD0D7AEAA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Zonas de falla y da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17600" y="1795320"/>
            <a:ext cx="4324320" cy="3865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657520" y="591516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f: Martin (1997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BC621-1CA4-4128-9C91-5DFDFB207C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Efecto de varias excavacione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6880" y="1724040"/>
            <a:ext cx="8393400" cy="3225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524844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suman los esfuerzos inducidos de cada exca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FEFB-3174-48B4-A66B-C923792C9C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</a:t>
            </a: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ño y sismic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utiliza un modelo numérico para estimar contorno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grafica el esfuerzo deviator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compara con una envolvente de falla del sistema minero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 último se obtiene con microsis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89520" y="3875040"/>
            <a:ext cx="2909880" cy="2600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102360" y="1120680"/>
            <a:ext cx="250020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FDA5-C309-4F1B-9A49-7E8EC6828D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tapas diseño geomecán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4181400" y="97164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acter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mecá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62320" y="188604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elo m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3240" y="2838600"/>
            <a:ext cx="224820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33880" y="373392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19600" y="4724280"/>
            <a:ext cx="327636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 maci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itor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57720" y="5705640"/>
            <a:ext cx="224784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ck anál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152800" y="1200240"/>
            <a:ext cx="1552320" cy="5086440"/>
            <a:chOff x="2152800" y="1200240"/>
            <a:chExt cx="1552320" cy="5086440"/>
          </a:xfrm>
        </p:grpSpPr>
        <p:sp>
          <p:nvSpPr>
            <p:cNvPr id="62" name=""/>
            <p:cNvSpPr/>
            <p:nvPr/>
          </p:nvSpPr>
          <p:spPr>
            <a:xfrm>
              <a:off x="2162160" y="1200240"/>
              <a:ext cx="9720" cy="5086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71880" y="120996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81240" y="228636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1240" y="321012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2160" y="4019760"/>
              <a:ext cx="152424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71880" y="504864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52800" y="626760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5992920" y="624960"/>
            <a:ext cx="549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676080" y="3466800"/>
            <a:ext cx="388620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ceso de análisis en ingeniería de ro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DC38-7753-44F7-8382-C79EB27A54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Criterios de diseño subterráneo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143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fuer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antificar el daño y diseñar so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47840" y="1231920"/>
            <a:ext cx="5996160" cy="421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A757-D0A8-43EC-9614-9C20CB23C0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Resistencia maciz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roceso de Escal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2133720" cy="134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flipH="1" rot="16200000">
            <a:off x="468360" y="1626480"/>
            <a:ext cx="21286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505320" y="4343400"/>
            <a:ext cx="1014840" cy="1600200"/>
            <a:chOff x="3505320" y="4343400"/>
            <a:chExt cx="1014840" cy="1600200"/>
          </a:xfrm>
        </p:grpSpPr>
        <p:sp>
          <p:nvSpPr>
            <p:cNvPr id="79" name=""/>
            <p:cNvSpPr/>
            <p:nvPr/>
          </p:nvSpPr>
          <p:spPr>
            <a:xfrm>
              <a:off x="3505320" y="4800600"/>
              <a:ext cx="228600" cy="6858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9440" y="4343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38520" y="5486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4680" y="49528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U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a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15040" y="1676520"/>
            <a:ext cx="3163680" cy="2373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69200" y="5029200"/>
            <a:ext cx="2652480" cy="764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racterización d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Macizo Roco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9080" y="16765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istencia 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cizo Rocos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905120"/>
            <a:ext cx="1524240" cy="83808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7" idx="1"/>
            <a:endCxn id="76" idx="0"/>
          </p:cNvCxnSpPr>
          <p:nvPr/>
        </p:nvCxnSpPr>
        <p:spPr>
          <a:xfrm rot="5400000">
            <a:off x="1182600" y="4145400"/>
            <a:ext cx="691200" cy="10440"/>
          </a:xfrm>
          <a:prstGeom prst="bentConnector3">
            <a:avLst>
              <a:gd name="adj1" fmla="val 4986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88" name=""/>
          <p:cNvCxnSpPr>
            <a:stCxn id="76" idx="3"/>
            <a:endCxn id="79" idx="1"/>
          </p:cNvCxnSpPr>
          <p:nvPr/>
        </p:nvCxnSpPr>
        <p:spPr>
          <a:xfrm flipV="1">
            <a:off x="2590920" y="5143320"/>
            <a:ext cx="915120" cy="24480"/>
          </a:xfrm>
          <a:prstGeom prst="straightConnector1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89" name=""/>
          <p:cNvCxnSpPr>
            <a:stCxn id="81" idx="0"/>
            <a:endCxn id="84" idx="2"/>
          </p:cNvCxnSpPr>
          <p:nvPr/>
        </p:nvCxnSpPr>
        <p:spPr>
          <a:xfrm flipH="1" flipV="1" rot="5400000">
            <a:off x="5194800" y="4242600"/>
            <a:ext cx="143640" cy="3258360"/>
          </a:xfrm>
          <a:prstGeom prst="bentConnector3">
            <a:avLst>
              <a:gd name="adj1" fmla="val -59798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90" name=""/>
          <p:cNvCxnSpPr>
            <a:stCxn id="84" idx="0"/>
            <a:endCxn id="83" idx="2"/>
          </p:cNvCxnSpPr>
          <p:nvPr/>
        </p:nvCxnSpPr>
        <p:spPr>
          <a:xfrm flipH="1" flipV="1" rot="5400000">
            <a:off x="6406920" y="4538160"/>
            <a:ext cx="980280" cy="2160"/>
          </a:xfrm>
          <a:prstGeom prst="bentConnector3">
            <a:avLst>
              <a:gd name="adj1" fmla="val 4988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955A-885B-4F70-8428-00796DBA56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2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 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(Hoek and Brown, 1980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31880" y="1800360"/>
            <a:ext cx="4768920" cy="42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E326-9BFD-478B-965C-46876775BA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Modelos Constitutivos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mayor confina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máxima aum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frágil a dúctil, comportamiento plá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residual aumenta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4632480" cy="31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618160" y="560376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Ensayos triaxiales en Marble Tenesse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Wawersik and Fairhurst, 19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14B1-400B-4456-9F52-EBE9345659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5736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E46B-6401-47CC-9457-F08DF2067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Raul Castro</cp:lastModifiedBy>
  <dcterms:modified xsi:type="dcterms:W3CDTF">2007-09-11T15:47:56Z</dcterms:modified>
  <cp:revision>243</cp:revision>
  <dc:subject/>
  <dc:title>Muestreo y Control de Calidad</dc:title>
</cp:coreProperties>
</file>