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wmf" ContentType="image/x-wmf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118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85840" y="-36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466200" y="887400"/>
            <a:ext cx="592956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5634000"/>
            <a:ext cx="50292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1126764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1126764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8AE5A1-3D85-4E9E-B888-BAABDD70B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5840" y="-36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63680" y="888840"/>
            <a:ext cx="5930640" cy="44481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5634000"/>
            <a:ext cx="5486400" cy="53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3FC5B-5BE3-4D41-8C39-2EB7B02E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4E131-EE42-4C2F-A8D7-C7D93C3D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8D182-35F5-48D6-875F-296EE394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689E4-69A5-44A0-98E5-C355CE99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C36DF-3E1B-49AA-A55E-3415C651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1D30E-5786-4D91-9E08-20D6EB94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8329F-934D-4432-957D-ED4A1570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C36C4-52D8-4017-BFE8-0C8283D2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42C12-16F2-44F6-83EF-3A27BC91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971C3-A507-4678-BC69-4F9FBAB1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B85CB-F782-4BA6-A29F-C9F8D4D9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B9FFC-5A39-4825-9FF7-E314FFA6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276D-AD9A-493B-88ED-572D50EDC3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Clasificación de macizo rocoso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Tahoma"/>
              </a:rPr>
              <a:t>Continuación…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tructuras y escala de trabaj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45964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Tipos de estruc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Geología estructu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ip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anos de estratifi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ieg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al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Zonas de ciza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ract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e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5208480" y="2576520"/>
            <a:ext cx="596880" cy="3478320"/>
          </a:xfrm>
          <a:custGeom>
            <a:avLst/>
            <a:gdLst>
              <a:gd name="textAreaLeft" fmla="*/ 0 w 596880"/>
              <a:gd name="textAreaRight" fmla="*/ 215640 w 596880"/>
              <a:gd name="textAreaTop" fmla="*/ 90720 h 3478320"/>
              <a:gd name="textAreaBottom" fmla="*/ 3387600 h 347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97760" y="4010040"/>
            <a:ext cx="2946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lanos de estratific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ividen rocas sedimentarias en estra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terrupciones en el proceso de deposit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uy persist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aterial puede ser diferente en plano de estratificación o haber sido sujeto a metamorf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ratos presentan cohesión entre ellos </a:t>
            </a: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alguna resistencia a la tracción (+ resistencia por fricci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positación en rocas sedimentarias puede generar planos de debilidad paralelos, según la orientación preferente de partículas en el plan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6520" y="2717640"/>
            <a:ext cx="41212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liegu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plicación de fuerzas tectónicas post-depositación generan cambios en posición de estr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clasifican de acuerdo a su geometría y form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teran la orientación local de los estr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ueden tener asociados sets de discontinu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51280" y="1349280"/>
            <a:ext cx="39117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Fall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racturas en las que se puede ver desplazamiento relativo a ambos lados del plano de fa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ser de gran extensión o ser estructuras loc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pesor de la falla puede ser de metros a milíme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elleno puede ser débil (arcillas) o de mayor resistencia (recementado), pero se produce alteración en las caras de la roca fall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generar fallamiento secundari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on zonas de baja resistencia al cor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13120" y="1287360"/>
            <a:ext cx="4121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Zonas de cizal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Zonas de varios metros donde se ha producido fallamiento por cizal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n zonas de relajo de esfuerzos en roca que no ha sido alterada </a:t>
            </a:r>
            <a:r>
              <a:rPr b="0" lang="es-C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irregula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perficies alterad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n zonas de baja resistencia al c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fíciles de identifi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18080" y="725400"/>
            <a:ext cx="1905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qu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trusiones largas y angostas, verticales de caras parale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eneralmente compuestas de roca ígnea de grano fi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pesor desde centímetros a varios me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llegar a ser de considerable l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ser más o menos resistentes a alterarse que la roca hués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ermiten el flujo de ag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estar asociados con estallidos de ro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99040" y="1349280"/>
            <a:ext cx="3216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Frac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 la estructura más común y la más significativa desde el punto de vista geomecá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on discontinuidades de origen geológico sin desplaz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ts de fractu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stemas de fractu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Venas o vetill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emento en fract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eneralmente de origen ígneo, pueden también ser sedimenta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ran influencia en hundibilidad (El Tenien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ueden ser más débiles o fuertes que la roca hués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6520" y="1889280"/>
            <a:ext cx="41212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Propiedades de las discontinuidad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570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Ori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nt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clin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rección de inclin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pa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er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ugos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per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997520" y="709560"/>
            <a:ext cx="3459240" cy="5745240"/>
            <a:chOff x="4997520" y="709560"/>
            <a:chExt cx="3459240" cy="57452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5023080" y="709560"/>
              <a:ext cx="3427920" cy="56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997520" y="5814000"/>
              <a:ext cx="345924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clasificación permite “escalar” propiedades de la roca intacta al macizo roc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rios métod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QD (Rock Quality Designation): mide largo de trozos recuperados mayores a 10 cm, dividido por largo total del testi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SR (Rock Structure Rating): integra geología + geometría + aguas subterráneas y condición de discontinu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MR (Rock Mass Rating): integra UCS + RQD + espaciamiento, condición y orientación de discontinuidades + aguas subterráne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RMR (Modified RMR): agrega esfuerzos in situ e inducidos y efectos de tronadura y alteración por exposi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 (Rock Tunneling Quality Index): RQD + número de sistemas, alteración, rugosidad y presencia de agua en discontinuidades + SRF (stress reduction fact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SI (Geological Strength Index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del macizo rocoso depende de las propiedades de las piezas de roca intacta que lo componen, así como de la posibilidad de que éstas roten o se desplacen bajo distintas condiciones de esfuer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movimiento de estas piezas está controlado por su forma y por la condición de las superficies que las sepa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GSI introducido por Hoek (1994) y modificado posteriormente es un sistema para estimar la reducción en resistencia del macizo rocoso para diferentes condiciones geológ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cizo rocoso con bloques (block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GSI Blocky" descr=""/>
          <p:cNvPicPr/>
          <p:nvPr/>
        </p:nvPicPr>
        <p:blipFill>
          <a:blip r:embed="rId1"/>
          <a:stretch/>
        </p:blipFill>
        <p:spPr>
          <a:xfrm>
            <a:off x="4921200" y="1155600"/>
            <a:ext cx="403056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cizo rocoso esquistoso - metamórf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GSI Schistose" descr=""/>
          <p:cNvPicPr/>
          <p:nvPr/>
        </p:nvPicPr>
        <p:blipFill>
          <a:blip r:embed="rId1"/>
          <a:stretch/>
        </p:blipFill>
        <p:spPr>
          <a:xfrm>
            <a:off x="4921200" y="1141560"/>
            <a:ext cx="40338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20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GSI no es un valor exacto, se trabaja con un ran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07080" y="1163520"/>
            <a:ext cx="4095720" cy="5694480"/>
            <a:chOff x="4807080" y="1163520"/>
            <a:chExt cx="4095720" cy="569448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1694" t="1081" r="2364" b="2320"/>
            <a:stretch/>
          </p:blipFill>
          <p:spPr>
            <a:xfrm>
              <a:off x="4807080" y="1163520"/>
              <a:ext cx="4095720" cy="56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279200" y="3735720"/>
              <a:ext cx="380160" cy="6134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79200" y="4349160"/>
              <a:ext cx="380160" cy="61380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70880" y="3735720"/>
              <a:ext cx="380160" cy="6134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65120" y="4349160"/>
              <a:ext cx="379800" cy="61380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73800" y="4969440"/>
              <a:ext cx="379800" cy="6134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5120" y="4969440"/>
              <a:ext cx="379800" cy="613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ccffff"/>
                </a:solidFill>
                <a:latin typeface="Tahoma"/>
              </a:rPr>
              <a:t>Estructura del macizo rocoso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rtamiento del macizo rocoso depende d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piedades de la roca intac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ru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ructuras pueden tener un efecto dominante en la respuesta del macizo a operaciones mine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fluye en elección del método de explotación y en el diseño y disposición de galer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uede control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bilidad de la excav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uces máximas a consider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equerimientos de fortific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ubsidencia, hundibilidad y frangmen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5445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Estructuras y Roca Intac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0"/>
            <a:ext cx="8675640" cy="6021360"/>
            <a:chOff x="0" y="0"/>
            <a:chExt cx="8675640" cy="6021360"/>
          </a:xfrm>
        </p:grpSpPr>
        <p:sp>
          <p:nvSpPr>
            <p:cNvPr id="122" name=""/>
            <p:cNvSpPr/>
            <p:nvPr/>
          </p:nvSpPr>
          <p:spPr>
            <a:xfrm>
              <a:off x="1116000" y="0"/>
              <a:ext cx="1800360" cy="573408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92360" y="0"/>
              <a:ext cx="6983280" cy="28526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88000" y="1341360"/>
              <a:ext cx="792000" cy="468000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24360" y="3429000"/>
              <a:ext cx="1368360" cy="7207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56000" y="4365720"/>
              <a:ext cx="1655640" cy="16556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341360"/>
              <a:ext cx="111600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user</cp:lastModifiedBy>
  <dcterms:modified xsi:type="dcterms:W3CDTF">2006-04-11T14:11:36Z</dcterms:modified>
  <cp:revision>243</cp:revision>
  <dc:subject/>
  <dc:title>Muestreo y Control de Calidad</dc:title>
</cp:coreProperties>
</file>