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wmf" ContentType="image/x-wm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118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466200" y="887400"/>
            <a:ext cx="5929560" cy="444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5634000"/>
            <a:ext cx="502920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1126764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7FA8DA-BC4D-4E14-B09C-9D519F04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885840" y="-360"/>
            <a:ext cx="297180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463680" y="888840"/>
            <a:ext cx="5930640" cy="44481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5634000"/>
            <a:ext cx="5486400" cy="533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FB199-04E4-424C-AC56-9259F49E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EEBA0-44B4-4B71-9E9A-B8FC6AE1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A187F-E450-4E64-8E8F-C2DE0C2F9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62D08-86DF-4CA8-830C-3B7D58B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42DE2-77F8-4C7D-A0E9-BC2DB53B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96659-CF7B-4C09-917E-21D1523D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D6F8A-D1AD-4B93-9BB7-4CB130DC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341BB-DF16-4ABE-9275-622B01B7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4D65B-94AB-44CD-AAEC-9ADF8624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3B406-BDE1-4CE4-BAFE-D64DA705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B2685-D55B-4C57-81C7-85294ED7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685A-0CAA-422F-AE0D-E9710CF1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BB3A-A8F0-423A-AF5D-FCC30C5B25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Tahoma"/>
              </a:rPr>
              <a:t>Continuación…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ffff"/>
                </a:solidFill>
                <a:latin typeface="Tahoma"/>
              </a:rPr>
              <a:t>Estructuras y escala de trabaj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459640" cy="43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Tipos de estru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Geología estruct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ip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anos de estratific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lie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al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cizal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Ven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5208480" y="2576520"/>
            <a:ext cx="596880" cy="3478320"/>
          </a:xfrm>
          <a:custGeom>
            <a:avLst/>
            <a:gdLst>
              <a:gd name="textAreaLeft" fmla="*/ 0 w 596880"/>
              <a:gd name="textAreaRight" fmla="*/ 215640 w 596880"/>
              <a:gd name="textAreaTop" fmla="*/ 90720 h 3478320"/>
              <a:gd name="textAreaBottom" fmla="*/ 3387600 h 347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97760" y="4010040"/>
            <a:ext cx="2946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Tahoma"/>
              </a:rPr>
              <a:t>Discontinu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anos de estratific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ividen rocas sedimentarias en estra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errupciones en el proceso de deposit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uy persist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Material puede ser diferente en plano de estratificación o haber sido sujeto a metamorfis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ratos presentan cohesión entre ellos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alguna resistencia a la tracción (+ resistencia por fricció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positación en rocas sedimentarias puede generar planos de debilidad paralelos, según la orientación preferente de partículas en el plan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6520" y="2717640"/>
            <a:ext cx="41212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Plieg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plicación de fuerzas tectónicas post-depositación generan cambios en posición de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clasifican de acuerdo a su geometría y form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Alteran la orientación local de los estra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n tener asociados sets de discontinuid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51280" y="1349280"/>
            <a:ext cx="3911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a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Fracturas en las que se puede ver desplazamiento relativo a ambos lados del plano de fa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de gran extensión o ser estructuras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 la falla puede ser de metros a milí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Relleno puede ser débil (arcillas) o de mayor resistencia (recementado), pero se produce alteración en las caras de la roca fall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generar fallamiento secundari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713120" y="1287360"/>
            <a:ext cx="4121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Zonas de cizal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Zonas de varios metros donde se ha producido fallamiento por cizal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relajo de esfuerzos en roca que no ha sido alterad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irregula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uperficies alterad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on zonas de baja resistencia al c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fíciles de identifi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518080" y="725400"/>
            <a:ext cx="1905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qu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Intrusiones largas y angostas, verticales de caras parale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eneralmente compuestas de roca ígnea de grano fi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pesor desde centímetros a varios met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llegar a ser de considerabl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ser más o menos resistentes a alterarse que la roca huésp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ermiten el fluj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n estar asociados con estallidos de ro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99040" y="1349280"/>
            <a:ext cx="3216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Fractur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 la estructura más común y la más significativa desde el punto de vista geomecán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on discontinuidades de origen geológico sin desplaz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et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Sistemas de fractur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Venas o vetilla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emento en fr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eneralmente de origen ígneo, pueden también ser sedimentar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Gran influencia en hundibilidad (El Tenient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n ser más débiles o fuertes que la roca huésp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646520" y="1889280"/>
            <a:ext cx="412128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Propiedades de las discontinuidad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570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Ori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rección de inclin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spa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er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ugo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Apertu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997520" y="709560"/>
            <a:ext cx="3459240" cy="5745240"/>
            <a:chOff x="4997520" y="709560"/>
            <a:chExt cx="3459240" cy="57452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5023080" y="709560"/>
              <a:ext cx="3427920" cy="56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4997520" y="5814000"/>
              <a:ext cx="34592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clasificación permite “escalar” propiedades de la roca intacta al macizo roco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arios métod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QD (Rock Quality Designation): mide largo de trozos recuperados mayores a 10 cm, dividido por largo total del testi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R (Rock Structure Rating): integra geología + geometría + aguas subterráneas y condición de discontinuidad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MR (Rock Mass Rating): integra UCS + RQD + espaciamiento, condición y orientación de discontinuidades + aguas subterrán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RMR (Modified RMR): agrega esfuerzos in situ e inducidos y efectos de tronadura y alteración por exposi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Q (Rock Tunneling Quality Index): RQD + número de sistemas, alteración, rugosidad y presencia de agua en discontinuidades + SRF (stress reduction factor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SI (Geological Strength Index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del macizo rocoso depende de las propiedades de las piezas de roca intacta que lo componen, así como de la posibilidad de que éstas roten o se desplacen bajo distintas condiciones de esfuer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movimiento de estas piezas está controlado por su forma y por la condición de las superficies que las sep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L GSI introducido por Hoek (1994) y modificado posteriormente es un sistema para estimar la reducción en resistencia del macizo rocoso para diferentes condiciones geológ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con bloques (block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GSI Blocky" descr=""/>
          <p:cNvPicPr/>
          <p:nvPr/>
        </p:nvPicPr>
        <p:blipFill>
          <a:blip r:embed="rId1"/>
          <a:stretch/>
        </p:blipFill>
        <p:spPr>
          <a:xfrm>
            <a:off x="4921200" y="1155600"/>
            <a:ext cx="403056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acizo rocoso esquistoso - metamórf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GSI Schistose" descr=""/>
          <p:cNvPicPr/>
          <p:nvPr/>
        </p:nvPicPr>
        <p:blipFill>
          <a:blip r:embed="rId1"/>
          <a:stretch/>
        </p:blipFill>
        <p:spPr>
          <a:xfrm>
            <a:off x="4921200" y="1141560"/>
            <a:ext cx="40338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GSI </a:t>
            </a: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(Geological Strength Index)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20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l GSI no es un valor exacto, se trabaja con un ran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07080" y="1163520"/>
            <a:ext cx="4095720" cy="5694480"/>
            <a:chOff x="4807080" y="1163520"/>
            <a:chExt cx="4095720" cy="569448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1694" t="1081" r="2364" b="2320"/>
            <a:stretch/>
          </p:blipFill>
          <p:spPr>
            <a:xfrm>
              <a:off x="4807080" y="1163520"/>
              <a:ext cx="4095720" cy="569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7279200" y="3735720"/>
              <a:ext cx="380160" cy="6134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79200" y="4349160"/>
              <a:ext cx="380160" cy="61380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70880" y="3735720"/>
              <a:ext cx="380160" cy="6134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65120" y="4349160"/>
              <a:ext cx="379800" cy="61380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273800" y="4969440"/>
              <a:ext cx="379800" cy="613440"/>
            </a:xfrm>
            <a:prstGeom prst="rect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65120" y="4969440"/>
              <a:ext cx="379800" cy="61344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ccffff"/>
                </a:solidFill>
                <a:latin typeface="Tahoma"/>
              </a:rPr>
              <a:t>Estructura del macizo rocoso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rtamiento del macizo rocoso depende d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ropiedades de la roca intac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ructu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tructuras pueden tener un efecto dominante en la respuesta del macizo a operaciones mine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fluye en elección del método de explotación y en el diseño y disposición de galerí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uede contro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bilidad de la excav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ces máximas a consider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Requerimientos de fortif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ubsidencia, hundibilidad y frangmen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5445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Tahoma"/>
              </a:rPr>
              <a:t>Estructuras y Roca Inta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0" y="0"/>
            <a:ext cx="8675640" cy="6021360"/>
            <a:chOff x="0" y="0"/>
            <a:chExt cx="8675640" cy="6021360"/>
          </a:xfrm>
        </p:grpSpPr>
        <p:sp>
          <p:nvSpPr>
            <p:cNvPr id="122" name=""/>
            <p:cNvSpPr/>
            <p:nvPr/>
          </p:nvSpPr>
          <p:spPr>
            <a:xfrm>
              <a:off x="1116000" y="0"/>
              <a:ext cx="1800360" cy="57340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0"/>
              <a:ext cx="6983280" cy="2852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88000" y="1341360"/>
              <a:ext cx="792000" cy="46800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24360" y="3429000"/>
              <a:ext cx="1368360" cy="7207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6000" y="4365720"/>
              <a:ext cx="1655640" cy="16556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341360"/>
              <a:ext cx="1116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user</cp:lastModifiedBy>
  <dcterms:modified xsi:type="dcterms:W3CDTF">2006-04-11T14:11:36Z</dcterms:modified>
  <cp:revision>243</cp:revision>
  <dc:subject/>
  <dc:title>Muestreo y Control de Calidad</dc:title>
</cp:coreProperties>
</file>