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118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584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466200" y="887400"/>
            <a:ext cx="59295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5634000"/>
            <a:ext cx="50292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1126764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1126764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26FDB9-1B92-4395-B085-3F1CBD468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584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63680" y="888840"/>
            <a:ext cx="5930640" cy="4448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5634000"/>
            <a:ext cx="5486400" cy="53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D44D1-18CD-463C-BDA4-88390103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FD38F-89FB-4F25-820A-8BEFBA1A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26AD1-6554-4571-8539-7D5C1B1A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19D12-5EAA-4D1D-BC96-B9C3D3E2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FAAEC-3905-4D13-BED7-B83EA06A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A0BC4-83DA-4472-ADB9-859427E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7C819-D87D-4188-9159-E73F4CB4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144EB-EF28-4407-A190-A2DEB07E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D3D92-35CB-436A-A550-029F7399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6F0D8-E1E4-4515-9B56-598266A4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F4B74-ABBE-438E-8B84-AE710BE2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69D43-3344-4858-920E-F93686E1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B498-4391-448A-8B1A-7B0F1AA9D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Clasificación de macizo rocoso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Tahoma"/>
              </a:rPr>
              <a:t>Continuación…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tructuras y escala de trabaj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45964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Tipos de estruc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Geología estruct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ip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os de estratif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ie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al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Zonas de ciza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r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e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208480" y="2576520"/>
            <a:ext cx="596880" cy="3478320"/>
          </a:xfrm>
          <a:custGeom>
            <a:avLst/>
            <a:gdLst>
              <a:gd name="textAreaLeft" fmla="*/ 0 w 596880"/>
              <a:gd name="textAreaRight" fmla="*/ 215640 w 596880"/>
              <a:gd name="textAreaTop" fmla="*/ 90720 h 3478320"/>
              <a:gd name="textAreaBottom" fmla="*/ 3387600 h 347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97760" y="4010040"/>
            <a:ext cx="2946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lanos de estratific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ividen rocas sedimentarias en estra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errupciones en el proceso de deposit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uy persist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terial puede ser diferente en plano de estratificación o haber sido sujeto a metamorf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ratos presentan cohesión entre ellos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alguna resistencia a la tracción (+ resistencia por fric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positación en rocas sedimentarias puede generar planos de debilidad paralelos, según la orientación preferente de partículas en el plan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6520" y="2717640"/>
            <a:ext cx="41212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lieg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plicación de fuerzas tectónicas post-depositación generan cambios en posición de estr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clasifican de acuerdo a su geometría y form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n la orientación local de los estr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n tener asociados sets de discontinu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51280" y="1349280"/>
            <a:ext cx="3911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all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racturas en las que se puede ver desplazamiento relativo a ambos lados del plano de fa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ser de gran extensión o ser estructuras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pesor de la falla puede ser de metros a milíme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lleno puede ser débil (arcillas) o de mayor resistencia (recementado), pero se produce alteración en las caras de la roca fall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generar fallamiento secundari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on zonas de baja resistencia al cor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13120" y="1287360"/>
            <a:ext cx="4121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Zonas de cizal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Zonas de varios metros donde se ha producido fallamiento por cizal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zonas de relajo de esfuerzos en roca que no ha sido alterada 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irregul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perficies alterad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zonas de baja resistencia al c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fíciles de identifi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18080" y="72540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q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rusiones largas y angostas, verticales de caras parale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eneralmente compuestas de roca ígnea de grano fi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pesor desde centímetros a varios me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llegar a ser de considerabl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ser más o menos resistentes a alterarse que la roca hués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ermiten el fluj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estar asociados con estallidos de ro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99040" y="1349280"/>
            <a:ext cx="3216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rac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 la estructura más común y la más significativa desde el punto de vista geomecá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on discontinuidades de origen geológico sin desplaz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ts de fractu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stemas de fractu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Venas o vetill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emento en fr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eneralmente de origen ígneo, pueden también ser sediment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ran influencia en hundibilidad (El Tenien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ueden ser más débiles o fuertes que la roca hués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6520" y="1889280"/>
            <a:ext cx="41212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ropiedades de las discontinuidad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570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ri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nt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cl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rección de incl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pa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er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ugo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per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997520" y="709560"/>
            <a:ext cx="3459240" cy="5745240"/>
            <a:chOff x="4997520" y="709560"/>
            <a:chExt cx="3459240" cy="57452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5023080" y="709560"/>
              <a:ext cx="3427920" cy="56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997520" y="5814000"/>
              <a:ext cx="345924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clasificación permite “escalar” propiedades de la roca intacta al 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rios méto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QD (Rock Quality Designation): mide largo de trozos recuperados mayores a 10 cm, dividido por largo total del testi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SR (Rock Structure Rating): integra geología + geometría + aguas subterráneas y condición de discontinu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MR (Rock Mass Rating): integra UCS + RQD + espaciamiento, condición y orientación de discontinuidades + aguas subterrán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RMR (Modified RMR): agrega esfuerzos in situ e inducidos y efectos de tronadura y alteración por exposi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 (Rock Tunneling Quality Index): RQD + número de sistemas, alteración, rugosidad y presencia de agua en discontinuidades + SRF (stress reduction fact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SI (Geological Strength Index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del macizo rocoso depende de las propiedades de las piezas de roca intacta que lo componen, así como de la posibilidad de que éstas roten o se desplacen bajo distintas condicione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movimiento de estas piezas está controlado por su forma y por la condición de las superficies que las sepa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GSI introducido por Hoek (1994) y modificado posteriormente es un sistema para estimar la reducción en resistencia del macizo rocoso para diferentes condiciones ge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cizo rocoso con bloques (block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GSI Blocky" descr=""/>
          <p:cNvPicPr/>
          <p:nvPr/>
        </p:nvPicPr>
        <p:blipFill>
          <a:blip r:embed="rId1"/>
          <a:stretch/>
        </p:blipFill>
        <p:spPr>
          <a:xfrm>
            <a:off x="4921200" y="1155600"/>
            <a:ext cx="40305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cizo rocoso esquistoso - metamórf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GSI Schistose" descr=""/>
          <p:cNvPicPr/>
          <p:nvPr/>
        </p:nvPicPr>
        <p:blipFill>
          <a:blip r:embed="rId1"/>
          <a:stretch/>
        </p:blipFill>
        <p:spPr>
          <a:xfrm>
            <a:off x="4921200" y="1141560"/>
            <a:ext cx="40338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20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GSI no es un valor exacto, se trabaja con un ran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07080" y="1163520"/>
            <a:ext cx="4095720" cy="5694480"/>
            <a:chOff x="4807080" y="1163520"/>
            <a:chExt cx="4095720" cy="56944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1694" t="1081" r="2364" b="2320"/>
            <a:stretch/>
          </p:blipFill>
          <p:spPr>
            <a:xfrm>
              <a:off x="4807080" y="1163520"/>
              <a:ext cx="4095720" cy="56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279200" y="3735720"/>
              <a:ext cx="380160" cy="6134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79200" y="4349160"/>
              <a:ext cx="380160" cy="61380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70880" y="3735720"/>
              <a:ext cx="380160" cy="6134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65120" y="4349160"/>
              <a:ext cx="379800" cy="6138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73800" y="4969440"/>
              <a:ext cx="379800" cy="6134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5120" y="4969440"/>
              <a:ext cx="379800" cy="613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ccffff"/>
                </a:solidFill>
                <a:latin typeface="Tahoma"/>
              </a:rPr>
              <a:t>Estructura del macizo rocoso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rtamiento del macizo rocoso depende d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piedades de la roca intac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s pueden tener un efecto dominante en la respuesta del macizo a operaciones min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fluye en elección del método de explotación y en el diseño y disposición de galer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uede control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bilidad de la exca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ces máximas a consider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equerimientos de fortif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ubsidencia, hundibilidad y frangmen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5445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Estructuras y Roca Inta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8675640" cy="6021360"/>
            <a:chOff x="0" y="0"/>
            <a:chExt cx="8675640" cy="6021360"/>
          </a:xfrm>
        </p:grpSpPr>
        <p:sp>
          <p:nvSpPr>
            <p:cNvPr id="122" name=""/>
            <p:cNvSpPr/>
            <p:nvPr/>
          </p:nvSpPr>
          <p:spPr>
            <a:xfrm>
              <a:off x="1116000" y="0"/>
              <a:ext cx="1800360" cy="573408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0"/>
              <a:ext cx="6983280" cy="2852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88000" y="1341360"/>
              <a:ext cx="792000" cy="46800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4360" y="3429000"/>
              <a:ext cx="1368360" cy="7207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56000" y="4365720"/>
              <a:ext cx="1655640" cy="1655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341360"/>
              <a:ext cx="111600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user</cp:lastModifiedBy>
  <dcterms:modified xsi:type="dcterms:W3CDTF">2006-04-11T14:11:36Z</dcterms:modified>
  <cp:revision>243</cp:revision>
  <dc:subject/>
  <dc:title>Muestreo y Control de Calidad</dc:title>
</cp:coreProperties>
</file>