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70A27-D0A6-44CE-AF0C-7F8371D2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0C2F1-EF21-4C9B-8BDE-4D7106E1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57619-B70A-445A-B2B8-488AA1DA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C5072-18C5-4A63-AAA6-9F8361C9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D634B-D8A9-4119-BF25-83CB7851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8BC8F-46C1-430B-B170-90985287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ED9BB-47D2-4B8A-B204-41D4ECAC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741EA-DFB0-4701-9BA5-72AC0E73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B4852-443B-451D-B9A1-1A000DB9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95BA0-200E-41B3-B499-DBCAD40E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2540C-BCD2-4F4A-94EB-ECB4E340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2906B-856C-4BF1-9B94-C67CA705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79800"/>
            <a:ext cx="7797600" cy="2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6D05-A1C2-4820-BDB6-71F706FA51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452320"/>
            <a:ext cx="74674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ccffff"/>
                </a:solidFill>
                <a:latin typeface="Tahoma"/>
              </a:rPr>
              <a:t>Propiedades de la roca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8092" t="0" r="9901" b="0"/>
          <a:stretch/>
        </p:blipFill>
        <p:spPr>
          <a:xfrm>
            <a:off x="243000" y="2577960"/>
            <a:ext cx="4976640" cy="3922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656320" y="3425760"/>
            <a:ext cx="30193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resistencia a la carga puntual se correlaciona con la resistencia a la compresión no confinada o simp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siguiente ecuación es un resultado empírico entre la resistencia a la carga puntual y la resistencia a la compresión simple (no válida para rocas débiles).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417840" y="5219640"/>
                <a:ext cx="23148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22360" y="2048040"/>
          <a:ext cx="7672320" cy="3939840"/>
        </p:xfrm>
        <a:graphic>
          <a:graphicData uri="http://schemas.openxmlformats.org/drawingml/2006/table">
            <a:tbl>
              <a:tblPr/>
              <a:tblGrid>
                <a:gridCol w="1130400"/>
                <a:gridCol w="901440"/>
                <a:gridCol w="774720"/>
                <a:gridCol w="1174680"/>
                <a:gridCol w="1846440"/>
                <a:gridCol w="184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Ter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niaxi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ompressiv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trengt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MP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int Loa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Index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MP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chmid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ardn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Type L - hammer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ield Estimate of Strengt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amples*</a:t>
                      </a:r>
                      <a:r>
                        <a:rPr b="1" lang="es-CL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5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tremely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gt;2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gt;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0-6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ock material only chipped under repeated hammer blow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resh basalt, chert, diabase, gneiss, granite, quatzi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Very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-2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-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0-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equires many blows of a geological hammer to break intact rock specime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Amphibolite, sandstone, basalt, gabbro, gneiss, granodiorite, limestone, marble rhyolite, tuff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0-1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-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0-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and held specimens broken by a single blow of a geological hamm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Limestone, marble, phyllite, sandstone, schist, shal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Medium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5-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-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5-3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irm blow with geological pick indents rock to 5mm, knife just scrapes su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laystone, coal, concrete, schist. shale, siltsto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-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lt;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Knife cuts material but too hard to shape into triaxial specime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halk, rocksalt, potas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Very 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-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Material crumbles under firm blows of geological pick, can be scraped with knif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ighly weathered or altered roc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tremely 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0.25-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Indented by thumbnai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lay goug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urabilidad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ide la tendencia de los componentes de la roca a degradarse, al exponerse al aire, agua, tiempo, e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 un concepto más aplicable a mecánica de suelos que a mecánica de ro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mide mediante un te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Tambor de 140 mm de diámetro y 100 mm de lar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aredes de un tamiz de 2 mm de apertu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500 grs de roca en 10 piez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tambor gira a 20 rpm durante 10 minutos en un baño de agu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e mide el porcentaje de roca retenida dentro del tamb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urabi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6280" y="2019240"/>
            <a:ext cx="82011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38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uede relacionarse con el grado de fracturamiento de la roca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en teoría depende solamente de las propiedades elásticas de las rocas y de la densidad de sus compon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mo la roca no es homogénea y presenta fisuras, éstas distorsionan el valor que resulta al medir la velocidad del sonido a través del espécim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uede calcular la </a:t>
            </a: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velocidad longitudinal teóric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usando composición y proporciones (y asumiendo que no hay fisuras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68560" y="4876920"/>
            <a:ext cx="501156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puede medir V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experimentalmente (considera las fisuras de la ro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define el índice de calidad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e índice de calidad puede correlacionarse con la porosidad mediante la siguiente relació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616200" y="3166920"/>
                <a:ext cx="19162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Q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/>
                        </m:sSubSup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63760" y="4916520"/>
                <a:ext cx="26211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Q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952880" cy="4197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299200" y="2511360"/>
            <a:ext cx="365760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Clasificación Geológica de las roca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idea es caracterizar ciertos parámetros de la roca que tiene que ver con su resis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stas características se pueden relacionar con las del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de el punto de vista genét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Ígne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dimentar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Metamórf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de el punto de vista del comportamient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extura cristali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extura clás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cas de granos muy fin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cas orgán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mportamiento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lástico y frági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lást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Visco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sótropo o anisótrop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Clasificación Geológica de las roca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scripción incluy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ex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osi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ipo de cementación en las discontinu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aclas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tenido de hume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o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69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orosidad: 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ndica la proporción entre la parte vacía de la roca (poros) y la parte sólida. Las porosidades normalmente fluctúan entre 0 y 40%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36720" y="4984920"/>
                <a:ext cx="3078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de por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19840" y="1143000"/>
            <a:ext cx="4124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5087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nsida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rresponde al peso por unidad de volu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 relacionarse con la mineralogía y constitución de los granos que forman la ro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Gravedad específic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 la densidad del material de interés dividida por la densidad del agua </a:t>
            </a: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medida adimen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nsidad del agua es 1g/cm3, lo que hace que, cuando se mide en estas unidades (o equivalentemente en ton/m3), el valor de la densidad y gravedad específica sea 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675480" y="2006640"/>
                <a:ext cx="15555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s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805360" y="4245120"/>
                <a:ext cx="28879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nsidad del materi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nsidad del agu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08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nsidad: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s gravedades específicas de minerales comunes fluctúan entre 2.0 (halita) y 7.0 (galena). Las rocas comunes tienen gravedades específicas entre 2.0 y 3.0 en la mayoría de los cas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438800" y="1415880"/>
          <a:ext cx="4771800" cy="4492800"/>
        </p:xfrm>
        <a:graphic>
          <a:graphicData uri="http://schemas.openxmlformats.org/drawingml/2006/table">
            <a:tbl>
              <a:tblPr/>
              <a:tblGrid>
                <a:gridCol w="1406520"/>
                <a:gridCol w="1062000"/>
                <a:gridCol w="1208160"/>
                <a:gridCol w="10951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ter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pecific Gravit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ter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pecific Gravit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Andes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Iron O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.5 - 5.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Basalt/Traproc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ead Ore (Galena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7.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al - Anthrac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imeston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3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al - Bituminou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1 - 1.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rbl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pper O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ica, schi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iabas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Quartz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ior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hyol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om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ock Sal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Earth (dry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6 - 1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andston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2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Earth (wet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hal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neis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la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7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ran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Talc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ypsum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3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eabilidad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ide de cierta forma la conexión existente entre poros, de modo que un fluido pueda movilizarse a través de la ro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permeabilidad </a:t>
            </a:r>
            <a:r>
              <a:rPr b="0" i="1" lang="es-CL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, se rige por la Ley de Dar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38240" y="3780000"/>
            <a:ext cx="4915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5384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meabilidad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k se mide en Darcy: 1 darcy = 9.86 x 10-9 cm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rmeabilidad de la roca intacta suele ser muy distinta de la permeabilidad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uede relacionar con la separación de grietas en el macizo rocoso, por lo que provee un índice cuantitativo de calidad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80120" y="1895400"/>
          <a:ext cx="2136960" cy="2425680"/>
        </p:xfrm>
        <a:graphic>
          <a:graphicData uri="http://schemas.openxmlformats.org/drawingml/2006/table">
            <a:tbl>
              <a:tblPr/>
              <a:tblGrid>
                <a:gridCol w="1054080"/>
                <a:gridCol w="10828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ock Typ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Porosity 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ran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5 - 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er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1 - 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.0 - 2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0.0 - 3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.0 - 2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om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0 - 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1 - 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sist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resistencia mide la competencia de la ro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mide mediante el ensayo de carga puntu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s(50)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es la resistencia a la carga puntual (rango típico va de 0.05 a 15 MP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 es la carga al momento de la rup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 es la distancia entre los puntos carg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73600" y="3063960"/>
                <a:ext cx="14032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Julián Ortiz Cabrera</cp:lastModifiedBy>
  <dcterms:modified xsi:type="dcterms:W3CDTF">2007-03-22T13:14:55Z</dcterms:modified>
  <cp:revision>280</cp:revision>
  <dc:subject/>
  <dc:title>Muestreo y Control de Calidad</dc:title>
</cp:coreProperties>
</file>