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11861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A2C02C-5C54-4CAC-88EB-CD5354D2F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400A5-21B9-404C-A8AB-10750FE0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C6188-B868-4E07-A45B-79B46E97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1ECF8-7595-4EE3-B4C7-F35CF4BA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90479-C66F-4B67-8462-C34DA1EB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EB88A-EE26-47C5-8551-9423B3BC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76C1D-BB5C-4824-AE98-A7628549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70063-CE40-4596-812D-C1539675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0462C-D6F4-4926-A917-D684D5C7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ABB3F-D97A-46FC-A959-01C20FD9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12F5A9-8914-42B6-AB86-FF8969CD0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EF341-99F7-4AB6-88A3-F0C5D997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79800"/>
            <a:ext cx="7797600" cy="23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720800"/>
            <a:ext cx="7467480" cy="15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6122-E7A7-4F20-A810-80659AD8D0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360" y="2452320"/>
            <a:ext cx="746748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ccffff"/>
                </a:solidFill>
                <a:latin typeface="Tahoma"/>
              </a:rPr>
              <a:t>Propiedades de la roca</a:t>
            </a:r>
            <a:endParaRPr b="0" lang="en-US" sz="48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ist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8092" t="0" r="9901" b="0"/>
          <a:stretch/>
        </p:blipFill>
        <p:spPr>
          <a:xfrm>
            <a:off x="243000" y="2577960"/>
            <a:ext cx="4976640" cy="3922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656320" y="3425760"/>
            <a:ext cx="30193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istencia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resistencia a la carga puntual se correlaciona con la resistencia a la compresión no confinada o simpl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siguiente ecuación es un resultado empírico entre la resistencia a la carga puntual y la resistencia a la compresión simple (no válida para rocas débiles).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417840" y="5219640"/>
                <a:ext cx="23148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Resiste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22360" y="2048040"/>
          <a:ext cx="7672320" cy="3939840"/>
        </p:xfrm>
        <a:graphic>
          <a:graphicData uri="http://schemas.openxmlformats.org/drawingml/2006/table">
            <a:tbl>
              <a:tblPr/>
              <a:tblGrid>
                <a:gridCol w="1130400"/>
                <a:gridCol w="901440"/>
                <a:gridCol w="774720"/>
                <a:gridCol w="1174680"/>
                <a:gridCol w="1846440"/>
                <a:gridCol w="18446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Term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Uniaxia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ompressiv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trengt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MP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Point Load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Index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MPa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chmidt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ardnes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(Type L - hammer)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Field Estimate of Strengt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xamples*</a:t>
                      </a:r>
                      <a:r>
                        <a:rPr b="1" lang="es-CL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5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xtremely 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&gt;2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&gt;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0-6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ock material only chipped under repeated hammer blow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fresh basalt, chert, diabase, gneiss, granite, quatzit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Very 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00-2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-1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40-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equires many blows of a geological hammer to break intact rock specime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Amphibolite, sandstone, basalt, gabbro, gneiss, granodiorite, limestone, marble rhyolite, tuff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3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0-10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-4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30-4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and held specimens broken by a single blow of a geological hammer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Limestone, marble, phyllite, sandstone, schist, shal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Medium Strong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25-5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-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5-3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Firm blow with geological pick indents rock to 5mm, knife just scrapes surfac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laystone, coal, concrete, schist. shale, siltsto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Wea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5-2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&lt;1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Knife cuts material but too hard to shape into triaxial specime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halk, rocksalt, potash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R0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Very Wea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1-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Material crumbles under firm blows of geological pick, can be scraped with knif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highly weathered or altered roc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Extremely Weak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0.25-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Indented by thumbnail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900" spc="-1" strike="noStrike">
                          <a:solidFill>
                            <a:srgbClr val="0000cc"/>
                          </a:solidFill>
                          <a:latin typeface="Arial"/>
                          <a:ea typeface="Times New Roman"/>
                        </a:rPr>
                        <a:t>clay goug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urabilidad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Mide la tendencia de los componentes de la roca a degradarse, al exponerse al aire, agua, tiempo, e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 un concepto más aplicable a mecánica de suelos que a mecánica de roc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mide mediante un tes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Tambor de 140 mm de diámetro y 100 mm de larg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aredes de un tamiz de 2 mm de apertu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500 grs de roca en 10 piez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l tambor gira a 20 rpm durante 10 minutos en un baño de agu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e mide el porcentaje de roca retenida dentro del tamb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urabil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6280" y="2019240"/>
            <a:ext cx="820116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74760" y="1348920"/>
            <a:ext cx="8393040" cy="38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Velocidad són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uede relacionarse con el grado de fracturamiento de la roca </a:t>
            </a:r>
            <a:r>
              <a:rPr b="0" lang="es-CL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en teoría depende solamente de las propiedades elásticas de las rocas y de la densidad de sus component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omo la roca no es homogénea y presenta fisuras, éstas distorsionan el valor que resulta al medir la velocidad del sonido a través del espécim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uede calcular la </a:t>
            </a:r>
            <a:r>
              <a:rPr b="1" lang="es-CL" sz="2400" spc="-1" strike="noStrike">
                <a:solidFill>
                  <a:srgbClr val="ffffff"/>
                </a:solidFill>
                <a:latin typeface="Tahoma"/>
              </a:rPr>
              <a:t>velocidad longitudinal teórica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usando composición y proporciones (y asumiendo que no hay fisuras)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68560" y="4876920"/>
            <a:ext cx="5011560" cy="18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39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Velocidad sónic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puede medir V</a:t>
            </a:r>
            <a:r>
              <a:rPr b="0" lang="es-MX" sz="2400" spc="-1" strike="noStrike" baseline="-25000">
                <a:solidFill>
                  <a:srgbClr val="ffffff"/>
                </a:solidFill>
                <a:latin typeface="Tahom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experimentalmente (considera las fisuras de la ro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Se define el índice de calidad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e índice de calidad puede correlacionarse con la porosidad mediante la siguiente relación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616200" y="3166920"/>
                <a:ext cx="1916280" cy="8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Q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/>
                        </m:sSubSup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263760" y="4916520"/>
                <a:ext cx="26211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Q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Velocidad sónic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952880" cy="4197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299200" y="2511360"/>
            <a:ext cx="365760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Clasificación Geológica de las roca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La idea es caracterizar ciertos parámetros de la roca que tiene que ver con su resis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Estas características se pueden relacionar con las del macizo rocos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de el punto de vista genétic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Ígne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Sedimentari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Metamórf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Desde el punto de vista del comportamiento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extura cristalin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Textura clást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cas de granos muy fin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ocas orgánic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omportamiento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Elástico y frági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Plást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Viscos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Isótropo o anisótrop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ffff"/>
                </a:solidFill>
                <a:latin typeface="Tahoma"/>
              </a:rPr>
              <a:t>Clasificación Geológica de las roca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Descripción incluy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ext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mposi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ipo de cementación en las discontinuida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aclasamien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ontenido de humed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Po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690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orosidad: </a:t>
            </a: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Indica la proporción entre la parte vacía de la roca (poros) y la parte sólida. Las porosidades normalmente fluctúan entre 0 y 40%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0" y="31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936720" y="4984920"/>
                <a:ext cx="3078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de poro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019840" y="1143000"/>
            <a:ext cx="41241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50878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Densida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rresponde al peso por unidad de volu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uede relacionarse con la mineralogía y constitución de los granos que forman la ro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Gravedad específic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 la densidad del material de interés dividida por la densidad del agua </a:t>
            </a:r>
            <a:r>
              <a:rPr b="0" lang="es-C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 medida adimen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Densidad del agua es 1g/cm3, lo que hace que, cuando se mide en estas unidades (o equivalentemente en ton/m3), el valor de la densidad y gravedad específica sea el mismo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675480" y="2006640"/>
                <a:ext cx="155556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eso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805360" y="4245120"/>
                <a:ext cx="28879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nsidad del materia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nsidad del agu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082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Densidad: 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s gravedades específicas de minerales comunes fluctúan entre 2.0 (halita) y 7.0 (galena). Las rocas comunes tienen gravedades específicas entre 2.0 y 3.0 en la mayoría de los caso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438800" y="1415880"/>
          <a:ext cx="4771800" cy="4492800"/>
        </p:xfrm>
        <a:graphic>
          <a:graphicData uri="http://schemas.openxmlformats.org/drawingml/2006/table">
            <a:tbl>
              <a:tblPr/>
              <a:tblGrid>
                <a:gridCol w="1406520"/>
                <a:gridCol w="1062000"/>
                <a:gridCol w="1208160"/>
                <a:gridCol w="109512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ter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pecific Gravit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teri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pecific Gravity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Andes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5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Iron O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4.5 - 5.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Basalt/Traproc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8 - 3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ead Ore (Galena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7.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al - Anthrac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imeston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3 - 2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al - Bituminou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1 - 1.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arbl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4 - 2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Copper O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Mica, schi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5 - 2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iabas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3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Quartz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ior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8 - 3.0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Rhyol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4 - 2.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olom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8 - 2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Rock Sal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5 - 2.6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Earth (dry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6 - 1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andston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2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Earth (wet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hal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4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neiss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9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la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7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ranit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7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Talc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6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ypsum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2.3 - 2.8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Permeabilidad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Mide de cierta forma la conexión existente entre poros, de modo que un fluido pueda movilizarse a través de la roca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permeabilidad </a:t>
            </a:r>
            <a:r>
              <a:rPr b="0" i="1" lang="es-CL" sz="28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, se rige por la Ley de Dar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38240" y="3780000"/>
            <a:ext cx="49150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5384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Permeabilidad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k se mide en Darcy: 1 darcy = 9.86 x 10-9 cm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ermeabilidad de la roca intacta suele ser muy distinta de la permeabilidad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uede relacionar con la separación de grietas en el macizo rocoso, por lo que provee un índice cuantitativo de calidad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80120" y="1895400"/>
          <a:ext cx="2136960" cy="2425680"/>
        </p:xfrm>
        <a:graphic>
          <a:graphicData uri="http://schemas.openxmlformats.org/drawingml/2006/table">
            <a:tbl>
              <a:tblPr/>
              <a:tblGrid>
                <a:gridCol w="1054080"/>
                <a:gridCol w="108288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Rock Typ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Porosity %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Gran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.5 - 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oler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.1 - 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andst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.0 - 2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Sh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0.0 - 3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Limeston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5.0 - 20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Dolom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1.0 - 5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Quartz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0.1 - 0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1d5b9"/>
                      </a:solidFill>
                    </a:lnL>
                    <a:lnR w="5760">
                      <a:solidFill>
                        <a:srgbClr val="e1d5b9"/>
                      </a:solidFill>
                    </a:lnR>
                    <a:lnT w="5760">
                      <a:solidFill>
                        <a:srgbClr val="e1d5b9"/>
                      </a:solidFill>
                    </a:lnT>
                    <a:lnB w="5760">
                      <a:solidFill>
                        <a:srgbClr val="e1d5b9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ffff"/>
                </a:solidFill>
                <a:latin typeface="Tahoma"/>
              </a:rPr>
              <a:t>Propieda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Resistenci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La resistencia mide la competencia de la ro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e mide mediante el ensayo de carga puntua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CL" sz="2400" spc="-1" strike="noStrike" baseline="-25000">
                <a:solidFill>
                  <a:srgbClr val="ffffff"/>
                </a:solidFill>
                <a:latin typeface="Tahoma"/>
              </a:rPr>
              <a:t>s(50)</a:t>
            </a: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 es la resistencia a la carga puntual (rango típico va de 0.05 a 15 MP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P es la carga al momento de la rupt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D es la distancia entre los puntos carg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873600" y="3063960"/>
                <a:ext cx="14032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Julián Ortiz Cabrera</cp:lastModifiedBy>
  <dcterms:modified xsi:type="dcterms:W3CDTF">2007-03-22T13:14:55Z</dcterms:modified>
  <cp:revision>280</cp:revision>
  <dc:subject/>
  <dc:title>Muestreo y Control de Calidad</dc:title>
</cp:coreProperties>
</file>