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B1BF2-88D4-491C-B974-0BEEBA4A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9BE24-C1F2-494F-877A-9D8048AC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9911E-058C-4BC0-A4B1-128BD95A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659EB-A47A-4B91-99A7-176542DE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7DDF1-4A3A-4D1A-95F5-E574BDA4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50A94-81CE-41DF-BD8E-085219E8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DB7EF-4F61-43C6-93A8-73DB663B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8967D-F3BB-4C50-A348-1D44726E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3572B-4035-4998-BB5A-66B15175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E938C-BF39-4547-8F5F-BC713385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90CB5-F167-4126-BAA5-988B18DA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CC9B0-104B-49A5-8D9E-6C0AE2BA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B86B-C084-47A8-94CA-2256AB2437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variantes de esfuerz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556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ideremos un esfuerzo normal a abc de magnitu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 componentes de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cción en abc quedan definidas p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or lo tan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12000" y="1332000"/>
            <a:ext cx="3132000" cy="450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27520" y="2784600"/>
            <a:ext cx="1789200" cy="960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93880" y="4049640"/>
            <a:ext cx="3851280" cy="1095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65120" y="5573880"/>
            <a:ext cx="520560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67352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Rotación de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cuerpo rígido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en torno a eje 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imilarmente, rotaciones en torno a ejes y y 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splazamiento total por varias rot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46720" y="1211400"/>
            <a:ext cx="3797280" cy="3782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13040" y="1763640"/>
            <a:ext cx="1965240" cy="952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0" t="0" r="0" b="4127"/>
          <a:stretch/>
        </p:blipFill>
        <p:spPr>
          <a:xfrm>
            <a:off x="809640" y="3608280"/>
            <a:ext cx="162864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684520" y="3608280"/>
            <a:ext cx="1884240" cy="849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158760" y="5270400"/>
            <a:ext cx="2511360" cy="1092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2843280" y="5261040"/>
            <a:ext cx="4411440" cy="1098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7407360" y="5678640"/>
            <a:ext cx="14922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67352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ongación en dirección 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milarmente, elongaciones en  y y 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istorsión en el plano xy (considerando ángulo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pequeño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54840" y="1330200"/>
            <a:ext cx="3089160" cy="2252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03320" y="1730520"/>
            <a:ext cx="1617840" cy="820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766880" y="3259080"/>
            <a:ext cx="1832040" cy="1198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019920" y="3962520"/>
            <a:ext cx="3124080" cy="2895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1844640" y="5618160"/>
            <a:ext cx="164160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gnitud de la deformación de cor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milarmen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nsiderando elongación (deformación lineal pura) y distorsión (deformación de corte pura) en todas las direcc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36640" y="1782720"/>
            <a:ext cx="1977840" cy="611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40160" y="1865160"/>
            <a:ext cx="1014480" cy="403200"/>
          </a:xfrm>
          <a:prstGeom prst="rightArrow">
            <a:avLst>
              <a:gd name="adj1" fmla="val 50000"/>
              <a:gd name="adj2" fmla="val 62902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857840" y="1692360"/>
            <a:ext cx="1535040" cy="828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943360" y="2671920"/>
            <a:ext cx="1631880" cy="806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834080" y="2662200"/>
            <a:ext cx="1560240" cy="819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184320" y="4495680"/>
            <a:ext cx="3670200" cy="1363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4008600" y="4486320"/>
            <a:ext cx="4809960" cy="1380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2217600" y="6113520"/>
            <a:ext cx="2357640" cy="547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7320" y="6107040"/>
            <a:ext cx="1094040" cy="444600"/>
          </a:xfrm>
          <a:prstGeom prst="rightArrow">
            <a:avLst>
              <a:gd name="adj1" fmla="val 50000"/>
              <a:gd name="adj2" fmla="val 61518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43360" y="617544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Matriz de deform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87680" y="6208560"/>
            <a:ext cx="469800" cy="373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6634080" y="1239840"/>
            <a:ext cx="250992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eform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bemos sumar el movimiento de cuerpo rígido con la deformación por elongación y distors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843280" y="3110040"/>
            <a:ext cx="3457440" cy="637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70000" y="4044960"/>
            <a:ext cx="860904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eform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059680" cy="19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nentes de deformación norm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nentes de deformación de cor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430360" y="1909800"/>
            <a:ext cx="4287960" cy="725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069920" y="3218040"/>
            <a:ext cx="1755720" cy="134748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4575240" y="3489480"/>
            <a:ext cx="4568760" cy="2462040"/>
            <a:chOff x="4575240" y="3489480"/>
            <a:chExt cx="4568760" cy="2462040"/>
          </a:xfrm>
        </p:grpSpPr>
        <p:pic>
          <p:nvPicPr>
            <p:cNvPr id="198" name="" descr=""/>
            <p:cNvPicPr/>
            <p:nvPr/>
          </p:nvPicPr>
          <p:blipFill>
            <a:blip r:embed="rId3"/>
            <a:srcRect l="0" t="38899" r="0" b="0"/>
            <a:stretch/>
          </p:blipFill>
          <p:spPr>
            <a:xfrm>
              <a:off x="4575240" y="4156200"/>
              <a:ext cx="4568760" cy="17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4"/>
            <a:srcRect l="0" t="0" r="0" b="68778"/>
            <a:stretch/>
          </p:blipFill>
          <p:spPr>
            <a:xfrm>
              <a:off x="4575240" y="3489480"/>
              <a:ext cx="4568760" cy="91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840040" y="3903840"/>
            <a:ext cx="1735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080" y="4653000"/>
            <a:ext cx="4286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mpletamente definido por 6 componentes independientes, relacionadas con los gradientes de desplaz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n gener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755720" y="1955880"/>
            <a:ext cx="5638680" cy="2000160"/>
            <a:chOff x="1755720" y="1955880"/>
            <a:chExt cx="5638680" cy="200016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1755720" y="1955880"/>
              <a:ext cx="56386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6907320" y="2841480"/>
              <a:ext cx="463320" cy="81612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n gener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755720" y="1955880"/>
            <a:ext cx="5638680" cy="2000160"/>
            <a:chOff x="1755720" y="1955880"/>
            <a:chExt cx="5638680" cy="2000160"/>
          </a:xfrm>
        </p:grpSpPr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1755720" y="1955880"/>
              <a:ext cx="56386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907320" y="2841480"/>
              <a:ext cx="463320" cy="81612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157480" y="2544840"/>
            <a:ext cx="50652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47840" y="3030480"/>
            <a:ext cx="330120" cy="1795680"/>
          </a:xfrm>
          <a:prstGeom prst="downArrow">
            <a:avLst>
              <a:gd name="adj1" fmla="val 50000"/>
              <a:gd name="adj2" fmla="val 135987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4880" y="2522520"/>
            <a:ext cx="50616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75240" y="3008160"/>
            <a:ext cx="330120" cy="1795680"/>
          </a:xfrm>
          <a:prstGeom prst="downArrow">
            <a:avLst>
              <a:gd name="adj1" fmla="val 50000"/>
              <a:gd name="adj2" fmla="val 135987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5840" y="5091120"/>
            <a:ext cx="28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ormación de corte de ingenier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5240" y="5110200"/>
            <a:ext cx="28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ormación de corte tens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otación: se deben usar los valores tensori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jemplo: rotación a nuevo sistema abc a partir de una rotación en torno a z con ángulo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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235160" y="3794040"/>
            <a:ext cx="7051680" cy="2870280"/>
            <a:chOff x="1235160" y="3794040"/>
            <a:chExt cx="7051680" cy="287028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1238400" y="3794040"/>
              <a:ext cx="7048440" cy="15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"/>
            <a:srcRect l="-5169" t="0" r="-78852" b="0"/>
            <a:stretch/>
          </p:blipFill>
          <p:spPr>
            <a:xfrm>
              <a:off x="1235160" y="5246640"/>
              <a:ext cx="7047000" cy="141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tado de deform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ensor se trata igual que el de esfuerz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onde se tiene deformaciones deviatóricas norm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s deformaciones deviatóricas de corte son simplemente las deformaciones de corte tensor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346560" y="1779480"/>
            <a:ext cx="2457360" cy="1295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560680" y="3516480"/>
            <a:ext cx="4029120" cy="1428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rcRect l="0" t="0" r="0" b="2656"/>
          <a:stretch/>
        </p:blipFill>
        <p:spPr>
          <a:xfrm>
            <a:off x="1936800" y="5346720"/>
            <a:ext cx="527688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formación isótropa o volumétrica se relaciona con la dilatación D o cambio en el volumen por unidad de volumen original de materi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formación deviatórica se relaciona con un cambio en la for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770280" y="2936880"/>
            <a:ext cx="16081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variantes de esfuerz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resuelve poniendo el determinante de la matriz igual a 0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cuación de tercer gra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os coeficientes son los llamados invariantes de esfuerz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oluciones corresponden a los esfuerzos principales (valores propios). Direcciones se calculan con los vectores propi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124080" y="2158920"/>
            <a:ext cx="2900520" cy="443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71440" y="3328920"/>
            <a:ext cx="712656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odo problema en mecánica de sólidos debe satisfacer ecuaciones diferenciales de equilibrio estático y ecuaciones de compatibilidad de deformacion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6400" y="3583080"/>
            <a:ext cx="4038840" cy="2646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603760" y="3583080"/>
            <a:ext cx="3036960" cy="858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979880" y="4772160"/>
            <a:ext cx="416412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idea ahora es relacionar la descripción de los esfuerzos a los que está sometido un cuerpo con las deformaciones que sufrirá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ara ello, es necesario conocer el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</a:rPr>
              <a:t>comportamiento constitutivo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l mate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xisten varios model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astic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lastic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Viscos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sliza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binaciones de estos comportamien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fuerzos y deformaciones se relacionan por medio de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</a:rPr>
              <a:t>ecuaciones constitutivas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cualquiera de estos mode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7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Elasticidad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es un modelo frecuente en mecánica, incluyendo mecánica de roca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constituye una buena base para describir comportamientos más comple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ideremos esfuerzos y deformaciones en forma de vectores de seis componentes independient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846440" y="4205160"/>
            <a:ext cx="5457600" cy="2652840"/>
            <a:chOff x="1846440" y="4205160"/>
            <a:chExt cx="5457600" cy="265284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1846440" y="4205160"/>
              <a:ext cx="5457600" cy="26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4079880" y="5033880"/>
              <a:ext cx="990720" cy="905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Forma general de la relación esfuerzo-deform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da elemento  de S se denomina </a:t>
            </a: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módulo elás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36 elementos independient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Matriz es simétric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21 elementos inde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77880" y="2379600"/>
            <a:ext cx="4840200" cy="1714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54840" y="3071880"/>
            <a:ext cx="22572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4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Forma inver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triz D es la </a:t>
            </a: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matriz de elasticidad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o de rigidez elás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 el caso general de anisotropía hay 21 elementos independien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so de </a:t>
            </a:r>
            <a:r>
              <a:rPr b="1" lang="es-CL" sz="2800" spc="-1" strike="noStrike">
                <a:solidFill>
                  <a:srgbClr val="ffff00"/>
                </a:solidFill>
                <a:latin typeface="Tahoma"/>
              </a:rPr>
              <a:t>elasticidad isótropa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se reduce 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997440" y="1366920"/>
            <a:ext cx="2352600" cy="514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80880" y="4329000"/>
            <a:ext cx="83883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ey de Hooke para elasticidad isótrop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: módulo de Yo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: módulo de rigidez (o de cor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: razón de Pois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000080" y="2108160"/>
            <a:ext cx="4714920" cy="1028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202440" y="2109960"/>
            <a:ext cx="2104920" cy="1028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325600" y="3384720"/>
            <a:ext cx="2638440" cy="12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astan dos constantes para definir el siste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forma inversa, se tiene (ecuaciones de Lamé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nstante de Lam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240" y="2305080"/>
            <a:ext cx="9144000" cy="2509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122560" y="5183280"/>
            <a:ext cx="1941480" cy="4269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4264200" y="5183280"/>
            <a:ext cx="1215720" cy="396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25320" y="5149800"/>
            <a:ext cx="1239840" cy="349200"/>
          </a:xfrm>
          <a:prstGeom prst="leftRightArrow">
            <a:avLst>
              <a:gd name="adj1" fmla="val 50000"/>
              <a:gd name="adj2" fmla="val 70681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3754440" y="5791320"/>
            <a:ext cx="384804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6013440" cy="36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tro caso (un poco más complejo): isotropía elástica transvers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uerpos con simetría en cualquier dirección de planos y simetría respecto a la dirección normal a los plan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Ocurre en material laminado, roca estratificada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cuaciones constitutivas elásticas para este caso (existen algunas restricciones adicionales para hacer válidas estas ecuaciones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continuidad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65960" y="1581120"/>
            <a:ext cx="2678040" cy="24717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08040" y="4727520"/>
            <a:ext cx="79326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inemát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l aplicar una fuerza o cambiar la temperatura de un cuerpo, ocurren 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cambios en las posiciones relativa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los puntos dentro del cuerp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cinemática estudia la geometría del movimi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ovimien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movimiento descrito corresponde a una 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deformació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sde el estado inicial al fi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adientes de desplazamien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50960" y="2771640"/>
            <a:ext cx="4048200" cy="78120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1649520" y="3738600"/>
            <a:ext cx="5850000" cy="342720"/>
            <a:chOff x="1649520" y="3738600"/>
            <a:chExt cx="5850000" cy="34272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649520" y="3738600"/>
              <a:ext cx="383868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"/>
            <a:srcRect l="604" t="0" r="-9527" b="-2781"/>
            <a:stretch/>
          </p:blipFill>
          <p:spPr>
            <a:xfrm>
              <a:off x="5486760" y="3747960"/>
              <a:ext cx="2012760" cy="33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022480" y="5332320"/>
            <a:ext cx="51055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inemát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v. instantáneo = Mov. Rígido + Deform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vimiento rígido: longitud del segmento no camb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MX" sz="2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MX" sz="2800" spc="-1" strike="noStrike" baseline="-25000">
                <a:solidFill>
                  <a:srgbClr val="ffffff"/>
                </a:solidFill>
                <a:latin typeface="Tahoma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689200" y="2444760"/>
            <a:ext cx="3772080" cy="51444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971720" y="5689440"/>
            <a:ext cx="1244520" cy="671400"/>
            <a:chOff x="1971720" y="5689440"/>
            <a:chExt cx="1244520" cy="671400"/>
          </a:xfrm>
        </p:grpSpPr>
        <p:sp>
          <p:nvSpPr>
            <p:cNvPr id="106" name=""/>
            <p:cNvSpPr/>
            <p:nvPr/>
          </p:nvSpPr>
          <p:spPr>
            <a:xfrm>
              <a:off x="1971720" y="5689440"/>
              <a:ext cx="1244520" cy="6714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158920" y="5898600"/>
              <a:ext cx="363600" cy="2746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519160" y="5653440"/>
            <a:ext cx="1379160" cy="981360"/>
            <a:chOff x="5519160" y="5653440"/>
            <a:chExt cx="1379160" cy="981360"/>
          </a:xfrm>
        </p:grpSpPr>
        <p:sp>
          <p:nvSpPr>
            <p:cNvPr id="109" name=""/>
            <p:cNvSpPr/>
            <p:nvPr/>
          </p:nvSpPr>
          <p:spPr>
            <a:xfrm rot="936600">
              <a:off x="5586480" y="5808240"/>
              <a:ext cx="1244520" cy="6714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749920" y="6003360"/>
              <a:ext cx="424080" cy="1666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62040" y="3392640"/>
            <a:ext cx="19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osición 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ord x, y, 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16600" y="3665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Trasl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32920" y="368604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o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42920" y="3413160"/>
            <a:ext cx="192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osición ini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ord x, y, 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8625200">
            <a:off x="2389680" y="3063240"/>
            <a:ext cx="781200" cy="220680"/>
          </a:xfrm>
          <a:prstGeom prst="rightArrow">
            <a:avLst>
              <a:gd name="adj1" fmla="val 50000"/>
              <a:gd name="adj2" fmla="val 88499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3776040" y="3161160"/>
            <a:ext cx="780840" cy="220680"/>
          </a:xfrm>
          <a:prstGeom prst="rightArrow">
            <a:avLst>
              <a:gd name="adj1" fmla="val 50000"/>
              <a:gd name="adj2" fmla="val 88458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4885560" y="3157920"/>
            <a:ext cx="780840" cy="220680"/>
          </a:xfrm>
          <a:prstGeom prst="rightArrow">
            <a:avLst>
              <a:gd name="adj1" fmla="val 50000"/>
              <a:gd name="adj2" fmla="val 88458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3175400">
            <a:off x="6010200" y="3044160"/>
            <a:ext cx="781200" cy="220680"/>
          </a:xfrm>
          <a:prstGeom prst="rightArrow">
            <a:avLst>
              <a:gd name="adj1" fmla="val 50000"/>
              <a:gd name="adj2" fmla="val 88499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59520" y="2284560"/>
            <a:ext cx="18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ovimiento ríg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os puntos P y Q, se desplazan a P* y Q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 u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,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,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v.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no, el cuerpo está sometido a deform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102120"/>
            <a:ext cx="4630680" cy="3240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75120" y="3583080"/>
            <a:ext cx="397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Deformación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: cambio de forma del cuerpo al desplazarse sus pu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Queremos definir el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stado de deformación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de un cuerp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efinir cambios en tamaño y forma de un elemento infinitesimal sometido a car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splazamiento increment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ado qu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58680" y="2914560"/>
            <a:ext cx="4183200" cy="2217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291360" y="3838680"/>
            <a:ext cx="1733400" cy="431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0" t="0" r="6696" b="0"/>
          <a:stretch/>
        </p:blipFill>
        <p:spPr>
          <a:xfrm>
            <a:off x="1133640" y="5735520"/>
            <a:ext cx="1657080" cy="540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862440" y="5541840"/>
            <a:ext cx="421164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Queremos definir el estado de deformación de un cuerp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efinir cambios en tamaño y forma de un elemento infinitesimal sometido a car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splazamiento increment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ado qu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58680" y="2914560"/>
            <a:ext cx="4183200" cy="2217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291360" y="3838680"/>
            <a:ext cx="1733400" cy="431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0" t="0" r="6696" b="0"/>
          <a:stretch/>
        </p:blipFill>
        <p:spPr>
          <a:xfrm>
            <a:off x="1133640" y="5735520"/>
            <a:ext cx="1657080" cy="540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862440" y="5541840"/>
            <a:ext cx="4211640" cy="1003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507440" y="3873600"/>
            <a:ext cx="469800" cy="372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736040" y="3404880"/>
            <a:ext cx="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34080" y="2600280"/>
            <a:ext cx="25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rgo original del segmento P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3865680"/>
            <a:ext cx="470160" cy="372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40480" y="4211640"/>
            <a:ext cx="111240" cy="3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15200" y="4457880"/>
            <a:ext cx="250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splazamiento rel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97200" y="2957400"/>
            <a:ext cx="470160" cy="711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132440" y="2717280"/>
            <a:ext cx="312480" cy="405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7920" y="220500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Gradientes de desplaz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2900520"/>
            <a:ext cx="1733760" cy="431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755720" y="2935440"/>
            <a:ext cx="469800" cy="372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984320" y="2466720"/>
            <a:ext cx="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82720" y="1662120"/>
            <a:ext cx="25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rgo original del segmento P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3120" y="2927520"/>
            <a:ext cx="469800" cy="372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9120" y="3273480"/>
            <a:ext cx="110880" cy="3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480" y="3519360"/>
            <a:ext cx="25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splazamiento rel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9811400">
            <a:off x="2914560" y="3043080"/>
            <a:ext cx="1660680" cy="349560"/>
          </a:xfrm>
          <a:prstGeom prst="rightArrow">
            <a:avLst>
              <a:gd name="adj1" fmla="val 50000"/>
              <a:gd name="adj2" fmla="val 118769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 rot="1788600">
            <a:off x="2914200" y="4254480"/>
            <a:ext cx="1660680" cy="348840"/>
          </a:xfrm>
          <a:prstGeom prst="rightArrow">
            <a:avLst>
              <a:gd name="adj1" fmla="val 50000"/>
              <a:gd name="adj2" fmla="val 119014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1440" y="217476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formación del elemento P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24360" y="4552920"/>
            <a:ext cx="38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cuerpo rígido del ele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Tahoma"/>
              </a:rPr>
              <a:t>Deformación normal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en x: acortamiento de una línea (unitaria) paralela a 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Tahoma"/>
              </a:rPr>
              <a:t>Deformación de corte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: es la pérdida en perpendicularidad de un par de ejes originalmente ortog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ositivo: ángulo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90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egativo: ángulo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 90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ociendo el estado de deformación en x, y, z y las deformaciones de corte, se puede calcular el estado de deformación para cualquier sistema coordenado (igual al caso de los esfuerz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user</cp:lastModifiedBy>
  <dcterms:modified xsi:type="dcterms:W3CDTF">2006-03-21T12:08:09Z</dcterms:modified>
  <cp:revision>268</cp:revision>
  <dc:subject/>
  <dc:title>Muestreo y Control de Calidad</dc:title>
</cp:coreProperties>
</file>