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E3A4B-8D62-4803-B51F-61275E9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92435-AAFA-4324-BB6E-6CA60A94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AC316-0C49-4151-A37B-4B9E857B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48507-9F6A-46DD-9DB9-EC7EBDAB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7C36-301F-4CC5-A912-FFC9EBB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B1F62-2CDA-4D3E-AAF3-16065027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48596-ACDA-4A1B-8853-991734E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DC50-419F-4DE5-A970-8D055EB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54CAA-F109-431D-BA16-611A8D0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A53B5-28E8-4BF8-B259-9FDDFD9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58B09-7CFD-4C0F-B048-E9FBF153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E7E8B-2FA9-47D6-A18C-BA74FCF5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309-2167-46EB-BD98-C8ED0C30C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556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emos un esfuerzo normal a abc de magnitu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componentes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cción en abc quedan definidas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r lo ta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12000" y="1332000"/>
            <a:ext cx="3132000" cy="45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27520" y="2784600"/>
            <a:ext cx="17892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3880" y="4049640"/>
            <a:ext cx="3851280" cy="109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5120" y="5573880"/>
            <a:ext cx="52056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otación de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uerpo rígid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n torno a eje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imilarmente, rotaciones en torno a ejes y y 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total por varias rot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46720" y="1211400"/>
            <a:ext cx="3797280" cy="378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13040" y="1763640"/>
            <a:ext cx="19652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0" b="4127"/>
          <a:stretch/>
        </p:blipFill>
        <p:spPr>
          <a:xfrm>
            <a:off x="809640" y="3608280"/>
            <a:ext cx="162864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684520" y="3608280"/>
            <a:ext cx="1884240" cy="849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8760" y="5270400"/>
            <a:ext cx="251136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843280" y="5261040"/>
            <a:ext cx="4411440" cy="109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407360" y="5678640"/>
            <a:ext cx="149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ongación en dirección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, elongaciones en  y y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torsión en el plano xy (considerando ángulo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pequeño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54840" y="1330200"/>
            <a:ext cx="3089160" cy="225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3320" y="1730520"/>
            <a:ext cx="1617840" cy="82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66880" y="3259080"/>
            <a:ext cx="1832040" cy="119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844640" y="5618160"/>
            <a:ext cx="16416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gnitud de la deformación de cor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iderando elongación (deformación lineal pura) y distorsión (deformación de corte pura) en todas las direc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6640" y="1782720"/>
            <a:ext cx="1977840" cy="611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40160" y="1865160"/>
            <a:ext cx="1014480" cy="403200"/>
          </a:xfrm>
          <a:prstGeom prst="rightArrow">
            <a:avLst>
              <a:gd name="adj1" fmla="val 50000"/>
              <a:gd name="adj2" fmla="val 6290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7840" y="16923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43360" y="2671920"/>
            <a:ext cx="1631880" cy="80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34080" y="2662200"/>
            <a:ext cx="1560240" cy="81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4320" y="4495680"/>
            <a:ext cx="3670200" cy="13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008600" y="4486320"/>
            <a:ext cx="4809960" cy="1380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17600" y="6113520"/>
            <a:ext cx="2357640" cy="54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7320" y="6107040"/>
            <a:ext cx="1094040" cy="444600"/>
          </a:xfrm>
          <a:prstGeom prst="rightArrow">
            <a:avLst>
              <a:gd name="adj1" fmla="val 50000"/>
              <a:gd name="adj2" fmla="val 61518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3360" y="617544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triz de deform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7680" y="6208560"/>
            <a:ext cx="469800" cy="373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634080" y="1239840"/>
            <a:ext cx="2509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bemos sumar el movimiento de cuerpo rígido con la deformación por elongación y distors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3280" y="3110040"/>
            <a:ext cx="3457440" cy="63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0000" y="4044960"/>
            <a:ext cx="86090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05968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nor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30360" y="1909800"/>
            <a:ext cx="42879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69920" y="3218040"/>
            <a:ext cx="17557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4575240" y="3489480"/>
            <a:ext cx="4568760" cy="2462040"/>
            <a:chOff x="4575240" y="3489480"/>
            <a:chExt cx="4568760" cy="246204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38899" r="0" b="0"/>
            <a:stretch/>
          </p:blipFill>
          <p:spPr>
            <a:xfrm>
              <a:off x="4575240" y="4156200"/>
              <a:ext cx="456876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rcRect l="0" t="0" r="0" b="68778"/>
            <a:stretch/>
          </p:blipFill>
          <p:spPr>
            <a:xfrm>
              <a:off x="4575240" y="3489480"/>
              <a:ext cx="4568760" cy="91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840040" y="3903840"/>
            <a:ext cx="1735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080" y="4653000"/>
            <a:ext cx="4286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letamente definido por 6 componentes independientes, relacionadas con los gradientes de desplaz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57480" y="2544840"/>
            <a:ext cx="50652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47840" y="303048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4880" y="2522520"/>
            <a:ext cx="50616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5240" y="300816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509112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de ingeni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240" y="511020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tens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otación: se deben usar los valores tenso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a nuevo sistema abc a partir de una rotación en torno a z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5160" y="3794040"/>
            <a:ext cx="7051680" cy="2870280"/>
            <a:chOff x="1235160" y="3794040"/>
            <a:chExt cx="7051680" cy="28702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1238400" y="3794040"/>
              <a:ext cx="70484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rcRect l="-5169" t="0" r="-78852" b="0"/>
            <a:stretch/>
          </p:blipFill>
          <p:spPr>
            <a:xfrm>
              <a:off x="1235160" y="5246640"/>
              <a:ext cx="7047000" cy="14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ado de de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sor se trata igual que el de esfuerz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onde se tiene deformaciones deviatóricas norm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s deformaciones deviatóricas de corte son simplemente las deformaciones de corte t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46560" y="1779480"/>
            <a:ext cx="24573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60680" y="3516480"/>
            <a:ext cx="402912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rcRect l="0" t="0" r="0" b="2656"/>
          <a:stretch/>
        </p:blipFill>
        <p:spPr>
          <a:xfrm>
            <a:off x="1936800" y="5346720"/>
            <a:ext cx="52768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isótropa o volumétrica se relaciona con la dilatación D o cambio en el volumen por unidad de volumen original de mater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deviatórica se relaciona con un cambio en la for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70280" y="2936880"/>
            <a:ext cx="1608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resuelve poniendo el determinante de la matriz igual a 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uación de tercer gr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s coeficientes son los llamados invariantes de esfuerz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luciones corresponden a los esfuerzos principales (valores propios). Direcciones se calculan con los vectores propi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2158920"/>
            <a:ext cx="2900520" cy="4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71440" y="3328920"/>
            <a:ext cx="71265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do problema en mecánica de sólidos debe satisfacer ecuaciones diferenciales de equilibrio estático y ecuaciones de compatibilidad de deformac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" y="358308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603760" y="3583080"/>
            <a:ext cx="3036960" cy="85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979880" y="4772160"/>
            <a:ext cx="416412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dea ahora es relacionar la descripción de los esfuerzos a los que está sometido un cuerpo con las deformaciones que sufri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ello, es necesario conocer el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comportamiento constitutiv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l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isten varios mode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isc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liz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binaciones de estos comportami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fuerzos y deformaciones se relacionan por medio de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ecuaciones constitutivas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cualquiera de estos mode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s un modelo frecuente en mecánica, incluyendo mecánica de roca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constituye una buena base para describir comportamientos más comple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sfuerzos y deformaciones en forma de vectores de seis componentes independi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46440" y="4205160"/>
            <a:ext cx="5457600" cy="2652840"/>
            <a:chOff x="1846440" y="4205160"/>
            <a:chExt cx="5457600" cy="26528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846440" y="4205160"/>
              <a:ext cx="545760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4079880" y="5033880"/>
              <a:ext cx="99072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orma general de la relación esfuerzo-deform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da elemento  de S se denomina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módulo elá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6 elementos independient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atriz es simétric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21 elementos ind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77880" y="2379600"/>
            <a:ext cx="4840200" cy="1714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54840" y="3071880"/>
            <a:ext cx="2257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orma inv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 es la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matriz de 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o de rigidez elá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caso general de anisotropía hay 21 elementos independi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so de </a:t>
            </a: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elasticidad isótrop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educe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97440" y="1366920"/>
            <a:ext cx="23526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4329000"/>
            <a:ext cx="838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ey de Hooke para elasticidad isótrop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: módulo de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: módulo de rigidez (o de cor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razón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00080" y="2108160"/>
            <a:ext cx="47149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02440" y="2109960"/>
            <a:ext cx="210492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325600" y="3384720"/>
            <a:ext cx="263844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tan dos constantes para definir e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forma inversa, se tiene (ecuaciones de Lamé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tante de Lam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" y="2305080"/>
            <a:ext cx="9144000" cy="2509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122560" y="5183280"/>
            <a:ext cx="1941480" cy="426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264200" y="5183280"/>
            <a:ext cx="1215720" cy="39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320" y="5149800"/>
            <a:ext cx="1239840" cy="349200"/>
          </a:xfrm>
          <a:prstGeom prst="leftRightArrow">
            <a:avLst>
              <a:gd name="adj1" fmla="val 50000"/>
              <a:gd name="adj2" fmla="val 70681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754440" y="5791320"/>
            <a:ext cx="38480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601344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tro caso (un poco más complejo): isotropía elástica trans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uerpos con simetría en cualquier dirección de planos y simetría respecto a la dirección normal a los pla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curre en material laminado, roca estratificad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cuaciones constitutivas elásticas para este caso (existen algunas restricciones adicionales para hacer válidas estas ecuaciones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nuidad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65960" y="1581120"/>
            <a:ext cx="267804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8040" y="4727520"/>
            <a:ext cx="79326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 aplicar una fuerza o cambiar la temperatura de un cuerpo, ocurren 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cambios en las posiciones relativ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los puntos dentro del cuerp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cinemática estudia la geometría del movi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ovi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ovimiento descrito corresponde a una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form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sde el estado inicial al f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dientes de desplaza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0960" y="2771640"/>
            <a:ext cx="4048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649520" y="3738600"/>
            <a:ext cx="5850000" cy="342720"/>
            <a:chOff x="1649520" y="3738600"/>
            <a:chExt cx="5850000" cy="342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649520" y="3738600"/>
              <a:ext cx="38386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604" t="0" r="-9527" b="-2781"/>
            <a:stretch/>
          </p:blipFill>
          <p:spPr>
            <a:xfrm>
              <a:off x="5486760" y="3747960"/>
              <a:ext cx="20127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22480" y="533232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. instantáneo = Mov. Rígido + De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imiento rígido: longitud del segmento no cam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89200" y="2444760"/>
            <a:ext cx="37720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971720" y="5689440"/>
            <a:ext cx="1244520" cy="671400"/>
            <a:chOff x="1971720" y="5689440"/>
            <a:chExt cx="1244520" cy="671400"/>
          </a:xfrm>
        </p:grpSpPr>
        <p:sp>
          <p:nvSpPr>
            <p:cNvPr id="106" name=""/>
            <p:cNvSpPr/>
            <p:nvPr/>
          </p:nvSpPr>
          <p:spPr>
            <a:xfrm>
              <a:off x="1971720" y="56894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58920" y="5898600"/>
              <a:ext cx="363600" cy="274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19160" y="5653440"/>
            <a:ext cx="1379160" cy="981360"/>
            <a:chOff x="5519160" y="5653440"/>
            <a:chExt cx="1379160" cy="981360"/>
          </a:xfrm>
        </p:grpSpPr>
        <p:sp>
          <p:nvSpPr>
            <p:cNvPr id="109" name=""/>
            <p:cNvSpPr/>
            <p:nvPr/>
          </p:nvSpPr>
          <p:spPr>
            <a:xfrm rot="936600">
              <a:off x="5586480" y="58082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749920" y="6003360"/>
              <a:ext cx="424080" cy="166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62040" y="339264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6600" y="3665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s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2920" y="36860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o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2920" y="341316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in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625200">
            <a:off x="2389680" y="306324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776040" y="316116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885560" y="315792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175400">
            <a:off x="6010200" y="304416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59520" y="2284560"/>
            <a:ext cx="18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vimiento rí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s puntos P y Q, se desplazan a P* y Q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v.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o, el cuerpo está sometido a de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463068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5120" y="3583080"/>
            <a:ext cx="39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eformación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mbio de forma del cuerpo al desplazarse sus p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stado de deformació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estado de deformación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07440" y="387360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36040" y="340488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34080" y="260028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65680"/>
            <a:ext cx="47016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0480" y="4211640"/>
            <a:ext cx="11124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5200" y="445788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97200" y="2957400"/>
            <a:ext cx="470160" cy="71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32440" y="2717280"/>
            <a:ext cx="31248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220500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Gradientes de desplaz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900520"/>
            <a:ext cx="173376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5720" y="293544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84320" y="246672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2720" y="166212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120" y="292752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9120" y="3273480"/>
            <a:ext cx="11088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351936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811400">
            <a:off x="2914560" y="3043080"/>
            <a:ext cx="1660680" cy="349560"/>
          </a:xfrm>
          <a:prstGeom prst="rightArrow">
            <a:avLst>
              <a:gd name="adj1" fmla="val 50000"/>
              <a:gd name="adj2" fmla="val 11876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788600">
            <a:off x="2914200" y="4254480"/>
            <a:ext cx="1660680" cy="348840"/>
          </a:xfrm>
          <a:prstGeom prst="rightArrow">
            <a:avLst>
              <a:gd name="adj1" fmla="val 50000"/>
              <a:gd name="adj2" fmla="val 1190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1440" y="217476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formación del ele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4360" y="455292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cuerpo rígido del ele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norm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n x: acortamiento de una línea (unitaria) paralela a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de cort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es la pérdida en perpendicularidad de un par de ejes originalmente ortog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ga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90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ociendo el estado de deformación en x, y, z y las deformaciones de corte, se puede calcular el estado de deformación para cualquier sistema coordenado (igual al caso de los esfuerz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3-21T12:08:09Z</dcterms:modified>
  <cp:revision>268</cp:revision>
  <dc:subject/>
  <dc:title>Muestreo y Control de Calidad</dc:title>
</cp:coreProperties>
</file>