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31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57.png" ContentType="image/png"/>
  <Override PartName="/ppt/media/image20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1186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25B93E-DF76-4462-B041-4FD359A0C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8C4D3-A7FC-4F14-B4C4-54929F65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4E901-EF41-412F-BD3C-5429EECF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8ACE6-41A9-4DFA-ABCF-E30ACDEF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E8B6B-8772-4CB8-8508-E4CF6EF0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44F35-966C-4568-86C9-C3418C77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9C6BD-A613-4230-AA7F-9BC24E70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9FB69-FF15-41A2-ABDC-2B117C9F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59119-DC9D-4E9E-BFD8-0ABBBD45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B8D75-B5CB-456E-9C85-D0AEED35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16CC6-DC48-4CDC-A640-BADB61613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0D41CD-4F9D-4383-9F1D-91AB10638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73200" y="6679800"/>
            <a:ext cx="7797600" cy="2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900" spc="-1" strike="noStrike">
                <a:solidFill>
                  <a:srgbClr val="99c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GEOTECNIA MINERA – UNIVERSIDAD DE CH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1155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35920" y="3809880"/>
            <a:ext cx="208080" cy="3048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720800"/>
            <a:ext cx="746748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5D77-3311-4051-A0E3-4DC0A0E5C3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variantes de esfuerz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5565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ideremos un esfuerzo normal a abc de magnitud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s componentes de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racción en abc quedan definidas po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er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or lo tant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012000" y="1332000"/>
            <a:ext cx="3132000" cy="4500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827520" y="2784600"/>
            <a:ext cx="1789200" cy="960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793880" y="4049640"/>
            <a:ext cx="3851280" cy="1095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65120" y="5573880"/>
            <a:ext cx="520560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67352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Rotación de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cuerpo rígido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en torno a eje 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Similarmente, rotaciones en torno a ejes y y z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esplazamiento total por varias rota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46720" y="1211400"/>
            <a:ext cx="3797280" cy="3782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913040" y="1763640"/>
            <a:ext cx="1965240" cy="9525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rcRect l="0" t="0" r="0" b="4127"/>
          <a:stretch/>
        </p:blipFill>
        <p:spPr>
          <a:xfrm>
            <a:off x="809640" y="3608280"/>
            <a:ext cx="1628640" cy="868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2684520" y="3608280"/>
            <a:ext cx="1884240" cy="849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158760" y="5270400"/>
            <a:ext cx="2511360" cy="10922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2843280" y="5261040"/>
            <a:ext cx="4411440" cy="1098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7407360" y="5678640"/>
            <a:ext cx="14922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67352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ongación en dirección 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milarmente, elongaciones en  y y 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istorsión en el plano xy (considerando ángulo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pequeño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54840" y="1330200"/>
            <a:ext cx="3089160" cy="22528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903320" y="1730520"/>
            <a:ext cx="1617840" cy="8204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766880" y="3259080"/>
            <a:ext cx="1832040" cy="1198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019920" y="3962520"/>
            <a:ext cx="3124080" cy="28954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1844640" y="5618160"/>
            <a:ext cx="164160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74760" y="1348920"/>
            <a:ext cx="8393040" cy="33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agnitud de la deformación de cort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milarment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onsiderando elongación (deformación lineal pura) y distorsión (deformación de corte pura) en todas las direcc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836640" y="1782720"/>
            <a:ext cx="1977840" cy="611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440160" y="1865160"/>
            <a:ext cx="1014480" cy="403200"/>
          </a:xfrm>
          <a:prstGeom prst="rightArrow">
            <a:avLst>
              <a:gd name="adj1" fmla="val 50000"/>
              <a:gd name="adj2" fmla="val 62902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857840" y="1692360"/>
            <a:ext cx="1535040" cy="828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2943360" y="2671920"/>
            <a:ext cx="1631880" cy="8064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4834080" y="2662200"/>
            <a:ext cx="1560240" cy="819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184320" y="4495680"/>
            <a:ext cx="3670200" cy="13636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4008600" y="4486320"/>
            <a:ext cx="4809960" cy="13809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2217600" y="6113520"/>
            <a:ext cx="2357640" cy="547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87320" y="6107040"/>
            <a:ext cx="1094040" cy="444600"/>
          </a:xfrm>
          <a:prstGeom prst="rightArrow">
            <a:avLst>
              <a:gd name="adj1" fmla="val 50000"/>
              <a:gd name="adj2" fmla="val 61518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43360" y="6175440"/>
            <a:ext cx="34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Matriz de deform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487680" y="6208560"/>
            <a:ext cx="469800" cy="3733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8"/>
          <a:stretch/>
        </p:blipFill>
        <p:spPr>
          <a:xfrm>
            <a:off x="6634080" y="1239840"/>
            <a:ext cx="250992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eforma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ebemos sumar el movimiento de cuerpo rígido con la deformación por elongación y distors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843280" y="3110040"/>
            <a:ext cx="3457440" cy="637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70000" y="4044960"/>
            <a:ext cx="860904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eforma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059680" cy="19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mponentes de deformación norm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mponentes de deformación de cort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430360" y="1909800"/>
            <a:ext cx="4287960" cy="7254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069920" y="3218040"/>
            <a:ext cx="1755720" cy="1347480"/>
          </a:xfrm>
          <a:prstGeom prst="rect">
            <a:avLst/>
          </a:prstGeom>
          <a:ln w="0">
            <a:noFill/>
          </a:ln>
        </p:spPr>
      </p:pic>
      <p:grpSp>
        <p:nvGrpSpPr>
          <p:cNvPr id="197" name=""/>
          <p:cNvGrpSpPr/>
          <p:nvPr/>
        </p:nvGrpSpPr>
        <p:grpSpPr>
          <a:xfrm>
            <a:off x="4575240" y="3489480"/>
            <a:ext cx="4568760" cy="2462040"/>
            <a:chOff x="4575240" y="3489480"/>
            <a:chExt cx="4568760" cy="2462040"/>
          </a:xfrm>
        </p:grpSpPr>
        <p:pic>
          <p:nvPicPr>
            <p:cNvPr id="198" name="" descr=""/>
            <p:cNvPicPr/>
            <p:nvPr/>
          </p:nvPicPr>
          <p:blipFill>
            <a:blip r:embed="rId3"/>
            <a:srcRect l="0" t="38899" r="0" b="0"/>
            <a:stretch/>
          </p:blipFill>
          <p:spPr>
            <a:xfrm>
              <a:off x="4575240" y="4156200"/>
              <a:ext cx="4568760" cy="179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4"/>
            <a:srcRect l="0" t="0" r="0" b="68778"/>
            <a:stretch/>
          </p:blipFill>
          <p:spPr>
            <a:xfrm>
              <a:off x="4575240" y="3489480"/>
              <a:ext cx="4568760" cy="91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"/>
          <p:cNvSpPr/>
          <p:nvPr/>
        </p:nvSpPr>
        <p:spPr>
          <a:xfrm>
            <a:off x="2840040" y="3903840"/>
            <a:ext cx="1735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9080" y="4653000"/>
            <a:ext cx="42861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ompletamente definido por 6 componentes independientes, relacionadas con los gradientes de desplaz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n genera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755720" y="1955880"/>
            <a:ext cx="5638680" cy="2000160"/>
            <a:chOff x="1755720" y="1955880"/>
            <a:chExt cx="5638680" cy="200016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1755720" y="1955880"/>
              <a:ext cx="563868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6907320" y="2841480"/>
              <a:ext cx="463320" cy="81612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n genera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755720" y="1955880"/>
            <a:ext cx="5638680" cy="2000160"/>
            <a:chOff x="1755720" y="1955880"/>
            <a:chExt cx="5638680" cy="2000160"/>
          </a:xfrm>
        </p:grpSpPr>
        <p:pic>
          <p:nvPicPr>
            <p:cNvPr id="210" name="" descr=""/>
            <p:cNvPicPr/>
            <p:nvPr/>
          </p:nvPicPr>
          <p:blipFill>
            <a:blip r:embed="rId1"/>
            <a:stretch/>
          </p:blipFill>
          <p:spPr>
            <a:xfrm>
              <a:off x="1755720" y="1955880"/>
              <a:ext cx="563868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907320" y="2841480"/>
              <a:ext cx="463320" cy="81612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157480" y="2544840"/>
            <a:ext cx="506520" cy="495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47840" y="3030480"/>
            <a:ext cx="330120" cy="1795680"/>
          </a:xfrm>
          <a:prstGeom prst="downArrow">
            <a:avLst>
              <a:gd name="adj1" fmla="val 50000"/>
              <a:gd name="adj2" fmla="val 135987"/>
            </a:avLst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4880" y="2522520"/>
            <a:ext cx="506160" cy="495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75240" y="3008160"/>
            <a:ext cx="330120" cy="1795680"/>
          </a:xfrm>
          <a:prstGeom prst="downArrow">
            <a:avLst>
              <a:gd name="adj1" fmla="val 50000"/>
              <a:gd name="adj2" fmla="val 135987"/>
            </a:avLst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85840" y="5091120"/>
            <a:ext cx="289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formación de corte de ingenier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5240" y="5110200"/>
            <a:ext cx="289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formación de corte tens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otación: se deben usar los valores tensori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jemplo: rotación a nuevo sistema abc a partir de una rotación en torno a z con ángulo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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235160" y="3794040"/>
            <a:ext cx="7051680" cy="2870280"/>
            <a:chOff x="1235160" y="3794040"/>
            <a:chExt cx="7051680" cy="2870280"/>
          </a:xfrm>
        </p:grpSpPr>
        <p:pic>
          <p:nvPicPr>
            <p:cNvPr id="221" name="" descr=""/>
            <p:cNvPicPr/>
            <p:nvPr/>
          </p:nvPicPr>
          <p:blipFill>
            <a:blip r:embed="rId1"/>
            <a:stretch/>
          </p:blipFill>
          <p:spPr>
            <a:xfrm>
              <a:off x="1238400" y="3794040"/>
              <a:ext cx="7048440" cy="158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2"/>
            <a:srcRect l="-5169" t="0" r="-78852" b="0"/>
            <a:stretch/>
          </p:blipFill>
          <p:spPr>
            <a:xfrm>
              <a:off x="1235160" y="5246640"/>
              <a:ext cx="7047000" cy="1417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stado de deform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ensor se trata igual que el de esfuerz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onde se tiene deformaciones deviatóricas norm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as deformaciones deviatóricas de corte son simplemente las deformaciones de corte tensori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346560" y="1779480"/>
            <a:ext cx="2457360" cy="1295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560680" y="3516480"/>
            <a:ext cx="4029120" cy="14284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rcRect l="0" t="0" r="0" b="2656"/>
          <a:stretch/>
        </p:blipFill>
        <p:spPr>
          <a:xfrm>
            <a:off x="1936800" y="5346720"/>
            <a:ext cx="527688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eformación isótropa o volumétrica se relaciona con la dilatación D o cambio en el volumen por unidad de volumen original de materia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eformación deviatórica se relaciona con un cambio en la for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770280" y="2936880"/>
            <a:ext cx="16081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variantes de esfuerz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 resuelve poniendo el determinante de la matriz igual a 0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cuación de tercer grad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os coeficientes son los llamados invariantes de esfuerz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oluciones corresponden a los esfuerzos principales (valores propios). Direcciones se calculan con los vectores propi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124080" y="2158920"/>
            <a:ext cx="2900520" cy="443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71440" y="3328920"/>
            <a:ext cx="712656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laciones esfuerzo-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odo problema en mecánica de sólidos debe satisfacer ecuaciones diferenciales de equilibrio estático y ecuaciones de compatibilidad de deformacion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36400" y="3583080"/>
            <a:ext cx="4038840" cy="2646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603760" y="3583080"/>
            <a:ext cx="3036960" cy="8586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4979880" y="4772160"/>
            <a:ext cx="416412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laciones esfuerzo-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idea ahora es relacionar la descripción de los esfuerzos a los que está sometido un cuerpo con las deformaciones que sufrirá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ara ello, es necesario conocer el 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</a:rPr>
              <a:t>comportamiento constitutivo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l mate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xisten varios model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astic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lastic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Viscos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eslizamien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mbinaciones de estos comportamien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fuerzos y deformaciones se relacionan por medio de 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</a:rPr>
              <a:t>ecuaciones constitutivas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n cualquiera de estos model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laciones esfuerzo-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7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Tahoma"/>
              </a:rPr>
              <a:t>Elasticidad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es un modelo frecuente en mecánica, incluyendo mecánica de roca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constituye una buena base para describir comportamientos más complej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nsideremos esfuerzos y deformaciones en forma de vectores de seis componentes independient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846440" y="4205160"/>
            <a:ext cx="5457600" cy="2652840"/>
            <a:chOff x="1846440" y="4205160"/>
            <a:chExt cx="5457600" cy="2652840"/>
          </a:xfrm>
        </p:grpSpPr>
        <p:pic>
          <p:nvPicPr>
            <p:cNvPr id="241" name="" descr=""/>
            <p:cNvPicPr/>
            <p:nvPr/>
          </p:nvPicPr>
          <p:blipFill>
            <a:blip r:embed="rId1"/>
            <a:stretch/>
          </p:blipFill>
          <p:spPr>
            <a:xfrm>
              <a:off x="1846440" y="4205160"/>
              <a:ext cx="5457600" cy="265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2"/>
            <a:stretch/>
          </p:blipFill>
          <p:spPr>
            <a:xfrm>
              <a:off x="4079880" y="5033880"/>
              <a:ext cx="990720" cy="905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laciones esfuerzo-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Forma general de la relación esfuerzo-deforma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ada elemento  de S se denomina </a:t>
            </a:r>
            <a:r>
              <a:rPr b="1" lang="es-CL" sz="3200" spc="-1" strike="noStrike">
                <a:solidFill>
                  <a:srgbClr val="ffff00"/>
                </a:solidFill>
                <a:latin typeface="Tahoma"/>
              </a:rPr>
              <a:t>módulo elást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36 elementos independiente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Matriz es simétrica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21 elementos inde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77880" y="2379600"/>
            <a:ext cx="4840200" cy="17146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6054840" y="3071880"/>
            <a:ext cx="22572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laciones esfuerzo-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74760" y="1348920"/>
            <a:ext cx="8393040" cy="34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Forma inver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atriz D es la </a:t>
            </a:r>
            <a:r>
              <a:rPr b="0" lang="es-CL" sz="2800" spc="-1" strike="noStrike">
                <a:solidFill>
                  <a:srgbClr val="ffff00"/>
                </a:solidFill>
                <a:latin typeface="Tahoma"/>
              </a:rPr>
              <a:t>matriz de elasticidad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o de rigidez elást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n el caso general de anisotropía hay 21 elementos independien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aso de </a:t>
            </a:r>
            <a:r>
              <a:rPr b="1" lang="es-CL" sz="2800" spc="-1" strike="noStrike">
                <a:solidFill>
                  <a:srgbClr val="ffff00"/>
                </a:solidFill>
                <a:latin typeface="Tahoma"/>
              </a:rPr>
              <a:t>elasticidad isótropa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, se reduce 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997440" y="1366920"/>
            <a:ext cx="2352600" cy="5144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80880" y="4329000"/>
            <a:ext cx="83883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laciones esfuerzo-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Ley de Hooke para elasticidad isótrop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ond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: módulo de You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G: módulo de rigidez (o de cort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: razón de Pois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000080" y="2108160"/>
            <a:ext cx="4714920" cy="10288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6202440" y="2109960"/>
            <a:ext cx="2104920" cy="10285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2325600" y="3384720"/>
            <a:ext cx="2638440" cy="12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laciones esfuerzo-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Bastan dos constantes para definir el sistem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n forma inversa, se tiene (ecuaciones de Lamé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onstante de Lam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240" y="2305080"/>
            <a:ext cx="9144000" cy="25099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2122560" y="5183280"/>
            <a:ext cx="1941480" cy="4269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4264200" y="5183280"/>
            <a:ext cx="1215720" cy="3967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625320" y="5149800"/>
            <a:ext cx="1239840" cy="349200"/>
          </a:xfrm>
          <a:prstGeom prst="leftRightArrow">
            <a:avLst>
              <a:gd name="adj1" fmla="val 50000"/>
              <a:gd name="adj2" fmla="val 70681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3754440" y="5791320"/>
            <a:ext cx="3848040" cy="85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laciones esfuerzo-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74760" y="1348920"/>
            <a:ext cx="6013440" cy="36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Otro caso (un poco más complejo): isotropía elástica transvers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uerpos con simetría en cualquier dirección de planos y simetría respecto a la dirección normal a los plan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Ocurre en material laminado, roca estratificada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cuaciones constitutivas elásticas para este caso (existen algunas restricciones adicionales para hacer válidas estas ecuaciones </a:t>
            </a:r>
            <a:r>
              <a:rPr b="0" lang="es-MX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continuidad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465960" y="1581120"/>
            <a:ext cx="2678040" cy="24717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608040" y="4727520"/>
            <a:ext cx="793260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Cinemátic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74760" y="1348920"/>
            <a:ext cx="8393040" cy="39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l aplicar una fuerza o cambiar la temperatura de un cuerpo, ocurren </a:t>
            </a: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cambios en las posiciones relativas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de los puntos dentro del cuerp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a cinemática estudia la geometría del movimien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Movimient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movimiento descrito corresponde a una </a:t>
            </a: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deformación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desde el estado inicial al fi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Gradientes de desplazamient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50960" y="2771640"/>
            <a:ext cx="4048200" cy="78120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1649520" y="3738600"/>
            <a:ext cx="5850000" cy="342720"/>
            <a:chOff x="1649520" y="3738600"/>
            <a:chExt cx="5850000" cy="342720"/>
          </a:xfrm>
        </p:grpSpPr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649520" y="3738600"/>
              <a:ext cx="383868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3"/>
            <a:srcRect l="604" t="0" r="-9527" b="-2781"/>
            <a:stretch/>
          </p:blipFill>
          <p:spPr>
            <a:xfrm>
              <a:off x="5486760" y="3747960"/>
              <a:ext cx="2012760" cy="333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2022480" y="5332320"/>
            <a:ext cx="510552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Cinemátic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ov. instantáneo = Mov. Rígido + Deform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ovimiento rígido: longitud del segmento no camb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MX" sz="28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MX" sz="2800" spc="-1" strike="noStrike" baseline="-25000">
                <a:solidFill>
                  <a:srgbClr val="ffffff"/>
                </a:solidFill>
                <a:latin typeface="Tahoma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689200" y="2444760"/>
            <a:ext cx="3772080" cy="51444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1971720" y="5689440"/>
            <a:ext cx="1244520" cy="671400"/>
            <a:chOff x="1971720" y="5689440"/>
            <a:chExt cx="1244520" cy="671400"/>
          </a:xfrm>
        </p:grpSpPr>
        <p:sp>
          <p:nvSpPr>
            <p:cNvPr id="106" name=""/>
            <p:cNvSpPr/>
            <p:nvPr/>
          </p:nvSpPr>
          <p:spPr>
            <a:xfrm>
              <a:off x="1971720" y="5689440"/>
              <a:ext cx="1244520" cy="67140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2158920" y="5898600"/>
              <a:ext cx="363600" cy="2746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519160" y="5653440"/>
            <a:ext cx="1379160" cy="981360"/>
            <a:chOff x="5519160" y="5653440"/>
            <a:chExt cx="1379160" cy="981360"/>
          </a:xfrm>
        </p:grpSpPr>
        <p:sp>
          <p:nvSpPr>
            <p:cNvPr id="109" name=""/>
            <p:cNvSpPr/>
            <p:nvPr/>
          </p:nvSpPr>
          <p:spPr>
            <a:xfrm rot="936600">
              <a:off x="5586480" y="5808240"/>
              <a:ext cx="1244520" cy="67140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5749920" y="6003360"/>
              <a:ext cx="424080" cy="1666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62040" y="3392640"/>
            <a:ext cx="196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osición act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oord x, y, 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16600" y="36655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Trasl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32920" y="368604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Rot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42920" y="3413160"/>
            <a:ext cx="192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osición ini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oord x, y, 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8625200">
            <a:off x="2389680" y="3063240"/>
            <a:ext cx="781200" cy="220680"/>
          </a:xfrm>
          <a:prstGeom prst="rightArrow">
            <a:avLst>
              <a:gd name="adj1" fmla="val 50000"/>
              <a:gd name="adj2" fmla="val 88499"/>
            </a:avLst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3776040" y="3161160"/>
            <a:ext cx="780840" cy="220680"/>
          </a:xfrm>
          <a:prstGeom prst="rightArrow">
            <a:avLst>
              <a:gd name="adj1" fmla="val 50000"/>
              <a:gd name="adj2" fmla="val 88458"/>
            </a:avLst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4885560" y="3157920"/>
            <a:ext cx="780840" cy="220680"/>
          </a:xfrm>
          <a:prstGeom prst="rightArrow">
            <a:avLst>
              <a:gd name="adj1" fmla="val 50000"/>
              <a:gd name="adj2" fmla="val 88458"/>
            </a:avLst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3175400">
            <a:off x="6010200" y="3044160"/>
            <a:ext cx="781200" cy="220680"/>
          </a:xfrm>
          <a:prstGeom prst="rightArrow">
            <a:avLst>
              <a:gd name="adj1" fmla="val 50000"/>
              <a:gd name="adj2" fmla="val 88499"/>
            </a:avLst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59520" y="2284560"/>
            <a:ext cx="183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Movimiento rígi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15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os puntos P y Q, se desplazan a P* y Q*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i u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,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y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,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z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u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v.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ino, el cuerpo está sometido a deform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3102120"/>
            <a:ext cx="4630680" cy="3240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875120" y="3583080"/>
            <a:ext cx="397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Deformación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: cambio de forma del cuerpo al desplazarse sus pun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Queremos definir el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estado de deformación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de un cuerp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definir cambios en tamaño y forma de un elemento infinitesimal sometido a car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esplazamiento increment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ado qu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58680" y="2914560"/>
            <a:ext cx="4183200" cy="2217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291360" y="3838680"/>
            <a:ext cx="1733400" cy="431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rcRect l="0" t="0" r="6696" b="0"/>
          <a:stretch/>
        </p:blipFill>
        <p:spPr>
          <a:xfrm>
            <a:off x="1133640" y="5735520"/>
            <a:ext cx="1657080" cy="540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3862440" y="5541840"/>
            <a:ext cx="421164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Queremos definir el estado de deformación de un cuerp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definir cambios en tamaño y forma de un elemento infinitesimal sometido a car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esplazamiento increment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ado qu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58680" y="2914560"/>
            <a:ext cx="4183200" cy="2217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291360" y="3838680"/>
            <a:ext cx="1733400" cy="431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rcRect l="0" t="0" r="6696" b="0"/>
          <a:stretch/>
        </p:blipFill>
        <p:spPr>
          <a:xfrm>
            <a:off x="1133640" y="5735520"/>
            <a:ext cx="1657080" cy="540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3862440" y="5541840"/>
            <a:ext cx="4211640" cy="10033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507440" y="3873600"/>
            <a:ext cx="469800" cy="3729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736040" y="3404880"/>
            <a:ext cx="0" cy="4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34080" y="2600280"/>
            <a:ext cx="25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argo original del segmento P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3865680"/>
            <a:ext cx="470160" cy="3729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40480" y="4211640"/>
            <a:ext cx="111240" cy="371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15200" y="4457880"/>
            <a:ext cx="250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Desplazamiento rela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97200" y="2957400"/>
            <a:ext cx="470160" cy="711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132440" y="2717280"/>
            <a:ext cx="312480" cy="405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17920" y="220500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Gradientes de desplaza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9640" y="2900520"/>
            <a:ext cx="1733760" cy="4316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755720" y="2935440"/>
            <a:ext cx="469800" cy="3729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984320" y="2466720"/>
            <a:ext cx="0" cy="4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82720" y="1662120"/>
            <a:ext cx="25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argo original del segmento P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3120" y="2927520"/>
            <a:ext cx="469800" cy="3729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89120" y="3273480"/>
            <a:ext cx="110880" cy="371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3480" y="3519360"/>
            <a:ext cx="25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Desplazamiento rela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9811400">
            <a:off x="2914560" y="3043080"/>
            <a:ext cx="1660680" cy="349560"/>
          </a:xfrm>
          <a:prstGeom prst="rightArrow">
            <a:avLst>
              <a:gd name="adj1" fmla="val 50000"/>
              <a:gd name="adj2" fmla="val 118769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 rot="1788600">
            <a:off x="2914200" y="4254480"/>
            <a:ext cx="1660680" cy="348840"/>
          </a:xfrm>
          <a:prstGeom prst="rightArrow">
            <a:avLst>
              <a:gd name="adj1" fmla="val 50000"/>
              <a:gd name="adj2" fmla="val 119014"/>
            </a:avLst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81440" y="217476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Deformación del elemento P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24360" y="4552920"/>
            <a:ext cx="380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Rotación de cuerpo rígido del ele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Desplazamientos y Deformaci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Tahoma"/>
              </a:rPr>
              <a:t>Deformación normal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en x: acortamiento de una línea (unitaria) paralela a 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Tahoma"/>
              </a:rPr>
              <a:t>Deformación de corte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: es la pérdida en perpendicularidad de un par de ejes originalmente ortog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ositivo: ángulo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90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Negativo: ángulo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 90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nociendo el estado de deformación en x, y, z y las deformaciones de corte, se puede calcular el estado de deformación para cualquier sistema coordenado (igual al caso de los esfuerzo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9:42:01Z</dcterms:created>
  <dc:creator>Julian Ortiz C.</dc:creator>
  <dc:description/>
  <dc:language>en-US</dc:language>
  <cp:lastModifiedBy>user</cp:lastModifiedBy>
  <dcterms:modified xsi:type="dcterms:W3CDTF">2006-03-21T12:08:09Z</dcterms:modified>
  <cp:revision>268</cp:revision>
  <dc:subject/>
  <dc:title>Muestreo y Control de Calidad</dc:title>
</cp:coreProperties>
</file>