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1186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EC6E9-5B7C-47E7-A7CE-F1EAB68E1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F6309-58C3-4132-AD7C-817C90AB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7A6B6-B474-4E52-8790-5D94AF76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767E6-4D1B-4DA4-A875-C8E62F4C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DF3EF-B40E-4F69-9962-E658D131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6EC66-DF49-453F-A260-C536B6FA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F5AA74-ACFF-4600-80CD-BB63255A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E8499-AFAE-4704-BCF9-BC1460B9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00EC4-64BE-49E1-810F-C96F6843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42B76-3121-4D05-BB2D-AA682B15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88D43-4A5F-4E5F-B703-C384CAAE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CD413-7140-4A12-A094-5FE358EE5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73200" y="6679800"/>
            <a:ext cx="7797600" cy="2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900" spc="-1" strike="noStrike">
                <a:solidFill>
                  <a:srgbClr val="99c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GEOTECNIA MINERA – UNIVERSIDAD DE CH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1155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35920" y="3809880"/>
            <a:ext cx="208080" cy="3048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720800"/>
            <a:ext cx="746748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2EC9-4FFD-4E3B-938A-049FD6D400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4830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Orientación de los ejes para medir los esfuerzos es arbitra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n algunos casos, conviene utilizar alguna dirección, dado el problema que se quiera resol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nsideremos el paso de un sistema coordenado (x, y, z) a otro (l, m, 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400720" y="1158840"/>
            <a:ext cx="374328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e análisis vectorial: queremos rotar un vector de un sistema coordenado x, y, z a otro l, m, 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atriz de rotación: filas son los vectores de las componentes (cosenos) de los nuevos ejes relativos a los viejos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ropiedad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068560" y="2346480"/>
            <a:ext cx="5011560" cy="1376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355920" y="3930480"/>
            <a:ext cx="2438280" cy="466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5240" y="3768840"/>
            <a:ext cx="638280" cy="7459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446640" y="5869080"/>
            <a:ext cx="225720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6011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ntonc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ecordar que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c. de transf. de esfuerzo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997360" y="1430280"/>
            <a:ext cx="1577880" cy="460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496200" y="1415880"/>
            <a:ext cx="1793880" cy="516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021120" y="2066760"/>
            <a:ext cx="1877760" cy="495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485040" y="2070000"/>
            <a:ext cx="1933560" cy="579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4575240" y="2846520"/>
            <a:ext cx="2841480" cy="1473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3362400" y="4481640"/>
            <a:ext cx="2425680" cy="7887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1235160" y="5689440"/>
            <a:ext cx="2930400" cy="638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184720" y="1514520"/>
            <a:ext cx="987480" cy="361800"/>
          </a:xfrm>
          <a:prstGeom prst="leftRightArrow">
            <a:avLst>
              <a:gd name="adj1" fmla="val 50000"/>
              <a:gd name="adj2" fmla="val 54334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94440" y="2149560"/>
            <a:ext cx="987120" cy="361800"/>
          </a:xfrm>
          <a:prstGeom prst="leftRightArrow">
            <a:avLst>
              <a:gd name="adj1" fmla="val 50000"/>
              <a:gd name="adj2" fmla="val 54314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21000" y="2959200"/>
            <a:ext cx="901800" cy="469800"/>
          </a:xfrm>
          <a:prstGeom prst="rightArrow">
            <a:avLst>
              <a:gd name="adj1" fmla="val 50000"/>
              <a:gd name="adj2" fmla="val 47989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5720" y="5807160"/>
            <a:ext cx="515880" cy="469800"/>
          </a:xfrm>
          <a:prstGeom prst="rightArrow">
            <a:avLst>
              <a:gd name="adj1" fmla="val 50000"/>
              <a:gd name="adj2" fmla="val 27452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74760" y="1348920"/>
            <a:ext cx="839304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ransformación del tensor de esfuerzos desde sistema x, y, z a sistema l, m, n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Resolviendo para algunas de las component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314880" y="2425680"/>
            <a:ext cx="2520720" cy="549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61960" y="3203640"/>
            <a:ext cx="8024760" cy="10731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627200" y="5410080"/>
            <a:ext cx="589428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Esfuerzos – rotación de ej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74760" y="1348920"/>
            <a:ext cx="839304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jemplo: rotación desde sistema xyz a sistema abc, en torno a eje z contra los punteros del reloj, con ángulo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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49320" y="2805120"/>
            <a:ext cx="3324240" cy="542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757760" y="2349360"/>
            <a:ext cx="3533760" cy="149544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1366920" y="4164120"/>
            <a:ext cx="7503840" cy="2449440"/>
            <a:chOff x="1366920" y="4164120"/>
            <a:chExt cx="7503840" cy="2449440"/>
          </a:xfrm>
        </p:grpSpPr>
        <p:pic>
          <p:nvPicPr>
            <p:cNvPr id="155" name="" descr=""/>
            <p:cNvPicPr/>
            <p:nvPr/>
          </p:nvPicPr>
          <p:blipFill>
            <a:blip r:embed="rId3"/>
            <a:stretch/>
          </p:blipFill>
          <p:spPr>
            <a:xfrm>
              <a:off x="1366920" y="4164120"/>
              <a:ext cx="7503840" cy="24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7748640" y="4977360"/>
              <a:ext cx="995040" cy="33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231840" y="4846680"/>
            <a:ext cx="903240" cy="1047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438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laca de ancho 50m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terminar la fuerza de corte sobre BC, AD para mantener el equilib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terminar el estado tensional para cualquier punto en el sólido (relativo a x, 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terminar estado tensional para el sistema (l, 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terminar las magnitudes de los esfuerzos principales y orientación del eje de esfuezo principal mayor con respecto al eje 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871880" y="2278080"/>
            <a:ext cx="427212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Esfuerzos principa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a idea es definir el estado tensional de manera no arbitraria (que no dependa de la dirección que uno elige para el sistema coordenad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os esfuerzos principales son invariantes ante rotaciones del sistema de referenc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Plano principal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es aquel para el cual los esfuerzos de corte son 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esfuerzo principal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es el esfuerzo normal a un plano princip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fuerzos principales se determinan a partir de los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valores propios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del tensor de esfuerz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irecciones principales se determinan a partir de los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vectores propios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del tensor de esfuerz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Esfuerzos principales – rotación de ej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i la dirección z es principal, no hay esfuerzos de corte en z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os esfuerzos principales en xy s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Y la dirección está dada p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sta expresión tiene dos soluciones, escoger la que hace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MX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máxim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 pueden determinar los esfuerzos extremos de cort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407960" y="2759040"/>
            <a:ext cx="6334200" cy="8478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892600" y="4127400"/>
            <a:ext cx="3363840" cy="466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2541600" y="5972040"/>
            <a:ext cx="40672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Suma de esfuerz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74760" y="1348920"/>
            <a:ext cx="8393040" cy="51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l sumar esfuerzos, se debe sumar cada componente del tens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as direcciones principales pueden cambiar según el tensor de esfuerzos de variación, por lo que la determinación de estas direcciones debe volver a realizarse </a:t>
            </a:r>
            <a:r>
              <a:rPr b="0" lang="es-MX" sz="2800" spc="-1" strike="noStrike">
                <a:solidFill>
                  <a:srgbClr val="ffff00"/>
                </a:solidFill>
                <a:latin typeface="Tahoma"/>
              </a:rPr>
              <a:t>después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de sumados componente a compon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asa de cambio de esfuerzo también es relevante </a:t>
            </a:r>
            <a:r>
              <a:rPr b="0" lang="es-MX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ecuaciones diferenciales de equilibrio estát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179880" y="2297160"/>
            <a:ext cx="2790720" cy="5428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898640" y="2997360"/>
            <a:ext cx="535320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74400" y="1348920"/>
            <a:ext cx="498924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eje l puede ser definido en términos de sus proyecciones (cosenos) sobre el sistema (x, y, z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 </a:t>
            </a: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(l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l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y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l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z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 </a:t>
            </a: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(m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m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y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m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z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(n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n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y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n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z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r otro lado, el estado tensional en un punto, relativo a (l, m, n), se puede expresa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400720" y="1158840"/>
            <a:ext cx="3743280" cy="5380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066680" y="5108400"/>
            <a:ext cx="328788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74400" y="1348920"/>
            <a:ext cx="448308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objetivo es expresar los componentes d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érminos d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y de los cosenos de los ejes l, m, n, relativos a x, y, 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400720" y="1158840"/>
            <a:ext cx="3743280" cy="5380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34920" y="2205000"/>
            <a:ext cx="3287880" cy="1354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923760" y="4162320"/>
            <a:ext cx="329580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74400" y="1348920"/>
            <a:ext cx="448308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Oabc es un cuerpo libre tetraédrico generado al cortar un elemento unitario cúbico sobre el cual se definió el tensor de esfuerz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material removido en el corte abc se reemplaza por una fuerza que lo equilib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Magnitud t por unidad de áre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Actúa sobre ab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OP es normal a la superficie abc y tiene componentes (cosenos)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y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400720" y="1158840"/>
            <a:ext cx="374328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400" y="1348920"/>
            <a:ext cx="4483080" cy="34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Area de abc es 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royecciones de abc sobre planos definidos por ejes x, y, z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00720" y="1158840"/>
            <a:ext cx="3743280" cy="5380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49240" y="4137120"/>
            <a:ext cx="33400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nsideremos un tensor t de component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(t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, t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y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, t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z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quilibrio en x implic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Así, relacionamos las componentes de tracción con el estado tensional y la orientación de una superficie en el punto de interé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78040" y="2727360"/>
            <a:ext cx="5594400" cy="450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514600" y="3360600"/>
            <a:ext cx="4121280" cy="444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036800" y="5421240"/>
            <a:ext cx="5052960" cy="1436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423120" y="5737320"/>
            <a:ext cx="214308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imilarmente, expresando ahora en términos del sistema l, m, n (pero sin cambiar la orientación de la superficie abc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Componentes de tracción actuando sobre la superfic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30360" y="2935440"/>
            <a:ext cx="4468680" cy="1204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843520" y="3343320"/>
            <a:ext cx="2425680" cy="479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19840" y="3187800"/>
            <a:ext cx="638280" cy="7459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402160" y="3801960"/>
            <a:ext cx="601920" cy="649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imilarmente, expresando ahora en términos del sistema l, m, n (pero sin cambiar la orientación de la superficie abc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omponentes de tracción actuando sobre la superfic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Componentes direccionales (cosenos) de la normal saliente a la superfic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30360" y="2935440"/>
            <a:ext cx="4468680" cy="12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843520" y="3343320"/>
            <a:ext cx="2425680" cy="479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520040" y="3209760"/>
            <a:ext cx="638280" cy="746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702040" y="3824280"/>
            <a:ext cx="1901880" cy="1576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e análisis vectorial: queremos rotar un vector de un sistema coordenado x, y, z a otro l, m, 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068560" y="2346480"/>
            <a:ext cx="5011560" cy="1376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355920" y="3930480"/>
            <a:ext cx="243828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9:42:01Z</dcterms:created>
  <dc:creator>Julian Ortiz C.</dc:creator>
  <dc:description/>
  <dc:language>en-US</dc:language>
  <cp:lastModifiedBy>Julián</cp:lastModifiedBy>
  <dcterms:modified xsi:type="dcterms:W3CDTF">2006-03-16T11:51:07Z</dcterms:modified>
  <cp:revision>245</cp:revision>
  <dc:subject/>
  <dc:title>Muestreo y Control de Calidad</dc:title>
</cp:coreProperties>
</file>