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5A7EB-03D2-4BE5-9F55-D299B5CC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DE4E0-CC2E-4AF3-8E01-3B24364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5405B-74BF-4A54-BC82-76DFE860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2FF1-1FDF-4BCA-B14B-A59B484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7AC32-EE4C-4236-A55A-1C7EE91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99AE2-39D2-462E-B1E9-8327FB3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9CCD-54B3-4215-AEAF-F7F285C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4F514-7AEA-43C4-9186-0F13724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28EFE-8A6E-4E37-A77B-FF34022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806CC-A577-49D0-BEFD-ADAA4A5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54C1D-FD5C-4EBA-905C-9E0049E0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1FA50-ED35-483C-8E7C-B74ED6AF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06E9-D560-4599-8B86-D2BD1DD44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83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rientación de los ejes para medir los esfuerzos es arbitr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algunos casos, conviene utilizar alguna dirección, dado el problema que se quiera re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l paso de un sistema coordenado (x, y, z) a otro (l, m, 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e rotación: filas son los vectores de las componentes (cosenos) de los nuevos ejes relativos a los viejo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pie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5240" y="376884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46640" y="5869080"/>
            <a:ext cx="225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601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cordar qu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. de transf. de esfuerz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97360" y="1430280"/>
            <a:ext cx="15778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96200" y="1415880"/>
            <a:ext cx="1793880" cy="51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21120" y="2066760"/>
            <a:ext cx="18777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85040" y="2070000"/>
            <a:ext cx="193356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5240" y="2846520"/>
            <a:ext cx="28414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362400" y="4481640"/>
            <a:ext cx="2425680" cy="78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35160" y="5689440"/>
            <a:ext cx="2930400" cy="6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4720" y="1514520"/>
            <a:ext cx="987480" cy="361800"/>
          </a:xfrm>
          <a:prstGeom prst="leftRightArrow">
            <a:avLst>
              <a:gd name="adj1" fmla="val 50000"/>
              <a:gd name="adj2" fmla="val 5433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4440" y="2149560"/>
            <a:ext cx="987120" cy="361800"/>
          </a:xfrm>
          <a:prstGeom prst="leftRightArrow">
            <a:avLst>
              <a:gd name="adj1" fmla="val 50000"/>
              <a:gd name="adj2" fmla="val 543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959200"/>
            <a:ext cx="901800" cy="469800"/>
          </a:xfrm>
          <a:prstGeom prst="rightArrow">
            <a:avLst>
              <a:gd name="adj1" fmla="val 50000"/>
              <a:gd name="adj2" fmla="val 4798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807160"/>
            <a:ext cx="515880" cy="469800"/>
          </a:xfrm>
          <a:prstGeom prst="rightArrow">
            <a:avLst>
              <a:gd name="adj1" fmla="val 50000"/>
              <a:gd name="adj2" fmla="val 2745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nsformación del tensor de esfuerzos desde sistema x, y, z a sistema l, m, 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olviendo para algunas de las component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14880" y="2425680"/>
            <a:ext cx="252072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3203640"/>
            <a:ext cx="8024760" cy="107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5410080"/>
            <a:ext cx="5894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desde sistema xyz a sistema abc, en torno a eje z contra los punteros del reloj,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9320" y="2805120"/>
            <a:ext cx="332424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57760" y="2349360"/>
            <a:ext cx="35337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66920" y="4164120"/>
            <a:ext cx="7503840" cy="2449440"/>
            <a:chOff x="1366920" y="4164120"/>
            <a:chExt cx="7503840" cy="24494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366920" y="4164120"/>
              <a:ext cx="75038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748640" y="4977360"/>
              <a:ext cx="995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1840" y="4846680"/>
            <a:ext cx="903240" cy="104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3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laca de ancho 50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 fuerza de corte sobre BC, AD para mantener el 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l estado tensional para cualquier punto en el sólido (relativo a x, 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stado tensional para el sistema (l, 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s magnitudes de los esfuerzos principales y orientación del eje de esfuezo principal mayor con respecto al ej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1880" y="2278080"/>
            <a:ext cx="427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fuerzos princip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idea es definir el estado tensional de manera no arbitraria (que no dependa de la dirección que uno elige para el sistema coorden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esfuerzos principales son invariantes ante rotaciones del sistema de refere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Plan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aquel para el cual los esfuerzos de corte son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esfuerz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el esfuerzo normal a un plano princi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al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reccione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ect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principale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la dirección z es principal, no hay esfuerzos de corte en 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esfuerzos principales en xy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la dirección está dada p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a expresión tiene dos soluciones, escoger la que hace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áx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pueden determinar los esfuerzos extremos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7960" y="2759040"/>
            <a:ext cx="633420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2600" y="4127400"/>
            <a:ext cx="336384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541600" y="5972040"/>
            <a:ext cx="4067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Suma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sumar esfuerzos, se debe sumar cada componente del tens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direcciones principales pueden cambiar según el tensor de esfuerzos de variación, por lo que la determinación de estas direcciones debe volver a realizarse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pué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e sumados componente a compon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sa de cambio de esfuerzo también es relevante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cuaciones diferenciales de equilibrio est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79880" y="2297160"/>
            <a:ext cx="279072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98640" y="2997360"/>
            <a:ext cx="53532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98924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je l puede ser definido en términos de sus proyecciones (cosenos) sobre el sistema (x, y, 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otro lado, el estado tensional en un punto, relativo a (l, m, n), se puede expres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5108400"/>
            <a:ext cx="3287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expresar los componente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érmin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y de los cosenos de los ejes l, m, n, relativos a x, y,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34920" y="2205000"/>
            <a:ext cx="3287880" cy="13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23760" y="4162320"/>
            <a:ext cx="329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abc es un cuerpo libre tetraédrico generado al cortar un elemento unitario cúbico sobre el cual se definió el tensor de esfuer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material removido en el corte abc se reemplaza por una fuerza que lo equili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gnitud t por unidad de á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ctúa sobre a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P es normal a la superficie abc y tiene componentes (cosenos)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rea de abc e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yecciones de abc sobre planos definidos por ejes x, y,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9240" y="4137120"/>
            <a:ext cx="3340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un tensor t de compon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quilibrio en x impl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í, relacionamos las componentes de tracción con el estado tensional y la orientación de una superficie en el punto de interé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8040" y="2727360"/>
            <a:ext cx="5594400" cy="45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3360600"/>
            <a:ext cx="4121280" cy="44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36800" y="5421240"/>
            <a:ext cx="505296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23120" y="5737320"/>
            <a:ext cx="2143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19840" y="318780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2160" y="3801960"/>
            <a:ext cx="601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ireccionales (cosenos) de la normal saliente a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20040" y="3209760"/>
            <a:ext cx="638280" cy="746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702040" y="3824280"/>
            <a:ext cx="1901880" cy="157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</cp:lastModifiedBy>
  <dcterms:modified xsi:type="dcterms:W3CDTF">2006-03-16T11:51:07Z</dcterms:modified>
  <cp:revision>245</cp:revision>
  <dc:subject/>
  <dc:title>Muestreo y Control de Calidad</dc:title>
</cp:coreProperties>
</file>