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9A5A7-BD38-41C2-9117-0D31B723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F5F5A-FC93-4944-A261-FF71D010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9ED93-7950-4612-BE8F-EE2D2B38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EBC16-6C06-4CF3-B64C-CE08C06C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3E313-C0CC-4561-92EE-556B7556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7B710-909E-4DB8-B0BD-A2930A42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BD4B7-FF8D-48DE-A339-8D758618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9E486-BA16-4ABF-800B-6A53EE26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14E4F-EB94-41C3-A744-873EA7A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9DB5E-1890-4E5C-A9A2-8953751A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7A1D0-CF13-48F4-AC4C-F9110D94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D41A2-45D9-44F3-A3D4-4445EC0D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A1DD-E08D-4538-BF90-6EA41D56DA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83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rientación de los ejes para medir los esfuerzos es arbitr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algunos casos, conviene utilizar alguna dirección, dado el problema que se quiera reso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el paso de un sistema coordenado (x, y, z) a otro (l, m, 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riz de rotación: filas son los vectores de las componentes (cosenos) de los nuevos ejes relativos a los viejo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pie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5240" y="376884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446640" y="5869080"/>
            <a:ext cx="22572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601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ton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cordar que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c. de transf. de esfuerzo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97360" y="1430280"/>
            <a:ext cx="1577880" cy="46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96200" y="1415880"/>
            <a:ext cx="1793880" cy="51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21120" y="2066760"/>
            <a:ext cx="1877760" cy="495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485040" y="2070000"/>
            <a:ext cx="1933560" cy="579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575240" y="2846520"/>
            <a:ext cx="2841480" cy="147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362400" y="4481640"/>
            <a:ext cx="2425680" cy="788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235160" y="5689440"/>
            <a:ext cx="2930400" cy="638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4720" y="1514520"/>
            <a:ext cx="987480" cy="361800"/>
          </a:xfrm>
          <a:prstGeom prst="leftRightArrow">
            <a:avLst>
              <a:gd name="adj1" fmla="val 50000"/>
              <a:gd name="adj2" fmla="val 5433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94440" y="2149560"/>
            <a:ext cx="987120" cy="361800"/>
          </a:xfrm>
          <a:prstGeom prst="leftRightArrow">
            <a:avLst>
              <a:gd name="adj1" fmla="val 50000"/>
              <a:gd name="adj2" fmla="val 5431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21000" y="2959200"/>
            <a:ext cx="901800" cy="469800"/>
          </a:xfrm>
          <a:prstGeom prst="rightArrow">
            <a:avLst>
              <a:gd name="adj1" fmla="val 50000"/>
              <a:gd name="adj2" fmla="val 47989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5720" y="5807160"/>
            <a:ext cx="515880" cy="469800"/>
          </a:xfrm>
          <a:prstGeom prst="rightArrow">
            <a:avLst>
              <a:gd name="adj1" fmla="val 50000"/>
              <a:gd name="adj2" fmla="val 27452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nsformación del tensor de esfuerzos desde sistema x, y, z a sistema l, m, 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olviendo para algunas de las component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314880" y="2425680"/>
            <a:ext cx="252072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1960" y="3203640"/>
            <a:ext cx="8024760" cy="1073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27200" y="5410080"/>
            <a:ext cx="58942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jemplo: rotación desde sistema xyz a sistema abc, en torno a eje z contra los punteros del reloj, con ángulo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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49320" y="2805120"/>
            <a:ext cx="3324240" cy="54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57760" y="2349360"/>
            <a:ext cx="35337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366920" y="4164120"/>
            <a:ext cx="7503840" cy="2449440"/>
            <a:chOff x="1366920" y="4164120"/>
            <a:chExt cx="7503840" cy="24494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1366920" y="4164120"/>
              <a:ext cx="75038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748640" y="4977360"/>
              <a:ext cx="9950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1840" y="4846680"/>
            <a:ext cx="903240" cy="1047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3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laca de ancho 50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 fuerza de corte sobre BC, AD para mantener el equilib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l estado tensional para cualquier punto en el sólido (relativo a x, 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stado tensional para el sistema (l, 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s magnitudes de los esfuerzos principales y orientación del eje de esfuezo principal mayor con respecto al eje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871880" y="2278080"/>
            <a:ext cx="42721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fuerzos princip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idea es definir el estado tensional de manera no arbitraria (que no dependa de la dirección que uno elige para el sistema coorden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esfuerzos principales son invariantes ante rotaciones del sistema de referen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Plan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aquel para el cual los esfuerzos de corte son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esfuerz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el esfuerzo normal a un plano princip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al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ireccione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ect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principale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 la dirección z es principal, no hay esfuerzos de corte en 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esfuerzos principales en xy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Y la dirección está dada p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ta expresión tiene dos soluciones, escoger la que hace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máx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pueden determinar los esfuerzos extremos de cor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7960" y="2759040"/>
            <a:ext cx="6334200" cy="847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92600" y="4127400"/>
            <a:ext cx="3363840" cy="466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541600" y="5972040"/>
            <a:ext cx="40672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Suma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sumar esfuerzos, se debe sumar cada componente del tens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direcciones principales pueden cambiar según el tensor de esfuerzos de variación, por lo que la determinación de estas direcciones debe volver a realizarse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espué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e sumados componente a compon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asa de cambio de esfuerzo también es relevante </a:t>
            </a: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cuaciones diferenciales de equilibrio est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79880" y="2297160"/>
            <a:ext cx="2790720" cy="54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898640" y="2997360"/>
            <a:ext cx="53532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98924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je l puede ser definido en términos de sus proyecciones (cosenos) sobre el sistema (x, y, 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r otro lado, el estado tensional en un punto, relativo a (l, m, n), se puede expres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66680" y="5108400"/>
            <a:ext cx="32878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expresar los componente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érmino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y de los cosenos de los ejes l, m, n, relativos a x, y, 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34920" y="2205000"/>
            <a:ext cx="3287880" cy="135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23760" y="4162320"/>
            <a:ext cx="32958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abc es un cuerpo libre tetraédrico generado al cortar un elemento unitario cúbico sobre el cual se definió el tensor de esfuerz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material removido en el corte abc se reemplaza por una fuerza que lo equili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gnitud t por unidad de á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ctúa sobre a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P es normal a la superficie abc y tiene componentes (cosenos)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rea de abc es 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yecciones de abc sobre planos definidos por ejes x, y, z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49240" y="4137120"/>
            <a:ext cx="3340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un tensor t de compon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quilibrio en x impl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sí, relacionamos las componentes de tracción con el estado tensional y la orientación de una superficie en el punto de interé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78040" y="2727360"/>
            <a:ext cx="5594400" cy="45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14600" y="3360600"/>
            <a:ext cx="4121280" cy="444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36800" y="5421240"/>
            <a:ext cx="5052960" cy="143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423120" y="5737320"/>
            <a:ext cx="2143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19840" y="318780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02160" y="3801960"/>
            <a:ext cx="6019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ireccionales (cosenos) de la normal saliente a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20040" y="3209760"/>
            <a:ext cx="638280" cy="746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702040" y="3824280"/>
            <a:ext cx="1901880" cy="1576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</cp:lastModifiedBy>
  <dcterms:modified xsi:type="dcterms:W3CDTF">2006-03-16T11:51:07Z</dcterms:modified>
  <cp:revision>245</cp:revision>
  <dc:subject/>
  <dc:title>Muestreo y Control de Calidad</dc:title>
</cp:coreProperties>
</file>