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60280" y="678960"/>
            <a:ext cx="453996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B91514D-697B-4DBA-91AA-450C70780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855360" y="4324320"/>
            <a:ext cx="5141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magma containing the minerals for an orebody rises up, it generates stresses in the host rock, rupturing it and causing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ul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r ruptures in the rock. Thus most orebodies are related to faulting in the earth’s crust. Faults are typically long linear features so that if a circular pit used to mine an orebody, it is likely to intersect a fault at two points leading to instability in at least two parts of the pit sl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meens, J., 2003 Geologic controls on complex slope displacement at the Pitch reclamation project. Engineering Geology in Colorado, Contributions, Trends, and Case Histories. AEG Jou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left is a landslide that occurred earlier this year following some rain storms. It hindered production for awhile. A berm was created at the base of the slide to protect the main haul ro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right is a major instability present since the mine came into production. The likely cause is an underlying fracture or fault. The mine wishes to do a major pushback on this pit wall in order to gain access to more ore. This could be a challenging ta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tober 9, 200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landslide causing perhaps eight fata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heavy rainfall and accumulation of water in soil layer at top of p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slide in December 2003 blocked access to high grade ore. Freeport declared force majeure and curtailed metal sa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by investor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mine being operated safe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it fulfill its sales contrac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855360" y="4324320"/>
            <a:ext cx="5141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labora orebody is an igneous pipe structure containing copper, magnetite (iron oxide), vermiculite (used for insulation), zirconium, titanium, and uranium. The concentration of copper is 1% at the core of the pi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ne opened in 1964. It is a full mine-to-smelter complex. Open pit operations ended in 2002. The pit used to be the deepest and steepest in the world. The mine is now an underground block-caving operation with a 20 year mine life. Proven reserves are 225 Mt at 0.7% copp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67617-C78E-42CA-B76E-4367D2352E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D878F-8FE2-46D4-B953-BFE18F4676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BD716-2DEF-477A-A86A-3909E9A513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46A69-AE66-4A66-933C-9F4F220124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BCE20-9129-40B7-9BB8-BE37623027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78FCC-F892-45C8-A98F-AF490821E1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CC120-DBE8-48C6-BB2D-CF434BEC84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F947C-CBA6-4110-8799-3A558F5BDF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313A8-79EC-40FD-9869-B99D20BCA2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7D7C3-B831-4BDE-8C64-64CA14E8BB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EFAF3-0BD7-419D-9EC2-58C62A1046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79F9A-667B-42B8-91D3-E8EF5F213C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73200" y="6680160"/>
            <a:ext cx="5572080" cy="1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900" spc="-1" strike="noStrike">
                <a:solidFill>
                  <a:srgbClr val="99c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&lt;footer&gt;</a:t>
            </a: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GEOTECNIA MINERA – UNIVERSIDAD DE CH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1155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35920" y="3809880"/>
            <a:ext cx="208080" cy="3048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4880" y="65559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ágina </a:t>
            </a:r>
            <a:fld id="{C3F71998-7A95-40A7-BC7F-5A04DE0D8A2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4748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MI46B</a:t>
            </a:r>
            <a:br>
              <a:rPr sz="4000"/>
            </a:b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Geotecnia Miner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ahoma"/>
              </a:rPr>
              <a:t>Julián Ortiz 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ahoma"/>
              </a:rPr>
              <a:t>Raúl Castr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ahoma"/>
              </a:rPr>
              <a:t>Sofía Rebolle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Departamento de Ingeniería de Mina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Universidad de Chil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Tahoma"/>
              </a:rPr>
              <a:t>Definiciones informa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7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Macizo rocos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(rock mass): gran masa de roca componente de la corteza terrestre. Está compuesto po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Roca intacta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el volumen de roca que se encuentra entre las discontinuidades. También se llama matriz rocosa o sustancia rocos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Discontinuidad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fallas, diaclasas, planos de fractura, de clivaje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21360" y="4226040"/>
            <a:ext cx="3161520" cy="2202840"/>
            <a:chOff x="621360" y="4226040"/>
            <a:chExt cx="3161520" cy="2202840"/>
          </a:xfrm>
        </p:grpSpPr>
        <p:sp>
          <p:nvSpPr>
            <p:cNvPr id="74" name=""/>
            <p:cNvSpPr/>
            <p:nvPr/>
          </p:nvSpPr>
          <p:spPr>
            <a:xfrm>
              <a:off x="657360" y="4226040"/>
              <a:ext cx="3113280" cy="985680"/>
            </a:xfrm>
            <a:custGeom>
              <a:avLst/>
              <a:gdLst/>
              <a:ahLst/>
              <a:rect l="l" t="t" r="r" b="b"/>
              <a:pathLst>
                <a:path w="4902" h="1552">
                  <a:moveTo>
                    <a:pt x="4875" y="1552"/>
                  </a:moveTo>
                  <a:cubicBezTo>
                    <a:pt x="4902" y="1334"/>
                    <a:pt x="4890" y="1386"/>
                    <a:pt x="4890" y="215"/>
                  </a:cubicBezTo>
                  <a:cubicBezTo>
                    <a:pt x="4736" y="0"/>
                    <a:pt x="4215" y="282"/>
                    <a:pt x="3950" y="259"/>
                  </a:cubicBezTo>
                  <a:cubicBezTo>
                    <a:pt x="3755" y="214"/>
                    <a:pt x="3895" y="99"/>
                    <a:pt x="3299" y="79"/>
                  </a:cubicBezTo>
                  <a:cubicBezTo>
                    <a:pt x="2950" y="59"/>
                    <a:pt x="2543" y="289"/>
                    <a:pt x="2263" y="346"/>
                  </a:cubicBezTo>
                  <a:cubicBezTo>
                    <a:pt x="1983" y="403"/>
                    <a:pt x="1843" y="453"/>
                    <a:pt x="1618" y="421"/>
                  </a:cubicBezTo>
                  <a:cubicBezTo>
                    <a:pt x="1393" y="389"/>
                    <a:pt x="1113" y="186"/>
                    <a:pt x="913" y="151"/>
                  </a:cubicBezTo>
                  <a:cubicBezTo>
                    <a:pt x="713" y="116"/>
                    <a:pt x="565" y="203"/>
                    <a:pt x="418" y="211"/>
                  </a:cubicBezTo>
                  <a:cubicBezTo>
                    <a:pt x="286" y="221"/>
                    <a:pt x="37" y="119"/>
                    <a:pt x="29" y="199"/>
                  </a:cubicBezTo>
                  <a:cubicBezTo>
                    <a:pt x="21" y="860"/>
                    <a:pt x="0" y="1522"/>
                    <a:pt x="0" y="1522"/>
                  </a:cubicBezTo>
                  <a:lnTo>
                    <a:pt x="4875" y="155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5480" y="4950720"/>
              <a:ext cx="3125160" cy="717480"/>
            </a:xfrm>
            <a:custGeom>
              <a:avLst/>
              <a:gdLst/>
              <a:ahLst/>
              <a:rect l="l" t="t" r="r" b="b"/>
              <a:pathLst>
                <a:path w="4978" h="1130">
                  <a:moveTo>
                    <a:pt x="4951" y="1130"/>
                  </a:moveTo>
                  <a:cubicBezTo>
                    <a:pt x="4978" y="984"/>
                    <a:pt x="4966" y="1019"/>
                    <a:pt x="4966" y="233"/>
                  </a:cubicBezTo>
                  <a:cubicBezTo>
                    <a:pt x="4809" y="89"/>
                    <a:pt x="4381" y="120"/>
                    <a:pt x="4112" y="105"/>
                  </a:cubicBezTo>
                  <a:cubicBezTo>
                    <a:pt x="3914" y="75"/>
                    <a:pt x="3956" y="155"/>
                    <a:pt x="3350" y="142"/>
                  </a:cubicBezTo>
                  <a:cubicBezTo>
                    <a:pt x="3149" y="126"/>
                    <a:pt x="3000" y="156"/>
                    <a:pt x="2807" y="165"/>
                  </a:cubicBezTo>
                  <a:cubicBezTo>
                    <a:pt x="2632" y="151"/>
                    <a:pt x="2459" y="82"/>
                    <a:pt x="2297" y="60"/>
                  </a:cubicBezTo>
                  <a:cubicBezTo>
                    <a:pt x="2135" y="38"/>
                    <a:pt x="2012" y="0"/>
                    <a:pt x="1832" y="30"/>
                  </a:cubicBezTo>
                  <a:cubicBezTo>
                    <a:pt x="1652" y="60"/>
                    <a:pt x="1447" y="235"/>
                    <a:pt x="1217" y="240"/>
                  </a:cubicBezTo>
                  <a:cubicBezTo>
                    <a:pt x="987" y="245"/>
                    <a:pt x="650" y="63"/>
                    <a:pt x="452" y="60"/>
                  </a:cubicBezTo>
                  <a:cubicBezTo>
                    <a:pt x="318" y="67"/>
                    <a:pt x="38" y="169"/>
                    <a:pt x="29" y="222"/>
                  </a:cubicBezTo>
                  <a:cubicBezTo>
                    <a:pt x="21" y="666"/>
                    <a:pt x="0" y="1110"/>
                    <a:pt x="0" y="1110"/>
                  </a:cubicBezTo>
                  <a:lnTo>
                    <a:pt x="4951" y="113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1360" y="5441760"/>
              <a:ext cx="3161520" cy="987120"/>
            </a:xfrm>
            <a:custGeom>
              <a:avLst/>
              <a:gdLst/>
              <a:ahLst/>
              <a:rect l="l" t="t" r="r" b="b"/>
              <a:pathLst>
                <a:path w="4978" h="1554">
                  <a:moveTo>
                    <a:pt x="4951" y="1554"/>
                  </a:moveTo>
                  <a:cubicBezTo>
                    <a:pt x="4978" y="1336"/>
                    <a:pt x="4966" y="1388"/>
                    <a:pt x="4966" y="215"/>
                  </a:cubicBezTo>
                  <a:cubicBezTo>
                    <a:pt x="4809" y="0"/>
                    <a:pt x="4280" y="282"/>
                    <a:pt x="4011" y="259"/>
                  </a:cubicBezTo>
                  <a:cubicBezTo>
                    <a:pt x="3813" y="214"/>
                    <a:pt x="3956" y="99"/>
                    <a:pt x="3350" y="79"/>
                  </a:cubicBezTo>
                  <a:cubicBezTo>
                    <a:pt x="3138" y="47"/>
                    <a:pt x="2954" y="174"/>
                    <a:pt x="2755" y="187"/>
                  </a:cubicBezTo>
                  <a:cubicBezTo>
                    <a:pt x="2556" y="200"/>
                    <a:pt x="2352" y="169"/>
                    <a:pt x="2155" y="157"/>
                  </a:cubicBezTo>
                  <a:cubicBezTo>
                    <a:pt x="1958" y="145"/>
                    <a:pt x="1745" y="102"/>
                    <a:pt x="1570" y="112"/>
                  </a:cubicBezTo>
                  <a:cubicBezTo>
                    <a:pt x="1395" y="122"/>
                    <a:pt x="1304" y="213"/>
                    <a:pt x="1105" y="217"/>
                  </a:cubicBezTo>
                  <a:cubicBezTo>
                    <a:pt x="906" y="221"/>
                    <a:pt x="553" y="142"/>
                    <a:pt x="374" y="139"/>
                  </a:cubicBezTo>
                  <a:cubicBezTo>
                    <a:pt x="240" y="149"/>
                    <a:pt x="38" y="119"/>
                    <a:pt x="29" y="199"/>
                  </a:cubicBezTo>
                  <a:cubicBezTo>
                    <a:pt x="21" y="861"/>
                    <a:pt x="0" y="1524"/>
                    <a:pt x="0" y="1524"/>
                  </a:cubicBezTo>
                  <a:lnTo>
                    <a:pt x="4951" y="1554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78000" y="4536360"/>
              <a:ext cx="687600" cy="25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suelo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71120" y="5151960"/>
              <a:ext cx="941040" cy="25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transición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71120" y="5876280"/>
              <a:ext cx="687600" cy="25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roca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859280" y="4365720"/>
            <a:ext cx="3110040" cy="2074680"/>
            <a:chOff x="4859280" y="4365720"/>
            <a:chExt cx="3110040" cy="2074680"/>
          </a:xfrm>
        </p:grpSpPr>
        <p:sp>
          <p:nvSpPr>
            <p:cNvPr id="81" name=""/>
            <p:cNvSpPr/>
            <p:nvPr/>
          </p:nvSpPr>
          <p:spPr>
            <a:xfrm>
              <a:off x="4859280" y="4365720"/>
              <a:ext cx="3110040" cy="2074680"/>
            </a:xfrm>
            <a:custGeom>
              <a:avLst/>
              <a:gdLst/>
              <a:ahLst/>
              <a:rect l="l" t="t" r="r" b="b"/>
              <a:pathLst>
                <a:path w="7811" h="5084">
                  <a:moveTo>
                    <a:pt x="0" y="5084"/>
                  </a:moveTo>
                  <a:lnTo>
                    <a:pt x="7811" y="5084"/>
                  </a:lnTo>
                  <a:cubicBezTo>
                    <a:pt x="7754" y="3444"/>
                    <a:pt x="7788" y="1798"/>
                    <a:pt x="7641" y="163"/>
                  </a:cubicBezTo>
                  <a:cubicBezTo>
                    <a:pt x="7626" y="0"/>
                    <a:pt x="7198" y="275"/>
                    <a:pt x="7146" y="298"/>
                  </a:cubicBezTo>
                  <a:cubicBezTo>
                    <a:pt x="7117" y="311"/>
                    <a:pt x="7056" y="328"/>
                    <a:pt x="7056" y="328"/>
                  </a:cubicBezTo>
                  <a:cubicBezTo>
                    <a:pt x="6804" y="517"/>
                    <a:pt x="6487" y="513"/>
                    <a:pt x="6186" y="523"/>
                  </a:cubicBezTo>
                  <a:cubicBezTo>
                    <a:pt x="6016" y="528"/>
                    <a:pt x="5846" y="533"/>
                    <a:pt x="5676" y="538"/>
                  </a:cubicBezTo>
                  <a:cubicBezTo>
                    <a:pt x="5608" y="572"/>
                    <a:pt x="5550" y="589"/>
                    <a:pt x="5496" y="643"/>
                  </a:cubicBezTo>
                  <a:cubicBezTo>
                    <a:pt x="5486" y="673"/>
                    <a:pt x="5477" y="712"/>
                    <a:pt x="5451" y="733"/>
                  </a:cubicBezTo>
                  <a:cubicBezTo>
                    <a:pt x="5439" y="743"/>
                    <a:pt x="5420" y="741"/>
                    <a:pt x="5406" y="748"/>
                  </a:cubicBezTo>
                  <a:cubicBezTo>
                    <a:pt x="5264" y="819"/>
                    <a:pt x="5387" y="774"/>
                    <a:pt x="5286" y="808"/>
                  </a:cubicBezTo>
                  <a:cubicBezTo>
                    <a:pt x="5081" y="785"/>
                    <a:pt x="5079" y="779"/>
                    <a:pt x="4836" y="793"/>
                  </a:cubicBezTo>
                  <a:cubicBezTo>
                    <a:pt x="4756" y="809"/>
                    <a:pt x="4674" y="827"/>
                    <a:pt x="4596" y="853"/>
                  </a:cubicBezTo>
                  <a:cubicBezTo>
                    <a:pt x="4497" y="927"/>
                    <a:pt x="4378" y="981"/>
                    <a:pt x="4266" y="1033"/>
                  </a:cubicBezTo>
                  <a:cubicBezTo>
                    <a:pt x="4186" y="1070"/>
                    <a:pt x="4093" y="1133"/>
                    <a:pt x="4011" y="1168"/>
                  </a:cubicBezTo>
                  <a:cubicBezTo>
                    <a:pt x="3992" y="1176"/>
                    <a:pt x="3970" y="1176"/>
                    <a:pt x="3951" y="1183"/>
                  </a:cubicBezTo>
                  <a:cubicBezTo>
                    <a:pt x="3930" y="1191"/>
                    <a:pt x="3912" y="1206"/>
                    <a:pt x="3891" y="1213"/>
                  </a:cubicBezTo>
                  <a:cubicBezTo>
                    <a:pt x="3826" y="1234"/>
                    <a:pt x="3759" y="1242"/>
                    <a:pt x="3694" y="1258"/>
                  </a:cubicBezTo>
                  <a:cubicBezTo>
                    <a:pt x="3674" y="1263"/>
                    <a:pt x="3634" y="1273"/>
                    <a:pt x="3634" y="1273"/>
                  </a:cubicBezTo>
                  <a:cubicBezTo>
                    <a:pt x="3525" y="1599"/>
                    <a:pt x="3238" y="1444"/>
                    <a:pt x="2869" y="1453"/>
                  </a:cubicBezTo>
                  <a:cubicBezTo>
                    <a:pt x="2819" y="1468"/>
                    <a:pt x="2766" y="1475"/>
                    <a:pt x="2719" y="1498"/>
                  </a:cubicBezTo>
                  <a:cubicBezTo>
                    <a:pt x="2684" y="1516"/>
                    <a:pt x="2692" y="1561"/>
                    <a:pt x="2674" y="1588"/>
                  </a:cubicBezTo>
                  <a:cubicBezTo>
                    <a:pt x="2651" y="1623"/>
                    <a:pt x="2617" y="1641"/>
                    <a:pt x="2584" y="1663"/>
                  </a:cubicBezTo>
                  <a:cubicBezTo>
                    <a:pt x="2579" y="1678"/>
                    <a:pt x="2582" y="1699"/>
                    <a:pt x="2569" y="1708"/>
                  </a:cubicBezTo>
                  <a:cubicBezTo>
                    <a:pt x="2543" y="1726"/>
                    <a:pt x="2505" y="1720"/>
                    <a:pt x="2479" y="1738"/>
                  </a:cubicBezTo>
                  <a:cubicBezTo>
                    <a:pt x="2453" y="1755"/>
                    <a:pt x="2393" y="1794"/>
                    <a:pt x="2374" y="1813"/>
                  </a:cubicBezTo>
                  <a:cubicBezTo>
                    <a:pt x="2274" y="1913"/>
                    <a:pt x="2419" y="1808"/>
                    <a:pt x="2299" y="1888"/>
                  </a:cubicBezTo>
                  <a:cubicBezTo>
                    <a:pt x="2230" y="1991"/>
                    <a:pt x="2273" y="1967"/>
                    <a:pt x="2194" y="1993"/>
                  </a:cubicBezTo>
                  <a:cubicBezTo>
                    <a:pt x="1998" y="2140"/>
                    <a:pt x="2236" y="1951"/>
                    <a:pt x="2104" y="2083"/>
                  </a:cubicBezTo>
                  <a:cubicBezTo>
                    <a:pt x="2035" y="2152"/>
                    <a:pt x="1968" y="2199"/>
                    <a:pt x="1909" y="2278"/>
                  </a:cubicBezTo>
                  <a:cubicBezTo>
                    <a:pt x="1904" y="2318"/>
                    <a:pt x="1906" y="2359"/>
                    <a:pt x="1894" y="2398"/>
                  </a:cubicBezTo>
                  <a:cubicBezTo>
                    <a:pt x="1885" y="2426"/>
                    <a:pt x="1862" y="2447"/>
                    <a:pt x="1849" y="2473"/>
                  </a:cubicBezTo>
                  <a:cubicBezTo>
                    <a:pt x="1780" y="2610"/>
                    <a:pt x="1863" y="2490"/>
                    <a:pt x="1774" y="2608"/>
                  </a:cubicBezTo>
                  <a:cubicBezTo>
                    <a:pt x="1769" y="2628"/>
                    <a:pt x="1774" y="2653"/>
                    <a:pt x="1759" y="2668"/>
                  </a:cubicBezTo>
                  <a:cubicBezTo>
                    <a:pt x="1694" y="2733"/>
                    <a:pt x="1503" y="2815"/>
                    <a:pt x="1414" y="2833"/>
                  </a:cubicBezTo>
                  <a:cubicBezTo>
                    <a:pt x="1344" y="2875"/>
                    <a:pt x="1283" y="2903"/>
                    <a:pt x="1204" y="2923"/>
                  </a:cubicBezTo>
                  <a:cubicBezTo>
                    <a:pt x="1022" y="2878"/>
                    <a:pt x="1054" y="2873"/>
                    <a:pt x="799" y="2908"/>
                  </a:cubicBezTo>
                  <a:cubicBezTo>
                    <a:pt x="772" y="2912"/>
                    <a:pt x="668" y="2982"/>
                    <a:pt x="619" y="2998"/>
                  </a:cubicBezTo>
                  <a:cubicBezTo>
                    <a:pt x="580" y="3114"/>
                    <a:pt x="478" y="3100"/>
                    <a:pt x="379" y="3133"/>
                  </a:cubicBezTo>
                  <a:cubicBezTo>
                    <a:pt x="307" y="3205"/>
                    <a:pt x="293" y="3256"/>
                    <a:pt x="184" y="3283"/>
                  </a:cubicBezTo>
                  <a:cubicBezTo>
                    <a:pt x="174" y="3298"/>
                    <a:pt x="169" y="3318"/>
                    <a:pt x="154" y="3328"/>
                  </a:cubicBezTo>
                  <a:cubicBezTo>
                    <a:pt x="109" y="3388"/>
                    <a:pt x="32" y="3365"/>
                    <a:pt x="6" y="3658"/>
                  </a:cubicBezTo>
                  <a:lnTo>
                    <a:pt x="0" y="5084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5904000" y="5137560"/>
              <a:ext cx="1316160" cy="1139400"/>
              <a:chOff x="5904000" y="5137560"/>
              <a:chExt cx="1316160" cy="1139400"/>
            </a:xfrm>
          </p:grpSpPr>
          <p:sp>
            <p:nvSpPr>
              <p:cNvPr id="83" name=""/>
              <p:cNvSpPr/>
              <p:nvPr/>
            </p:nvSpPr>
            <p:spPr>
              <a:xfrm>
                <a:off x="6281640" y="5497920"/>
                <a:ext cx="430200" cy="453600"/>
              </a:xfrm>
              <a:custGeom>
                <a:avLst/>
                <a:gdLst/>
                <a:ahLst/>
                <a:rect l="l" t="t" r="r" b="b"/>
                <a:pathLst>
                  <a:path w="1081" h="1112">
                    <a:moveTo>
                      <a:pt x="19" y="1112"/>
                    </a:moveTo>
                    <a:lnTo>
                      <a:pt x="1046" y="1112"/>
                    </a:lnTo>
                    <a:lnTo>
                      <a:pt x="1066" y="446"/>
                    </a:lnTo>
                    <a:cubicBezTo>
                      <a:pt x="1003" y="266"/>
                      <a:pt x="1081" y="324"/>
                      <a:pt x="992" y="191"/>
                    </a:cubicBezTo>
                    <a:cubicBezTo>
                      <a:pt x="967" y="154"/>
                      <a:pt x="912" y="151"/>
                      <a:pt x="872" y="131"/>
                    </a:cubicBezTo>
                    <a:cubicBezTo>
                      <a:pt x="791" y="91"/>
                      <a:pt x="706" y="44"/>
                      <a:pt x="617" y="26"/>
                    </a:cubicBezTo>
                    <a:cubicBezTo>
                      <a:pt x="394" y="38"/>
                      <a:pt x="396" y="0"/>
                      <a:pt x="271" y="71"/>
                    </a:cubicBezTo>
                    <a:cubicBezTo>
                      <a:pt x="255" y="80"/>
                      <a:pt x="242" y="93"/>
                      <a:pt x="226" y="101"/>
                    </a:cubicBezTo>
                    <a:cubicBezTo>
                      <a:pt x="212" y="108"/>
                      <a:pt x="195" y="108"/>
                      <a:pt x="181" y="116"/>
                    </a:cubicBezTo>
                    <a:cubicBezTo>
                      <a:pt x="149" y="134"/>
                      <a:pt x="91" y="176"/>
                      <a:pt x="91" y="176"/>
                    </a:cubicBezTo>
                    <a:cubicBezTo>
                      <a:pt x="61" y="241"/>
                      <a:pt x="12" y="350"/>
                      <a:pt x="0" y="506"/>
                    </a:cubicBezTo>
                    <a:lnTo>
                      <a:pt x="19" y="111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6743160" y="5230080"/>
                <a:ext cx="363240" cy="32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6788880" y="5765400"/>
                <a:ext cx="43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6584760" y="5137560"/>
                <a:ext cx="9072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6880" y="5183640"/>
                <a:ext cx="136440" cy="25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994720" y="5393160"/>
                <a:ext cx="226800" cy="16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904000" y="5695560"/>
                <a:ext cx="294840" cy="2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5904000" y="5951520"/>
                <a:ext cx="317520" cy="16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6198840" y="6044400"/>
                <a:ext cx="90720" cy="23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6494040" y="6044400"/>
                <a:ext cx="0" cy="23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flipV="1">
                <a:off x="6675480" y="6044400"/>
                <a:ext cx="181440" cy="23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 flipV="1">
                <a:off x="6788520" y="5951160"/>
                <a:ext cx="363240" cy="13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"/>
          <p:cNvSpPr/>
          <p:nvPr/>
        </p:nvSpPr>
        <p:spPr>
          <a:xfrm>
            <a:off x="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53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A5B62-0F4C-4166-A91B-4DD978DC71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Tahoma"/>
              </a:rPr>
              <a:t>Definiciones informa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16040" y="1424160"/>
            <a:ext cx="6481800" cy="498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20552-6A19-474B-B2F2-D1946301DF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Definición forma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ecánica de rocas (US National Committee on Rock Mechanics, 1964, 1974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 mecánica de rocas es la ciencia teórica y aplicada del comportamiento mecánico de la roca y de los macizos rocosos. Corresponde a la rama de la mecánica que estudia la respuesta de la roca y del macizo rocoso a los campos de fuerza de su entorno físico.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ecánica de rocas &lt; geomecánica (incluye suelo) = ingeniería geotécni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xcavaciones mineras cambian los campos de fuerza de su entor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A97EB-093D-4628-AA51-76EB681151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237280" y="1363680"/>
            <a:ext cx="3906720" cy="52531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Necesario para el Diseñ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06280" y="1692360"/>
            <a:ext cx="4646880" cy="3097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H="1" flipV="1">
            <a:off x="2959200" y="3193920"/>
            <a:ext cx="2325600" cy="24624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21440" y="2890800"/>
            <a:ext cx="620640" cy="1084320"/>
          </a:xfrm>
          <a:prstGeom prst="rect">
            <a:avLst/>
          </a:prstGeom>
          <a:solidFill>
            <a:srgbClr val="99cc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76960" y="2874960"/>
            <a:ext cx="213840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5438880" y="3973680"/>
            <a:ext cx="209232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7093080" y="12906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6416640" y="2502000"/>
            <a:ext cx="0" cy="341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384960" y="3990960"/>
            <a:ext cx="0" cy="372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197760" y="1908000"/>
                <a:ext cx="4316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226200" y="4370400"/>
                <a:ext cx="4316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126200" y="3122640"/>
                <a:ext cx="4017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 flipV="1">
            <a:off x="6540480" y="3371760"/>
            <a:ext cx="511200" cy="1080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338800" y="48690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372280" y="5516640"/>
                <a:ext cx="4316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372280" y="6111720"/>
                <a:ext cx="4014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6354720" y="501156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presente en el macizo roco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54720" y="561348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actuando sobre 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54720" y="6276960"/>
            <a:ext cx="278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istencia d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6159C-81E4-4E23-ACBE-127F820A81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eño de Ingeniería de Roc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307800" y="1378080"/>
            <a:ext cx="8385480" cy="52527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92320" y="2905200"/>
            <a:ext cx="620640" cy="1084320"/>
          </a:xfrm>
          <a:prstGeom prst="rect">
            <a:avLst/>
          </a:prstGeom>
          <a:solidFill>
            <a:srgbClr val="99cc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7840" y="2889360"/>
            <a:ext cx="213804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09760" y="3987360"/>
            <a:ext cx="209232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163600" y="13050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487520" y="2516040"/>
            <a:ext cx="0" cy="341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455840" y="4005360"/>
            <a:ext cx="0" cy="372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268280" y="1922400"/>
                <a:ext cx="4320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297080" y="4384800"/>
                <a:ext cx="4316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197080" y="3137040"/>
                <a:ext cx="4017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 flipV="1">
            <a:off x="1611360" y="3386160"/>
            <a:ext cx="511200" cy="1080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09680" y="488304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42800" y="5530680"/>
                <a:ext cx="4320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42800" y="6126120"/>
                <a:ext cx="4017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1425600" y="502596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presente en el macizo roco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25600" y="562752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actuando sobre 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25600" y="6245280"/>
            <a:ext cx="278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istencia d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40320" y="1395360"/>
            <a:ext cx="31680" cy="52228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345280" y="2046240"/>
                <a:ext cx="11538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4601520" y="142704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 de Seguridad del Dis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59360" y="3317760"/>
            <a:ext cx="35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 mayor a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tendencia actual es calcular la confiabilidad del dis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5259240" y="4967280"/>
                <a:ext cx="21020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f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4975200" y="5595840"/>
            <a:ext cx="33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Aproximación probabilística al diseño de min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BCAB5-0967-4F08-94F7-B2E47A2364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actores de Segurida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s-CL" sz="2800" spc="-1" strike="noStrike">
                <a:solidFill>
                  <a:srgbClr val="ffff00"/>
                </a:solidFill>
                <a:latin typeface="Tahoma"/>
              </a:rPr>
              <a:t>factor de seguridad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depende de la cantidad y calidad de la información utilizada para estimar las cargas y la resistencia de la ro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 la información es gruesa utilizar un factor de seguridad entre 2-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 existen ensayos de laboratorio del macizo rocoso utilizar un factor de seguridad en el rango 1.5-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in embargo cuando la información es pobre no existe factor de seguridad que garantice el Diseñ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39840" y="6286680"/>
            <a:ext cx="712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US Bureau of Reclamation Engineering Monograph on Design Criteria for Concrete Arch and Gravity dams,197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774D2-1DE7-4F64-8384-8843E5DDFA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Incertidumbre en las Diferentes Etapas del Diseño de Ingeniería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68320" y="1300320"/>
            <a:ext cx="4808520" cy="46162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09000" y="5946840"/>
            <a:ext cx="36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Hoek, When is a rock engineering design aceptable, 199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5E81F-1D8F-4916-A954-101B90D9D7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Cargas Sobre el Pila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ampo de esfuerzos en el macizo roco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nstitución del macizo rocoso, densida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profundidad del pilar mine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tectón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sfuerzos inducidos producidos por las excavaciones miner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E572E-F5D8-4EBB-95EB-00E1BE6302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Resistencia del Pila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arámetros Mecáni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ódulo de elasticidad de la ro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ódulo de pois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arámetros Constituti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he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Ángulo de fricción inter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ondición estructural del macizo roco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BB215-AA12-43C6-AD2E-49A3DBEC01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 mecánica de rocas trata con un material previamente cargado. Al alterar la geometría del macizo rocoso (mediante una excavación en la roca), se redistribuyen los esfuerzos exist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l macizo estaba en equilibrio y lo desestabilizamo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l principal problema de la mecánica de rocas es que se desconocen estas cargas. Es necesario, entonces, medir estos esfuerzos antes de iniciar la obr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s propiedades mecánicas de las rocas son desconocidas. Hay que medirlas mediante ensayos de laboratorio o de terreno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in embargo se requiere escalar sus resultados a macizo rocos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ro la roca no es homogénea, por lo que es difícil de modelar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F5665-9AA3-4437-96E4-35C7AEF92F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mari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roducci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rogramación del cur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Reglas del jue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68223-33F7-4DDD-86D7-E456E9AECB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Aplicaciones de la Mecánica de Roc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081320" y="2411280"/>
            <a:ext cx="4570560" cy="3140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rcRect l="33554" t="13814" r="16110" b="50058"/>
          <a:stretch/>
        </p:blipFill>
        <p:spPr>
          <a:xfrm>
            <a:off x="304920" y="1593720"/>
            <a:ext cx="3655800" cy="37306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Estructuras Planas y Excavación Circular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990720"/>
            <a:ext cx="3733920" cy="698400"/>
          </a:xfrm>
          <a:custGeom>
            <a:avLst/>
            <a:gdLst/>
            <a:ahLst/>
            <a:rect l="l" t="t" r="r" b="b"/>
            <a:pathLst>
              <a:path w="2352" h="440">
                <a:moveTo>
                  <a:pt x="0" y="392"/>
                </a:moveTo>
                <a:cubicBezTo>
                  <a:pt x="216" y="276"/>
                  <a:pt x="432" y="160"/>
                  <a:pt x="672" y="104"/>
                </a:cubicBezTo>
                <a:cubicBezTo>
                  <a:pt x="912" y="48"/>
                  <a:pt x="1160" y="0"/>
                  <a:pt x="1440" y="56"/>
                </a:cubicBezTo>
                <a:cubicBezTo>
                  <a:pt x="1720" y="112"/>
                  <a:pt x="2036" y="276"/>
                  <a:pt x="2352" y="44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24080" y="566892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  <a:ea typeface="Arial"/>
              </a:rPr>
              <a:t>North Pit, Homestake Pitch Mine, Sargents Color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1FC86-1EC5-4D5B-903B-26A0396F40F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cffff"/>
                </a:solidFill>
                <a:latin typeface="Tahoma"/>
              </a:rPr>
              <a:t>Estabilidad de Taludes Bagdad Mine, Arizona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654200"/>
            <a:ext cx="4343400" cy="32702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618080" y="3079800"/>
            <a:ext cx="4267080" cy="32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BB1A5-FF53-4B09-9249-2171BD2FC07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2760" y="26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ahoma"/>
              </a:rPr>
              <a:t>Grasberg Mine, Indonesia Octubre 9, 2003</a:t>
            </a:r>
            <a:br>
              <a:rPr sz="2500"/>
            </a:br>
            <a:r>
              <a:rPr b="0" lang="en-US" sz="2500" spc="-1" strike="noStrike">
                <a:solidFill>
                  <a:srgbClr val="ccffff"/>
                </a:solidFill>
                <a:latin typeface="Tahoma"/>
              </a:rPr>
              <a:t>Lo que pasa cuando el agua se acumula y el drenaje falla</a:t>
            </a:r>
            <a:endParaRPr b="0" lang="en-US" sz="25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867200" y="3375000"/>
            <a:ext cx="4276800" cy="32068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037120" y="241128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 Black"/>
              </a:rPr>
              <a:t>9 Personas Muer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38040" y="1757520"/>
            <a:ext cx="3602160" cy="480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E7317-D5A4-4358-82B3-076D79C2C2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Subsidencia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17440" y="2379600"/>
            <a:ext cx="4361040" cy="32702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rcRect l="8146" t="8396" r="17783" b="45605"/>
          <a:stretch/>
        </p:blipFill>
        <p:spPr>
          <a:xfrm>
            <a:off x="4616280" y="4619520"/>
            <a:ext cx="4329360" cy="20275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31480" y="1768320"/>
            <a:ext cx="41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ffff"/>
                </a:solidFill>
                <a:latin typeface="Times New Roman"/>
              </a:rPr>
              <a:t>Newcrest, Queensland, Austral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91880" y="405936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ffff"/>
                </a:solidFill>
                <a:latin typeface="Times New Roman"/>
              </a:rPr>
              <a:t>El Teniente,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004FD-C10E-4242-BA22-D6248C68201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Estabilidad de Excavaciones Subterráneas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2747880"/>
            <a:ext cx="4611600" cy="34592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-3960" y="2185920"/>
            <a:ext cx="43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ilar sobrecargado (overstress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867200" y="814320"/>
            <a:ext cx="3519720" cy="26402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4807080" y="3816360"/>
            <a:ext cx="3767040" cy="28256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344560" y="342252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olapso de un tún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4A79B-8904-425C-84CA-F4771CD6380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Fragmenta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735440" y="3289320"/>
            <a:ext cx="4059360" cy="27226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37840" y="4545000"/>
            <a:ext cx="27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DOZ, Freeport Indones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88640" y="6107040"/>
            <a:ext cx="423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Esmeralda- El Teniente, Codelco,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04920" y="1263600"/>
            <a:ext cx="4332240" cy="324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6D110-079F-4933-A3AF-2A0D18EC8E6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alabora, South Afric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0" t="-1636" r="0" b="2024"/>
          <a:stretch/>
        </p:blipFill>
        <p:spPr>
          <a:xfrm>
            <a:off x="365040" y="1843200"/>
            <a:ext cx="6399360" cy="45687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439640" y="1411200"/>
            <a:ext cx="37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ransición Rajo- Subterrán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00567-3B08-43C8-ACF7-18B7D377E39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Objetivo de la mecánica de roca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redecir y controlar el movimiento (desplazamientos) de las rocas entorno a las excav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Ocurren desplazamientos elástic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oca intacta podría fracturar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uede ocurrir deslizamiento a través de una estructura geológica (fall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Deflexiones excesivas de roca de techo y piso (por ejemplo, al despegarse de capas adyacente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Fallamiento inestable en el siste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royectos a mayor escala requieren condiciones de seguridad (RRHH y $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0913F-3243-4CB6-AFB5-03DF2B69B8F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Metodología para diseño: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stimar el campo de esfuerzo y su distribución sobre el pilar a diseñ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terminar propiedades de resistencia y deformación del cuerpo mineralizado y de la roca huésped de manera reproducible y con cierto grado de exactitu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finir las características estructurales del macizo rocoso: localización, persistencia y propiedades mecánicas de discontinuidades, dentro de la zona de influencia de la actividad miner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stablecer la distribución y magnitud de la presión de agua subterránea en el domin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valuar mediante técnicas analíticas los posibles modos de respuesta del macizo rocoso, para ciertas condiciones y geometría de las excavaciones miner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EBF84-B5F4-4F19-9DAF-6CC48803AA1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2204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076640" y="1565280"/>
            <a:ext cx="4835520" cy="44323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Desafíos Relacionados con El Diseño Minero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728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esfuerzo sobre el pilar cambia de acuerdo a la secuencia de excavació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resistencia del pilar cambia de acuerdo a la secuencia de excav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problema de diseño minero es dinámico, por lo tanto se debe resolver de manera iterati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179960" y="2143080"/>
            <a:ext cx="4670280" cy="35006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 flipH="1">
            <a:off x="5859360" y="1860480"/>
            <a:ext cx="387360" cy="9921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5989680" y="1511280"/>
                <a:ext cx="58896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 flipV="1">
            <a:off x="5622840" y="4027320"/>
            <a:ext cx="652680" cy="11462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319720" y="5219640"/>
                <a:ext cx="588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38F7A-472F-408A-B564-3F9B28CE246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rcRect l="0" t="0" r="0" b="2439"/>
          <a:stretch/>
        </p:blipFill>
        <p:spPr>
          <a:xfrm>
            <a:off x="31284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122880" y="6218280"/>
            <a:ext cx="1785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Pakalnis R, 2004. Rock Mechanics Lectures Not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8C004-D8B5-4C80-AB0A-59CC6F331EB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Consideracion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Fracturamiento de la ro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l campo de esfuerzos en minería es compresivo a diferencia de otros materiales en los cuales está relacionado con la tra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 compresión en conjunto con microfracturas genera zonas de alto cizall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omportamiento es altamente sensible al confinamien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Fallamiento por cizalle o cort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fectos de esca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Naturaleza discontinua del macizo roco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Resistencia y propiedades de deformación del macizo dependen de las propiedades de la roca intacta y de las discontinuidad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erforación </a:t>
            </a:r>
            <a:r>
              <a:rPr b="0" lang="es-MX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depende de propiedades de roca intact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xcavación de túnel </a:t>
            </a:r>
            <a:r>
              <a:rPr b="0" lang="es-MX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depende del comportamiento del sistema de fractur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ilar </a:t>
            </a:r>
            <a:r>
              <a:rPr b="0" lang="es-MX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comportamiento seudo-continu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ificultad para testear macizo roco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2056B-0C41-4751-8A2B-6E67B278E6C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Consideracion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Resistencia a la trac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 roca (y el concreto) muestra una muy baja resistencia a la tracción, un orden de magnitud menor a la resistencia a la compresión uniax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iscontinuidades prácticamente no tienen resistencia a la tra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Zonas que serán sometidas a tracción al realizarse una excavación generarán inestabilidades para desconfinar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fecto del agua subterrán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Agua en discontinuidades reduce resistencia al corte (fricció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uede alterar la roca y reducir su resis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Meteoriz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Alteración física o química de la superficie de la roca en contacto con gas o solu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Reduce calidad de la roca y coeficiente de fri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9A9B5-7182-4CE9-8E88-477821AA4AB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Estructura del curs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3 profeso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5080" y="2139840"/>
          <a:ext cx="8669160" cy="2276640"/>
        </p:xfrm>
        <a:graphic>
          <a:graphicData uri="http://schemas.openxmlformats.org/drawingml/2006/table">
            <a:tbl>
              <a:tblPr/>
              <a:tblGrid>
                <a:gridCol w="3019320"/>
                <a:gridCol w="5649840"/>
              </a:tblGrid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ulián Orti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undamentos de Mec. de Roc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fía Rebolle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eología Estructur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aúl Cast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plicaciones al Diseño Mine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F0A29-7525-489A-A0E8-BC1BD6DD2C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Evaluación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2 control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areas y laboratori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onder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2 controles + 1 Exa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ntroles y laboratorio deben ser aprobados separadam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8A242-664F-4D21-A721-04C45CF6D9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ograma del Curs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Introdu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spectos gener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evisión de métodos de explot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fuerzos y deformación infinitesim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Geología estructu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ropiedades de la roca intacta y ensayos de laborato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Medición de esfuerzos in situ y clasificación de macizo roco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Formas analíticas de esfuerzos en excav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cuaciones de Kirs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cuaciones para excavación elípt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Métodos de diseño geotéc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Diseño de pila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Diseño de caser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Diseño de talud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Soporte en minería subterráne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Modos de fal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75C4E-E683-4ED9-8720-632572A165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eño del Curs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l curso consta de 9 UD. 15 Semanas de clases. 135 horas disponibles para actividades relacionadas con el cur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898560" y="3487680"/>
            <a:ext cx="6696000" cy="2336760"/>
            <a:chOff x="898560" y="3487680"/>
            <a:chExt cx="6696000" cy="2336760"/>
          </a:xfrm>
        </p:grpSpPr>
        <p:sp>
          <p:nvSpPr>
            <p:cNvPr id="65" name=""/>
            <p:cNvSpPr/>
            <p:nvPr/>
          </p:nvSpPr>
          <p:spPr>
            <a:xfrm>
              <a:off x="898560" y="3487680"/>
              <a:ext cx="6696000" cy="230976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920880" y="3487680"/>
              <a:ext cx="6664320" cy="23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2D2C0-06B0-4BB6-B673-AADEB49BAA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Conceptos genera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n cualquier diseño estructural se quiere predecir su desempeño al ser sometido a </a:t>
            </a:r>
            <a:r>
              <a:rPr b="0" lang="es-MX" sz="2800" spc="-1" strike="noStrike">
                <a:solidFill>
                  <a:srgbClr val="ffff00"/>
                </a:solidFill>
                <a:latin typeface="Tahoma"/>
              </a:rPr>
              <a:t>cargas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durante su </a:t>
            </a:r>
            <a:r>
              <a:rPr b="0" lang="es-MX" sz="2800" spc="-1" strike="noStrike">
                <a:solidFill>
                  <a:srgbClr val="ffff00"/>
                </a:solidFill>
                <a:latin typeface="Tahoma"/>
              </a:rPr>
              <a:t>vida útil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n mecánica de rocas, interesa el desempeño de las excavaciones en roca generadas por la actividad mine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a mecánica de rocas está asociada a la mecánica clásica y mecánica de continuo, pero hay factores específicos que la distinguen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50016-3821-4506-B6A4-D3D6499212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Tahoma"/>
              </a:rPr>
              <a:t>Definiciones informa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Mecánic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área de la física que estudia el efecto de las fuerzas sobre los cuerp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Mecánica de roc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rama de la ingeniería que estudia el efecto de las fuerzas sobre las roc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Roc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parte sólida de la corteza terrestre formada por bloques sólidos y duros de gran tamaño, encajados y ligados entre sí. Agregado de minera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Suel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acumulación de partículas de pequeño tamaño (hasta 3 o 4”) y sin una ligazón fuerte entre sí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Discontinuidade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(joints): cualquier tipo de fractura en la roca. Son planos de fragilid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6B56E-E753-4EBC-B4CD-45AE4B4651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9:42:01Z</dcterms:created>
  <dc:creator>Julian Ortiz C.</dc:creator>
  <dc:description/>
  <dc:language>en-US</dc:language>
  <cp:lastModifiedBy>Windows Vista</cp:lastModifiedBy>
  <dcterms:modified xsi:type="dcterms:W3CDTF">2007-07-24T13:34:17Z</dcterms:modified>
  <cp:revision>220</cp:revision>
  <dc:subject/>
  <dc:title>Muestreo y Control de Calidad</dc:title>
</cp:coreProperties>
</file>