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24.png" ContentType="image/png"/>
  <Override PartName="/ppt/media/image1.png" ContentType="image/png"/>
  <Override PartName="/ppt/media/image23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494175-F23D-4A4C-82B4-4EA14C936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55360" y="4324320"/>
            <a:ext cx="5141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magma containing the minerals for an orebody rises up, it generates stresses in the host rock, rupturing it and causing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ul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r ruptures in the rock. Thus most orebodies are related to faulting in the earth’s crust. Faults are typically long linear features so that if a circular pit used to mine an orebody, it is likely to intersect a fault at two points leading to instability in at least two parts of the pit sl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meens, J., 2003 Geologic controls on complex slope displacement at the Pitch reclamation project. Engineering Geology in Colorado, Contributions, Trends, and Case Histories. AEG Jou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left is a landslide that occurred earlier this year following some rain storms. It hindered production for awhile. A berm was created at the base of the slide to protect the main haul ro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right is a major instability present since the mine came into production. The likely cause is an underlying fracture or fault. The mine wishes to do a major pushback on this pit wall in order to gain access to more ore. This could be a challenging ta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tober 9, 200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landslide causing perhaps eight fata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heavy rainfall and accumulation of water in soil layer at top of p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slide in December 2003 blocked access to high grade ore. Freeport declared force majeure and curtailed metal sa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by investor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ine being operated saf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it fulfill its sales contra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55360" y="4324320"/>
            <a:ext cx="5141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labora orebody is an igneous pipe structure containing copper, magnetite (iron oxide), vermiculite (used for insulation), zirconium, titanium, and uranium. The concentration of copper is 1% at the core of the 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e opened in 1964. It is a full mine-to-smelter complex. Open pit operations ended in 2002. The pit used to be the deepest and steepest in the world. The mine is now an underground block-caving operation with a 20 year mine life. Proven reserves are 225 Mt at 0.7% cop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D6A66-9862-4F62-91F7-B5715B3F5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5B79-33BD-467D-8336-99512D7D8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E8E16-F14E-4DB4-86C9-AA842AEC5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78BB-F689-4B89-9A39-940D086613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03463-CF0F-496A-8AF1-32DDE919E7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24A4-8F19-4B30-B259-FA626B316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F2FEB-0748-4A3B-8744-F706709D85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022E8-6FA5-457A-8FC2-F3EB4093C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2EF4-A051-4982-A0D4-8288B6ABB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BA46F-518A-494D-9884-B405E4DEA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DA3B6-2D84-41B9-9B01-C4F5FB021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E2B45-FC92-48A1-AEAE-289CE8558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DD7B833C-8EF7-4FB5-A07C-612A6265D82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4748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I46B</a:t>
            </a:r>
            <a:br>
              <a:rPr sz="4000"/>
            </a:b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eotecnia Miner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Julián Ortiz C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Raúl Cast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Tahoma"/>
              </a:rPr>
              <a:t>Sofía Rebolle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partamento de Ingeniería de Min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acizo rocos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rock mass): gran masa de roca componente de la corteza terrestre. Está compuesto po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Roca intacta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el volumen de roca que se encuentra entre las discontinuidades. También se llama matriz rocosa o sustancia rocos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Discontinuidad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 fallas, diaclasas, planos de fractura, de clivaje, et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21360" y="4226040"/>
            <a:ext cx="3161520" cy="2202840"/>
            <a:chOff x="621360" y="4226040"/>
            <a:chExt cx="3161520" cy="2202840"/>
          </a:xfrm>
        </p:grpSpPr>
        <p:sp>
          <p:nvSpPr>
            <p:cNvPr id="74" name=""/>
            <p:cNvSpPr/>
            <p:nvPr/>
          </p:nvSpPr>
          <p:spPr>
            <a:xfrm>
              <a:off x="657360" y="4226040"/>
              <a:ext cx="3113280" cy="985680"/>
            </a:xfrm>
            <a:custGeom>
              <a:avLst/>
              <a:gdLst/>
              <a:ahLst/>
              <a:rect l="l" t="t" r="r" b="b"/>
              <a:pathLst>
                <a:path w="4902" h="1552">
                  <a:moveTo>
                    <a:pt x="4875" y="1552"/>
                  </a:moveTo>
                  <a:cubicBezTo>
                    <a:pt x="4902" y="1334"/>
                    <a:pt x="4890" y="1386"/>
                    <a:pt x="4890" y="215"/>
                  </a:cubicBezTo>
                  <a:cubicBezTo>
                    <a:pt x="4736" y="0"/>
                    <a:pt x="4215" y="282"/>
                    <a:pt x="3950" y="259"/>
                  </a:cubicBezTo>
                  <a:cubicBezTo>
                    <a:pt x="3755" y="214"/>
                    <a:pt x="3895" y="99"/>
                    <a:pt x="3299" y="79"/>
                  </a:cubicBezTo>
                  <a:cubicBezTo>
                    <a:pt x="2950" y="59"/>
                    <a:pt x="2543" y="289"/>
                    <a:pt x="2263" y="346"/>
                  </a:cubicBezTo>
                  <a:cubicBezTo>
                    <a:pt x="1983" y="403"/>
                    <a:pt x="1843" y="453"/>
                    <a:pt x="1618" y="421"/>
                  </a:cubicBezTo>
                  <a:cubicBezTo>
                    <a:pt x="1393" y="389"/>
                    <a:pt x="1113" y="186"/>
                    <a:pt x="913" y="151"/>
                  </a:cubicBezTo>
                  <a:cubicBezTo>
                    <a:pt x="713" y="116"/>
                    <a:pt x="565" y="203"/>
                    <a:pt x="418" y="211"/>
                  </a:cubicBezTo>
                  <a:cubicBezTo>
                    <a:pt x="286" y="221"/>
                    <a:pt x="37" y="119"/>
                    <a:pt x="29" y="199"/>
                  </a:cubicBezTo>
                  <a:cubicBezTo>
                    <a:pt x="21" y="860"/>
                    <a:pt x="0" y="1522"/>
                    <a:pt x="0" y="1522"/>
                  </a:cubicBezTo>
                  <a:lnTo>
                    <a:pt x="4875" y="155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5480" y="4950720"/>
              <a:ext cx="3125160" cy="717480"/>
            </a:xfrm>
            <a:custGeom>
              <a:avLst/>
              <a:gdLst/>
              <a:ahLst/>
              <a:rect l="l" t="t" r="r" b="b"/>
              <a:pathLst>
                <a:path w="4978" h="1130">
                  <a:moveTo>
                    <a:pt x="4951" y="1130"/>
                  </a:moveTo>
                  <a:cubicBezTo>
                    <a:pt x="4978" y="984"/>
                    <a:pt x="4966" y="1019"/>
                    <a:pt x="4966" y="233"/>
                  </a:cubicBezTo>
                  <a:cubicBezTo>
                    <a:pt x="4809" y="89"/>
                    <a:pt x="4381" y="120"/>
                    <a:pt x="4112" y="105"/>
                  </a:cubicBezTo>
                  <a:cubicBezTo>
                    <a:pt x="3914" y="75"/>
                    <a:pt x="3956" y="155"/>
                    <a:pt x="3350" y="142"/>
                  </a:cubicBezTo>
                  <a:cubicBezTo>
                    <a:pt x="3149" y="126"/>
                    <a:pt x="3000" y="156"/>
                    <a:pt x="2807" y="165"/>
                  </a:cubicBezTo>
                  <a:cubicBezTo>
                    <a:pt x="2632" y="151"/>
                    <a:pt x="2459" y="82"/>
                    <a:pt x="2297" y="60"/>
                  </a:cubicBezTo>
                  <a:cubicBezTo>
                    <a:pt x="2135" y="38"/>
                    <a:pt x="2012" y="0"/>
                    <a:pt x="1832" y="30"/>
                  </a:cubicBezTo>
                  <a:cubicBezTo>
                    <a:pt x="1652" y="60"/>
                    <a:pt x="1447" y="235"/>
                    <a:pt x="1217" y="240"/>
                  </a:cubicBezTo>
                  <a:cubicBezTo>
                    <a:pt x="987" y="245"/>
                    <a:pt x="650" y="63"/>
                    <a:pt x="452" y="60"/>
                  </a:cubicBezTo>
                  <a:cubicBezTo>
                    <a:pt x="318" y="67"/>
                    <a:pt x="38" y="169"/>
                    <a:pt x="29" y="222"/>
                  </a:cubicBezTo>
                  <a:cubicBezTo>
                    <a:pt x="21" y="666"/>
                    <a:pt x="0" y="1110"/>
                    <a:pt x="0" y="1110"/>
                  </a:cubicBezTo>
                  <a:lnTo>
                    <a:pt x="4951" y="113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1360" y="5441760"/>
              <a:ext cx="3161520" cy="987120"/>
            </a:xfrm>
            <a:custGeom>
              <a:avLst/>
              <a:gdLst/>
              <a:ahLst/>
              <a:rect l="l" t="t" r="r" b="b"/>
              <a:pathLst>
                <a:path w="4978" h="1554">
                  <a:moveTo>
                    <a:pt x="4951" y="1554"/>
                  </a:moveTo>
                  <a:cubicBezTo>
                    <a:pt x="4978" y="1336"/>
                    <a:pt x="4966" y="1388"/>
                    <a:pt x="4966" y="215"/>
                  </a:cubicBezTo>
                  <a:cubicBezTo>
                    <a:pt x="4809" y="0"/>
                    <a:pt x="4280" y="282"/>
                    <a:pt x="4011" y="259"/>
                  </a:cubicBezTo>
                  <a:cubicBezTo>
                    <a:pt x="3813" y="214"/>
                    <a:pt x="3956" y="99"/>
                    <a:pt x="3350" y="79"/>
                  </a:cubicBezTo>
                  <a:cubicBezTo>
                    <a:pt x="3138" y="47"/>
                    <a:pt x="2954" y="174"/>
                    <a:pt x="2755" y="187"/>
                  </a:cubicBezTo>
                  <a:cubicBezTo>
                    <a:pt x="2556" y="200"/>
                    <a:pt x="2352" y="169"/>
                    <a:pt x="2155" y="157"/>
                  </a:cubicBezTo>
                  <a:cubicBezTo>
                    <a:pt x="1958" y="145"/>
                    <a:pt x="1745" y="102"/>
                    <a:pt x="1570" y="112"/>
                  </a:cubicBezTo>
                  <a:cubicBezTo>
                    <a:pt x="1395" y="122"/>
                    <a:pt x="1304" y="213"/>
                    <a:pt x="1105" y="217"/>
                  </a:cubicBezTo>
                  <a:cubicBezTo>
                    <a:pt x="906" y="221"/>
                    <a:pt x="553" y="142"/>
                    <a:pt x="374" y="139"/>
                  </a:cubicBezTo>
                  <a:cubicBezTo>
                    <a:pt x="240" y="149"/>
                    <a:pt x="38" y="119"/>
                    <a:pt x="29" y="199"/>
                  </a:cubicBezTo>
                  <a:cubicBezTo>
                    <a:pt x="21" y="861"/>
                    <a:pt x="0" y="1524"/>
                    <a:pt x="0" y="1524"/>
                  </a:cubicBezTo>
                  <a:lnTo>
                    <a:pt x="4951" y="155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000" y="4536360"/>
              <a:ext cx="687600" cy="25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suelo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71120" y="5151960"/>
              <a:ext cx="941040" cy="25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transición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71120" y="5876280"/>
              <a:ext cx="687600" cy="25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roca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4859280" y="4365720"/>
            <a:ext cx="3110040" cy="2074680"/>
            <a:chOff x="4859280" y="4365720"/>
            <a:chExt cx="3110040" cy="2074680"/>
          </a:xfrm>
        </p:grpSpPr>
        <p:sp>
          <p:nvSpPr>
            <p:cNvPr id="81" name=""/>
            <p:cNvSpPr/>
            <p:nvPr/>
          </p:nvSpPr>
          <p:spPr>
            <a:xfrm>
              <a:off x="4859280" y="4365720"/>
              <a:ext cx="3110040" cy="2074680"/>
            </a:xfrm>
            <a:custGeom>
              <a:avLst/>
              <a:gdLst/>
              <a:ahLst/>
              <a:rect l="l" t="t" r="r" b="b"/>
              <a:pathLst>
                <a:path w="7811" h="5084">
                  <a:moveTo>
                    <a:pt x="0" y="5084"/>
                  </a:moveTo>
                  <a:lnTo>
                    <a:pt x="7811" y="5084"/>
                  </a:lnTo>
                  <a:cubicBezTo>
                    <a:pt x="7754" y="3444"/>
                    <a:pt x="7788" y="1798"/>
                    <a:pt x="7641" y="163"/>
                  </a:cubicBezTo>
                  <a:cubicBezTo>
                    <a:pt x="7626" y="0"/>
                    <a:pt x="7198" y="275"/>
                    <a:pt x="7146" y="298"/>
                  </a:cubicBezTo>
                  <a:cubicBezTo>
                    <a:pt x="7117" y="311"/>
                    <a:pt x="7056" y="328"/>
                    <a:pt x="7056" y="328"/>
                  </a:cubicBezTo>
                  <a:cubicBezTo>
                    <a:pt x="6804" y="517"/>
                    <a:pt x="6487" y="513"/>
                    <a:pt x="6186" y="523"/>
                  </a:cubicBezTo>
                  <a:cubicBezTo>
                    <a:pt x="6016" y="528"/>
                    <a:pt x="5846" y="533"/>
                    <a:pt x="5676" y="538"/>
                  </a:cubicBezTo>
                  <a:cubicBezTo>
                    <a:pt x="5608" y="572"/>
                    <a:pt x="5550" y="589"/>
                    <a:pt x="5496" y="643"/>
                  </a:cubicBezTo>
                  <a:cubicBezTo>
                    <a:pt x="5486" y="673"/>
                    <a:pt x="5477" y="712"/>
                    <a:pt x="5451" y="733"/>
                  </a:cubicBezTo>
                  <a:cubicBezTo>
                    <a:pt x="5439" y="743"/>
                    <a:pt x="5420" y="741"/>
                    <a:pt x="5406" y="748"/>
                  </a:cubicBezTo>
                  <a:cubicBezTo>
                    <a:pt x="5264" y="819"/>
                    <a:pt x="5387" y="774"/>
                    <a:pt x="5286" y="808"/>
                  </a:cubicBezTo>
                  <a:cubicBezTo>
                    <a:pt x="5081" y="785"/>
                    <a:pt x="5079" y="779"/>
                    <a:pt x="4836" y="793"/>
                  </a:cubicBezTo>
                  <a:cubicBezTo>
                    <a:pt x="4756" y="809"/>
                    <a:pt x="4674" y="827"/>
                    <a:pt x="4596" y="853"/>
                  </a:cubicBezTo>
                  <a:cubicBezTo>
                    <a:pt x="4497" y="927"/>
                    <a:pt x="4378" y="981"/>
                    <a:pt x="4266" y="1033"/>
                  </a:cubicBezTo>
                  <a:cubicBezTo>
                    <a:pt x="4186" y="1070"/>
                    <a:pt x="4093" y="1133"/>
                    <a:pt x="4011" y="1168"/>
                  </a:cubicBezTo>
                  <a:cubicBezTo>
                    <a:pt x="3992" y="1176"/>
                    <a:pt x="3970" y="1176"/>
                    <a:pt x="3951" y="1183"/>
                  </a:cubicBezTo>
                  <a:cubicBezTo>
                    <a:pt x="3930" y="1191"/>
                    <a:pt x="3912" y="1206"/>
                    <a:pt x="3891" y="1213"/>
                  </a:cubicBezTo>
                  <a:cubicBezTo>
                    <a:pt x="3826" y="1234"/>
                    <a:pt x="3759" y="1242"/>
                    <a:pt x="3694" y="1258"/>
                  </a:cubicBezTo>
                  <a:cubicBezTo>
                    <a:pt x="3674" y="1263"/>
                    <a:pt x="3634" y="1273"/>
                    <a:pt x="3634" y="1273"/>
                  </a:cubicBezTo>
                  <a:cubicBezTo>
                    <a:pt x="3525" y="1599"/>
                    <a:pt x="3238" y="1444"/>
                    <a:pt x="2869" y="1453"/>
                  </a:cubicBezTo>
                  <a:cubicBezTo>
                    <a:pt x="2819" y="1468"/>
                    <a:pt x="2766" y="1475"/>
                    <a:pt x="2719" y="1498"/>
                  </a:cubicBezTo>
                  <a:cubicBezTo>
                    <a:pt x="2684" y="1516"/>
                    <a:pt x="2692" y="1561"/>
                    <a:pt x="2674" y="1588"/>
                  </a:cubicBezTo>
                  <a:cubicBezTo>
                    <a:pt x="2651" y="1623"/>
                    <a:pt x="2617" y="1641"/>
                    <a:pt x="2584" y="1663"/>
                  </a:cubicBezTo>
                  <a:cubicBezTo>
                    <a:pt x="2579" y="1678"/>
                    <a:pt x="2582" y="1699"/>
                    <a:pt x="2569" y="1708"/>
                  </a:cubicBezTo>
                  <a:cubicBezTo>
                    <a:pt x="2543" y="1726"/>
                    <a:pt x="2505" y="1720"/>
                    <a:pt x="2479" y="1738"/>
                  </a:cubicBezTo>
                  <a:cubicBezTo>
                    <a:pt x="2453" y="1755"/>
                    <a:pt x="2393" y="1794"/>
                    <a:pt x="2374" y="1813"/>
                  </a:cubicBezTo>
                  <a:cubicBezTo>
                    <a:pt x="2274" y="1913"/>
                    <a:pt x="2419" y="1808"/>
                    <a:pt x="2299" y="1888"/>
                  </a:cubicBezTo>
                  <a:cubicBezTo>
                    <a:pt x="2230" y="1991"/>
                    <a:pt x="2273" y="1967"/>
                    <a:pt x="2194" y="1993"/>
                  </a:cubicBezTo>
                  <a:cubicBezTo>
                    <a:pt x="1998" y="2140"/>
                    <a:pt x="2236" y="1951"/>
                    <a:pt x="2104" y="2083"/>
                  </a:cubicBezTo>
                  <a:cubicBezTo>
                    <a:pt x="2035" y="2152"/>
                    <a:pt x="1968" y="2199"/>
                    <a:pt x="1909" y="2278"/>
                  </a:cubicBezTo>
                  <a:cubicBezTo>
                    <a:pt x="1904" y="2318"/>
                    <a:pt x="1906" y="2359"/>
                    <a:pt x="1894" y="2398"/>
                  </a:cubicBezTo>
                  <a:cubicBezTo>
                    <a:pt x="1885" y="2426"/>
                    <a:pt x="1862" y="2447"/>
                    <a:pt x="1849" y="2473"/>
                  </a:cubicBezTo>
                  <a:cubicBezTo>
                    <a:pt x="1780" y="2610"/>
                    <a:pt x="1863" y="2490"/>
                    <a:pt x="1774" y="2608"/>
                  </a:cubicBezTo>
                  <a:cubicBezTo>
                    <a:pt x="1769" y="2628"/>
                    <a:pt x="1774" y="2653"/>
                    <a:pt x="1759" y="2668"/>
                  </a:cubicBezTo>
                  <a:cubicBezTo>
                    <a:pt x="1694" y="2733"/>
                    <a:pt x="1503" y="2815"/>
                    <a:pt x="1414" y="2833"/>
                  </a:cubicBezTo>
                  <a:cubicBezTo>
                    <a:pt x="1344" y="2875"/>
                    <a:pt x="1283" y="2903"/>
                    <a:pt x="1204" y="2923"/>
                  </a:cubicBezTo>
                  <a:cubicBezTo>
                    <a:pt x="1022" y="2878"/>
                    <a:pt x="1054" y="2873"/>
                    <a:pt x="799" y="2908"/>
                  </a:cubicBezTo>
                  <a:cubicBezTo>
                    <a:pt x="772" y="2912"/>
                    <a:pt x="668" y="2982"/>
                    <a:pt x="619" y="2998"/>
                  </a:cubicBezTo>
                  <a:cubicBezTo>
                    <a:pt x="580" y="3114"/>
                    <a:pt x="478" y="3100"/>
                    <a:pt x="379" y="3133"/>
                  </a:cubicBezTo>
                  <a:cubicBezTo>
                    <a:pt x="307" y="3205"/>
                    <a:pt x="293" y="3256"/>
                    <a:pt x="184" y="3283"/>
                  </a:cubicBezTo>
                  <a:cubicBezTo>
                    <a:pt x="174" y="3298"/>
                    <a:pt x="169" y="3318"/>
                    <a:pt x="154" y="3328"/>
                  </a:cubicBezTo>
                  <a:cubicBezTo>
                    <a:pt x="109" y="3388"/>
                    <a:pt x="32" y="3365"/>
                    <a:pt x="6" y="3658"/>
                  </a:cubicBezTo>
                  <a:lnTo>
                    <a:pt x="0" y="5084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5904000" y="5137560"/>
              <a:ext cx="1316160" cy="1139400"/>
              <a:chOff x="5904000" y="5137560"/>
              <a:chExt cx="1316160" cy="1139400"/>
            </a:xfrm>
          </p:grpSpPr>
          <p:sp>
            <p:nvSpPr>
              <p:cNvPr id="83" name=""/>
              <p:cNvSpPr/>
              <p:nvPr/>
            </p:nvSpPr>
            <p:spPr>
              <a:xfrm>
                <a:off x="6281640" y="5497920"/>
                <a:ext cx="430200" cy="453600"/>
              </a:xfrm>
              <a:custGeom>
                <a:avLst/>
                <a:gdLst/>
                <a:ahLst/>
                <a:rect l="l" t="t" r="r" b="b"/>
                <a:pathLst>
                  <a:path w="1081" h="1112">
                    <a:moveTo>
                      <a:pt x="19" y="1112"/>
                    </a:moveTo>
                    <a:lnTo>
                      <a:pt x="1046" y="1112"/>
                    </a:lnTo>
                    <a:lnTo>
                      <a:pt x="1066" y="446"/>
                    </a:lnTo>
                    <a:cubicBezTo>
                      <a:pt x="1003" y="266"/>
                      <a:pt x="1081" y="324"/>
                      <a:pt x="992" y="191"/>
                    </a:cubicBezTo>
                    <a:cubicBezTo>
                      <a:pt x="967" y="154"/>
                      <a:pt x="912" y="151"/>
                      <a:pt x="872" y="131"/>
                    </a:cubicBezTo>
                    <a:cubicBezTo>
                      <a:pt x="791" y="91"/>
                      <a:pt x="706" y="44"/>
                      <a:pt x="617" y="26"/>
                    </a:cubicBezTo>
                    <a:cubicBezTo>
                      <a:pt x="394" y="38"/>
                      <a:pt x="396" y="0"/>
                      <a:pt x="271" y="71"/>
                    </a:cubicBezTo>
                    <a:cubicBezTo>
                      <a:pt x="255" y="80"/>
                      <a:pt x="242" y="93"/>
                      <a:pt x="226" y="101"/>
                    </a:cubicBezTo>
                    <a:cubicBezTo>
                      <a:pt x="212" y="108"/>
                      <a:pt x="195" y="108"/>
                      <a:pt x="181" y="116"/>
                    </a:cubicBezTo>
                    <a:cubicBezTo>
                      <a:pt x="149" y="134"/>
                      <a:pt x="91" y="176"/>
                      <a:pt x="91" y="176"/>
                    </a:cubicBezTo>
                    <a:cubicBezTo>
                      <a:pt x="61" y="241"/>
                      <a:pt x="12" y="350"/>
                      <a:pt x="0" y="506"/>
                    </a:cubicBezTo>
                    <a:lnTo>
                      <a:pt x="19" y="111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6743160" y="5230080"/>
                <a:ext cx="363240" cy="32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788880" y="5765400"/>
                <a:ext cx="43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6584760" y="5137560"/>
                <a:ext cx="9072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6880" y="5183640"/>
                <a:ext cx="136440" cy="25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94720" y="5393160"/>
                <a:ext cx="226800" cy="16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904000" y="5695560"/>
                <a:ext cx="29484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5904000" y="5951520"/>
                <a:ext cx="317520" cy="162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6198840" y="6044400"/>
                <a:ext cx="9072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>
                <a:off x="6494040" y="6044400"/>
                <a:ext cx="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6675480" y="6044400"/>
                <a:ext cx="181440" cy="23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flipV="1">
                <a:off x="6788520" y="5951160"/>
                <a:ext cx="36324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5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3603-4497-4422-A788-5BB3304F18F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16040" y="1424160"/>
            <a:ext cx="6481800" cy="498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83B55-F43E-498F-BF43-94E430F207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Definición form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ánica de rocas (US National Committee on Rock Mechanics, 1964, 1974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mecánica de rocas es la ciencia teórica y aplicada del comportamiento mecánico de la roca y de los macizos rocosos. Corresponde a la rama de la mecánica que estudia la respuesta de la roca y del macizo rocoso a los campos de fuerza de su entorno físico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Mecánica de rocas &lt; geomecánica (incluye suelo) = ingeniería geotécn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xcavaciones mineras cambian los campos de fuerza de su entor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C285F-8DAD-4714-B5DD-FA93297933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Necesario para el Diseñ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197760" y="19080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226200" y="43704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2280" y="551664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D83DE-89B5-4BFB-9E5D-38FB939797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Ingeniería de Ro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68280" y="1922400"/>
                <a:ext cx="43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297080" y="4384800"/>
                <a:ext cx="431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42800" y="5530680"/>
                <a:ext cx="4320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5CF4D-586D-44BF-9C82-C04788436E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es de Seguridad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</a:t>
            </a: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factor de seguridad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depende de la cantidad y calidad de la información utilizada para estimar las cargas y la resistencia de la ro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la información es gruesa utilizar un factor de seguridad entre 2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i existen ensayos de laboratorio del macizo rocoso utilizar un factor de seguridad en el rango 1.5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n embargo cuando la información es pobre no existe factor de seguridad que garantice el Diseñ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39840" y="6286680"/>
            <a:ext cx="712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US Bureau of Reclamation Engineering Monograph on Design Criteria for Concrete Arch and Gravity dams,197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4E941-F6C9-45EA-94E5-F884528BF4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Incertidumbre en las Diferentes Etapas del Diseño de Ingenierí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68320" y="1300320"/>
            <a:ext cx="4808520" cy="4616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09000" y="5946840"/>
            <a:ext cx="36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Hoek, When is a rock engineering design aceptable, 199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C244D-AAE3-471E-A526-19AA9D7B4B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rgas Sobre 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ampo de esfuerzos en el macizo ro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stitución del macizo rocoso, dens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profundidad del pilar min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tectón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fuerzos inducidos producidos por las excavaciones mine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ED4DE-66CA-4372-94F4-0506E4C659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Resistencia d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arámetros Mecáni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ódulo de elasticidad de la ro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ódulo de poiss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arámetros Constitu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he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Ángulo de fricción inter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ndición estructural del macizo ro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34275-234D-4F6B-8737-88E0D1E400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 mecánica de rocas trata con un material previamente cargado. Al alterar la geometría del macizo rocoso (mediante una excavación en la roca), se redistribuyen los esfuerzos exist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macizo estaba en equilibrio y lo desestabilizamos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l principal problema de la mecánica de rocas es que se desconocen estas cargas. Es necesario, entonces, medir estos esfuerzos antes de iniciar la obra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s propiedades mecánicas de las rocas son desconocidas. Hay que medirlas mediante ensayos de laboratorio o de terren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in embargo se requiere escalar sus resultados a macizo roco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ro la roca no es homogénea, por lo que es difícil de modela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84BD-F257-4351-9D4F-CE6EE1EA5E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ci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gramación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glas del jue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5F63-96C1-4D39-B3F5-BC19789C61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Aplicaciones de la Mecánica de Roc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081320" y="2411280"/>
            <a:ext cx="4570560" cy="3140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rcRect l="33554" t="13814" r="16110" b="50058"/>
          <a:stretch/>
        </p:blipFill>
        <p:spPr>
          <a:xfrm>
            <a:off x="304920" y="1593720"/>
            <a:ext cx="3655800" cy="37306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structuras Planas y Excavación Circular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895480" y="990720"/>
            <a:ext cx="3733920" cy="698400"/>
          </a:xfrm>
          <a:custGeom>
            <a:avLst/>
            <a:gdLst/>
            <a:ahLst/>
            <a:rect l="l" t="t" r="r" b="b"/>
            <a:pathLst>
              <a:path w="2352" h="440">
                <a:moveTo>
                  <a:pt x="0" y="392"/>
                </a:moveTo>
                <a:cubicBezTo>
                  <a:pt x="216" y="276"/>
                  <a:pt x="432" y="160"/>
                  <a:pt x="672" y="104"/>
                </a:cubicBezTo>
                <a:cubicBezTo>
                  <a:pt x="912" y="48"/>
                  <a:pt x="1160" y="0"/>
                  <a:pt x="1440" y="56"/>
                </a:cubicBezTo>
                <a:cubicBezTo>
                  <a:pt x="1720" y="112"/>
                  <a:pt x="2036" y="276"/>
                  <a:pt x="2352" y="44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24080" y="5668920"/>
            <a:ext cx="63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  <a:ea typeface="Arial"/>
              </a:rPr>
              <a:t>North Pit, Homestake Pitch Mine, Sargents Colo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62E1-7EC8-40C4-8CE8-5695D1FFAE6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ccffff"/>
                </a:solidFill>
                <a:latin typeface="Tahoma"/>
              </a:rPr>
              <a:t>Estabilidad de Taludes Bagdad Mine, Arizon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654200"/>
            <a:ext cx="4343400" cy="3270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618080" y="3079800"/>
            <a:ext cx="4267080" cy="32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C81C-19C2-42A9-A5A2-07388FC99ED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276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ffff"/>
                </a:solidFill>
                <a:latin typeface="Tahoma"/>
              </a:rPr>
              <a:t>Grasberg Mine, Indonesia Octubre 9, 2003</a:t>
            </a:r>
            <a:br>
              <a:rPr sz="2500"/>
            </a:br>
            <a:r>
              <a:rPr b="0" lang="en-US" sz="2500" spc="-1" strike="noStrike">
                <a:solidFill>
                  <a:srgbClr val="ccffff"/>
                </a:solidFill>
                <a:latin typeface="Tahoma"/>
              </a:rPr>
              <a:t>Lo que pasa cuando el agua se acumula y el drenaje falla</a:t>
            </a:r>
            <a:endParaRPr b="0" lang="en-US" sz="2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867200" y="3375000"/>
            <a:ext cx="4276800" cy="3206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37120" y="24112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 Black"/>
              </a:rPr>
              <a:t>9 Personas Muer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38040" y="1757520"/>
            <a:ext cx="3602160" cy="48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084EA-544C-4737-A4E2-9C4C70AFAA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Subsidencia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17440" y="2379600"/>
            <a:ext cx="4361040" cy="3270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8146" t="8396" r="17783" b="45605"/>
          <a:stretch/>
        </p:blipFill>
        <p:spPr>
          <a:xfrm>
            <a:off x="4616280" y="4619520"/>
            <a:ext cx="4329360" cy="2027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31480" y="1768320"/>
            <a:ext cx="41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ffff"/>
                </a:solidFill>
                <a:latin typeface="Times New Roman"/>
              </a:rPr>
              <a:t>Newcrest, Queensland, Austral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91880" y="405936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ffff"/>
                </a:solidFill>
                <a:latin typeface="Times New Roman"/>
              </a:rPr>
              <a:t>El Teniente,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52773-3743-4133-A2BF-99EF058DD8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Estabilidad de Excavaciones Subterráneas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747880"/>
            <a:ext cx="4611600" cy="3459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-3960" y="218592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ilar sobrecargado (overstress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67200" y="814320"/>
            <a:ext cx="3519720" cy="26402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807080" y="3816360"/>
            <a:ext cx="3767040" cy="2825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344560" y="342252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lapso de un tú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BB1FD-8DDC-46AF-8A45-6D6A2EF229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Fragment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735440" y="3289320"/>
            <a:ext cx="4059360" cy="2722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7840" y="4545000"/>
            <a:ext cx="27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DOZ, Freeport Indones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88640" y="6107040"/>
            <a:ext cx="42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Esmeralda- El Teniente, Codelco,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04920" y="1263600"/>
            <a:ext cx="4332240" cy="32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A2D02-8428-48AE-9AED-C18B5E9417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alabora, South Afr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0" t="-1636" r="0" b="2024"/>
          <a:stretch/>
        </p:blipFill>
        <p:spPr>
          <a:xfrm>
            <a:off x="365040" y="1843200"/>
            <a:ext cx="6399360" cy="4568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439640" y="141120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ransición Rajo- Subterrán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10CB6-67DB-4793-ADE9-12652F9316F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Objetivo de la mecánica de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edecir y controlar el movimiento (desplazamientos) de las rocas entorno a las excav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Ocurren desplazamientos elástic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Roca intacta podría fracturar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uede ocurrir deslizamiento a través de una estructura geológica (fall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Deflexiones excesivas de roca de techo y piso (por ejemplo, al despegarse de capas adyacent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Fallamiento inestable en el siste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royectos a mayor escala requieren condiciones de seguridad (RRHH y $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35EF1-89C1-4F61-9FE7-13CE53E97BA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Metodología para diseño: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imar el campo de esfuerzo y su distribución sobre el pilar a diseñ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terminar propiedades de resistencia y deformación del cuerpo mineralizado y de la roca huésped de manera reproducible y con cierto grado de exactitu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finir las características estructurales del macizo rocoso: localización, persistencia y propiedades mecánicas de discontinuidades, dentro de la zona de influencia de la actividad miner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ablecer la distribución y magnitud de la presión de agua subterránea en el domin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valuar mediante técnicas analíticas los posibles modos de respuesta del macizo rocoso, para ciertas condiciones y geometría de las excavaciones mine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E372E-5253-4CB3-86A4-35C2FB4D7A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2204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076640" y="1565280"/>
            <a:ext cx="4835520" cy="4432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500" spc="-1" strike="noStrike">
                <a:solidFill>
                  <a:srgbClr val="ccffff"/>
                </a:solidFill>
                <a:latin typeface="Tahoma"/>
              </a:rPr>
              <a:t>Desafíos Relacionados con El Diseño Minero</a:t>
            </a:r>
            <a:endParaRPr b="0" lang="en-US" sz="35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728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esfuerzo sobre el pilar cambia de acuerdo a la secuencia de excavació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resistencia del pilar cambia de acuerdo a la secuencia de excav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problema de diseño minero es dinámico, por lo tanto se debe resolver de manera iterati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179960" y="2143080"/>
            <a:ext cx="4670280" cy="3500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H="1">
            <a:off x="5859360" y="1860480"/>
            <a:ext cx="387360" cy="992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989680" y="1511280"/>
                <a:ext cx="588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 flipV="1">
            <a:off x="5622840" y="4027320"/>
            <a:ext cx="652680" cy="1146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19720" y="5219640"/>
                <a:ext cx="588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7E1BE-9D2B-4FE9-900A-5918DBF81F1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rcRect l="0" t="0" r="0" b="2439"/>
          <a:stretch/>
        </p:blipFill>
        <p:spPr>
          <a:xfrm>
            <a:off x="31284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122880" y="621828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Pakalnis R, 2004. Rock Mechanics Lectures No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27A99-3E0C-4873-8B23-764D65BE51A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sidera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Fracturamiento de la ro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l campo de esfuerzos en minería es compresivo a diferencia de otros materiales en los cuales está relacionado con la tra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compresión en conjunto con microfracturas genera zonas de alto cizall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portamiento es altamente sensible al confinamien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Fallamiento por cizalle o cor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fectos de esca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Naturaleza discontinua del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sistencia y propiedades de deformación del macizo dependen de las propiedades de la roca intacta y de las discontinu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erforación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depende de propiedades de roca intacta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xcavación de túnel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depende del comportamiento del sistema de fractu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ilar </a:t>
            </a:r>
            <a:r>
              <a:rPr b="0" lang="es-MX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 comportamiento seudo-continu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ficultad para testear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3E39F-5E33-4D3F-A688-615901E898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sideracion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Resistencia a la tra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roca (y el concreto) muestra una muy baja resistencia a la tracción, un orden de magnitud menor a la resistencia a la compresión uniax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iscontinuidades prácticamente no tienen resistencia a la tra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Zonas que serán sometidas a tracción al realizarse una excavación generarán inestabilidades para desconfina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Efecto del agua subterrán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gua en discontinuidades reduce resistencia al corte (fricci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Puede alterar la roca y reducir su resis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Meteor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Alteración física o química de la superficie de la roca en contacto con gas o solu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Reduce calidad de la roca y coeficiente de fri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ECFE-F394-4026-80D9-442ADB9EE9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structura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3 profes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5080" y="2139840"/>
          <a:ext cx="8669160" cy="2276640"/>
        </p:xfrm>
        <a:graphic>
          <a:graphicData uri="http://schemas.openxmlformats.org/drawingml/2006/table">
            <a:tbl>
              <a:tblPr/>
              <a:tblGrid>
                <a:gridCol w="3019320"/>
                <a:gridCol w="5649840"/>
              </a:tblGrid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ulián Ortiz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ndamentos de Mec. de Roc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fía Rebolled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ología Estructur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aúl Cast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licaciones al Diseño Mine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A8089-A886-4F3F-9499-718A4F3514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Evaluación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2 contro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areas y laborato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onde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2 controles + 1 Exa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troles y laboratorio deben ser aprobados separada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C7D8F-44F7-43C5-9E22-809491E88C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grama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spectos gener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ón de métodos de explot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fuerzos y deformación infinitesim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eología estructu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ropiedades de la roca intacta y ensayos de laborato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edición de esfuerzos in situ y clasificación de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Formas analíticas de esfuerzos en excav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cuaciones de Kirs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Ecuaciones para excavación elíp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étodos de diseño geotéc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pila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caser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Diseño de talud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oporte en minería subterráne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odos de fal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7CDBD-AF2C-455B-8FA7-7066990311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l Curs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curso consta de 9 UD. 15 Semanas de clases. 135 horas disponibles para actividades relacionadas con 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98560" y="3487680"/>
            <a:ext cx="6696000" cy="2336760"/>
            <a:chOff x="898560" y="3487680"/>
            <a:chExt cx="6696000" cy="2336760"/>
          </a:xfrm>
        </p:grpSpPr>
        <p:sp>
          <p:nvSpPr>
            <p:cNvPr id="65" name=""/>
            <p:cNvSpPr/>
            <p:nvPr/>
          </p:nvSpPr>
          <p:spPr>
            <a:xfrm>
              <a:off x="898560" y="3487680"/>
              <a:ext cx="6696000" cy="230976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920880" y="3487680"/>
              <a:ext cx="6664320" cy="23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086B7-886F-4B97-9BA1-5427998F63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Conceptos gener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 cualquier diseño estructural se quiere predecir su desempeño al ser sometido a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cargas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durante su </a:t>
            </a:r>
            <a:r>
              <a:rPr b="0" lang="es-MX" sz="2800" spc="-1" strike="noStrike">
                <a:solidFill>
                  <a:srgbClr val="ffff00"/>
                </a:solidFill>
                <a:latin typeface="Tahoma"/>
              </a:rPr>
              <a:t>vida útil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n mecánica de rocas, interesa el desempeño de las excavaciones en roca generadas por la actividad miner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La mecánica de rocas está asociada a la mecánica clásica y mecánica de continuo, pero hay factores específicos que la distingue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5C3B3-BEAB-4710-840D-5D1CC1320F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Tahoma"/>
              </a:rPr>
              <a:t>Definiciones informa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ecáni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área de la física que estudia el efecto de las fuerzas sobre los cuerp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Mecánica de roca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rama de la ingeniería que estudia el efecto de las fuerzas sobre las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Roca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parte sólida de la corteza terrestre formada por bloques sólidos y duros de gran tamaño, encajados y ligados entre sí. Agregado de miner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Suel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: acumulación de partículas de pequeño tamaño (hasta 3 o 4”) y sin una ligazón fuerte entre sí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iscontinuidade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(joints): cualquier tipo de fractura en la roca. Son planos de fragil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7D67D-0101-47D9-A293-19FAACC2CC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Windows Vista</cp:lastModifiedBy>
  <dcterms:modified xsi:type="dcterms:W3CDTF">2007-07-24T13:34:17Z</dcterms:modified>
  <cp:revision>220</cp:revision>
  <dc:subject/>
  <dc:title>Muestreo y Control de Calidad</dc:title>
</cp:coreProperties>
</file>