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C83-6AFB-4D95-86D3-3CEF0894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73F-A1A5-40B9-875B-D1956C26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714-E119-4B9E-9A09-F3DA7E37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8DB3-3E82-4FEA-A147-DB750EEC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47A-77EE-4E89-85F6-F5D0BC85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E65-E0DA-41CB-99B8-B6A22116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C64-E327-4A13-86AA-099D46EA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F16-F55F-4FEA-92F2-D8C9A5E7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997E-5A95-4735-A022-90334E48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C69-223A-463B-8C78-F3AD33AB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C44-D522-4675-948B-CDECD2D4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778-D7A3-48D6-AEF7-BE129BAA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1C5F-94D6-4E9A-A7FB-96068B1F6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56480" y="303120"/>
            <a:ext cx="1008000" cy="849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2240" y="237960"/>
            <a:ext cx="1446120" cy="836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87680" y="425520"/>
            <a:ext cx="43225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Universidad de Ch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Facultad de Ciencias Físicas y Matemá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Departamento de Ingeniería Mecán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995480"/>
            <a:ext cx="838332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Programación de Proyec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ftware Microsof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57A – Mantención de Maquin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5376960"/>
            <a:ext cx="86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ek Jackson De Ca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4840" y="637380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Agosto 2 del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760" y="1886040"/>
            <a:ext cx="7605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yectos divididos en etapas con relaciones de precedencia entre e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Construcción de un edificio, instalación de un equipo, proyecto del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U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9760" y="1886040"/>
            <a:ext cx="76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ursos reque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zos glob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zos detal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especí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Medidas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760" y="1886040"/>
            <a:ext cx="7605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mplimiento de pla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o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Preguntas frec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9760" y="1886040"/>
            <a:ext cx="662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demora un proyect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la ruta crític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holguras exist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9040" y="2266920"/>
            <a:ext cx="7745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1498680"/>
            <a:ext cx="80899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23:20:57Z</dcterms:created>
  <dc:creator>Casa</dc:creator>
  <dc:description/>
  <dc:language>en-US</dc:language>
  <cp:lastModifiedBy>Ing. Mecánica</cp:lastModifiedBy>
  <dcterms:modified xsi:type="dcterms:W3CDTF">2007-07-31T20:18:23Z</dcterms:modified>
  <cp:revision>127</cp:revision>
  <dc:subject/>
  <dc:title>Diapositiva 1</dc:title>
</cp:coreProperties>
</file>