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E2C-7518-4EE1-BD7E-8D3DE826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DC7-9435-409C-B0D4-E9E22A9C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9D4-03DD-48A6-B8F4-D55C091B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0F7-39C9-4C76-B706-220E6713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7E3-D573-4D36-B3B8-24BEAED7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832-66D6-4E77-B64B-212E7352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3FA-759C-4AD3-BDC6-97E154C6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CB6-C4E5-4477-9DBF-CB1D2597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F37-3998-42E7-B5AA-1C65AF0F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2C7-8B6F-48DF-A607-BCDD0E65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4EE-A4EB-4395-865C-EC568BDC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615-E5F6-4937-A1BC-D4C856AF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0390-64CA-4F4F-B1D3-2AF9F88E7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56480" y="303120"/>
            <a:ext cx="1008000" cy="849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2240" y="237960"/>
            <a:ext cx="144612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87680" y="425520"/>
            <a:ext cx="43225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Universidad de C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Facultad de Ciencias Físicas y Matemá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Departamento de Ingeniería Mecá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995480"/>
            <a:ext cx="83833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Programación de Proye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ftware Microsof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57A – Mantención de Maqui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5376960"/>
            <a:ext cx="86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ek Jackson De Ca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4840" y="637380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Agosto 2 del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" y="1886040"/>
            <a:ext cx="7605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yectos divididos en etapas con relaciones de precedencia entre 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Construcción de un edificio, instalación de un equipo, proyecto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U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9760" y="1886040"/>
            <a:ext cx="76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ursos reque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zo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zos detal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Medidas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760" y="1886040"/>
            <a:ext cx="7605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mplimiento de pla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Preguntas frec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9760" y="1886040"/>
            <a:ext cx="66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demora un proyect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la ruta crític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holguras exist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9040" y="2266920"/>
            <a:ext cx="7745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498680"/>
            <a:ext cx="80899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23:20:57Z</dcterms:created>
  <dc:creator>Casa</dc:creator>
  <dc:description/>
  <dc:language>en-US</dc:language>
  <cp:lastModifiedBy>Ing. Mecánica</cp:lastModifiedBy>
  <dcterms:modified xsi:type="dcterms:W3CDTF">2007-07-31T20:18:23Z</dcterms:modified>
  <cp:revision>127</cp:revision>
  <dc:subject/>
  <dc:title>Diapositiva 1</dc:title>
</cp:coreProperties>
</file>