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8F4-322B-4477-9643-6C4AA0B6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3579-CB1C-4A1A-973C-940B43B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2F7-739D-4D22-953F-908F64BA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61B-328A-4CCB-B0F0-3F43A70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C55-95BC-4B78-8750-4CD2008D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EBD7-B7FD-4289-A092-4303D276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5D4-A746-4C56-BCAC-149BEC08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CBC-41F5-47FD-BF7D-7E75DD31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E5F-2953-4669-971E-95B6BD2A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E41D-C596-4201-9CEC-9575144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72F-FDD7-4CF9-BA78-E30C9F8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D21-BEA5-4D93-B1DD-73AB6CA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CFF8-5589-4148-89E5-C3F0FD15A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56480" y="303120"/>
            <a:ext cx="1008000" cy="849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2240" y="237960"/>
            <a:ext cx="1446120" cy="836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87680" y="425520"/>
            <a:ext cx="4322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Universidad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Facultad de Ciencias Físicas y Matemá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ff"/>
                </a:solidFill>
                <a:latin typeface="Arial"/>
              </a:rPr>
              <a:t>Departamento de Ingeniería Mecá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995480"/>
            <a:ext cx="838332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Programación de Proye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ftware Microsoft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57A – Mantención de Maquin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5376960"/>
            <a:ext cx="863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ek Jackson De Ca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4840" y="637380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Agosto 2 de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" y="1886040"/>
            <a:ext cx="7605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yectos divididos en etapas con relaciones de precedencia entre e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Construcción de un edificio, instalación de un equipo, proyecto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9760" y="1886040"/>
            <a:ext cx="76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os reque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glob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zos detal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especí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Medidas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9760" y="1886040"/>
            <a:ext cx="76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mplimiento de pla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eguntas frec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9760" y="1886040"/>
            <a:ext cx="662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demora un proyect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la ruta crític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é holguras exist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9040" y="2266920"/>
            <a:ext cx="7745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46040" y="406440"/>
            <a:ext cx="74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9760" y="6429240"/>
            <a:ext cx="36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DIM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76920" y="6373800"/>
            <a:ext cx="310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Arial"/>
              </a:rPr>
              <a:t>U.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8360" y="1498680"/>
            <a:ext cx="80899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23:20:57Z</dcterms:created>
  <dc:creator>Casa</dc:creator>
  <dc:description/>
  <dc:language>en-US</dc:language>
  <cp:lastModifiedBy>Ing. Mecánica</cp:lastModifiedBy>
  <dcterms:modified xsi:type="dcterms:W3CDTF">2007-07-31T20:18:23Z</dcterms:modified>
  <cp:revision>127</cp:revision>
  <dc:subject/>
  <dc:title>Diapositiva 1</dc:title>
</cp:coreProperties>
</file>