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C51-3225-4041-B895-08E39395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472-6146-489F-9833-5BAC70B3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17F-35C6-43D8-B9E5-4FA0E057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D4A-28B6-4777-A501-427175F4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86B0-7AE9-4C49-9810-2CEAB0C8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BE62-2B81-4CEA-BFC6-B5C29B9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0FE5-04CE-41F3-A797-B3932CA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BCAD-0923-47BC-BF5C-4762C6E9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23B-8A1A-4C17-A8EC-3D98BF3D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6FEB-AC9E-454C-A07B-BDD0625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CA7A-9AE7-4B9F-B365-A5AB020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FF-068C-47FE-A3AD-A7D535DB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BB6-2E35-4087-A91E-371C35B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FE40-59BE-4E63-9F74-B6B11F3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E237-250A-4AA2-A429-DC4DEF05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6F2B-5BE2-423B-A861-51754D1D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D16C-1103-4BEC-8566-09CA2628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F45-0881-4D9E-BD41-EB7DD4E5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F7D-0EE5-4A29-8C4E-45C5B75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681-CC45-49D7-A951-8AB2929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5D7-2EA4-4B7A-A8B2-346C7EF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635-C434-4762-8290-AA4352C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EFB-D1AE-45D9-8C46-A3F370F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E69-6AC0-4930-B16A-8519D96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4CAD-E6C4-4ECC-A551-40BC3383C96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CC5-8985-41C6-B1D5-08F295C7EC2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rrecciones: William Vidal G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laboratorio</cp:lastModifiedBy>
  <dcterms:modified xsi:type="dcterms:W3CDTF">2007-10-24T19:07:49Z</dcterms:modified>
  <cp:revision>21</cp:revision>
  <dc:subject/>
  <dc:title>ME56A – Diseño de Elementos de Máquinas</dc:title>
</cp:coreProperties>
</file>