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301-DC52-494F-B614-DF1FD6C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789-C0E6-4427-B4CC-5B5503F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899-0FD7-49F5-BAEF-8A1CADD7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F0C-27A0-498B-A919-33008A76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21A-EB44-4DFD-91FA-1641DB7A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E4E-BFBE-4168-8AAA-3ED356C7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E6B-C038-4A52-8353-026F6F5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2B4-18AA-4808-B30A-CA25A374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7F5-0ACD-4FA1-B9AB-8C3BC1C6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9FA-463F-4FD3-9620-18F18B03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316C-37DD-4BBB-934C-9955D13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C3A-06FD-455E-8DBB-A5D00D1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E60-1665-4618-9A13-D31FDFF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5A84-5130-48DB-9F42-6A1BE71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5997-95E4-4279-8D15-7DB4FE05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842C-651F-4803-84ED-63A6A447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C8B7-4BB6-4180-92AC-45BBC653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5AE-55A0-4BB4-958E-CF4F4D4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8F7-B3A3-4121-83D6-7EE0BCB3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614-F6E1-4E78-9620-E59C34A4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D48-6C5F-44E4-9B07-03DE7C95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4CA-4834-4B23-9E59-85E95F5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7A5-2BFC-4B65-BCB9-1D79920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0AC-5F15-4FF4-A230-D3F3C74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1EFF-0973-41FF-AE8F-221455D7B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3962-0D2E-4432-BCE4-729265F988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Cónicos y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rnillo Sin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ones: William Vidal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laboratorio</cp:lastModifiedBy>
  <dcterms:modified xsi:type="dcterms:W3CDTF">2007-10-24T19:09:13Z</dcterms:modified>
  <cp:revision>29</cp:revision>
  <dc:subject/>
  <dc:title>ME56A - Diseño de Elementos de Máquinas</dc:title>
</cp:coreProperties>
</file>