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95C-D7CC-4525-A4B8-942F7730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6AF-5C63-4DAC-8731-BF5E6D75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A08-9787-464C-84F5-1CAA5B0F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638-D445-487B-8737-92EA281F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CED-2FD7-449B-8396-65AFB0DD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5A5A-0287-4F89-9EA0-AAD8CA3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ABE0-EBFB-4D1B-A748-BBE6BC5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12D3-DBAE-4F8A-98FE-CCF01DA2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164-FE72-4831-BCE8-42A94C5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C83-4279-489B-AED7-CAA9E0EA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407-4883-4835-A320-24887D9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519-B7DF-4A94-98D6-13E4D7C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992D-D595-4B54-A6EF-6C8C255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6F0-C32D-4FD4-A690-515A345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CB1A-02F0-4B4B-8A86-339F593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7E28-EB47-4B84-A4BC-CBE08508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B820-E5AE-48BD-8968-9F393157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E6C-C934-4A56-AB41-8ED5921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3F6-2D22-45E7-B24D-CEC151C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5E6-6780-4669-88F5-C55FC51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CE3-ACAF-4FDA-86F0-0ACDD8D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620-17F6-4981-8277-02148557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F1D-1034-4D89-98D4-41302C0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67E-D0A8-4F18-9764-1A6C1A7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2CD-D160-4EC0-8C31-01F44E147E6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7F5-57DA-4BEA-B368-FAE3DC5E3EA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rrecciones: William Vidal G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laboratorio</cp:lastModifiedBy>
  <dcterms:modified xsi:type="dcterms:W3CDTF">2007-10-24T19:07:49Z</dcterms:modified>
  <cp:revision>21</cp:revision>
  <dc:subject/>
  <dc:title>ME56A – Diseño de Elementos de Máquinas</dc:title>
</cp:coreProperties>
</file>