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3A6-45A7-493C-BEAA-64C1E5BF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CCB-7743-40D6-984E-AC961CC3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DF2-2CF9-4603-AB86-A43E9497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33D-077A-46DC-A8FB-416834AB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3B8D-85EE-47C0-9366-A6A21F8B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9A89-A0A1-4261-8A3A-397C0911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5B3F-0F9D-448D-A481-3C117968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A6C3-B2C6-4E1D-98C3-D3CA99D3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DB4C-2896-4B08-943C-69EB71CF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DC08-DA26-48D9-AC0E-8A3462EF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7709-1A0F-4CC9-ABF6-5BCD5B39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338-1277-4D5B-B581-5D9274F6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07FF-F1AC-4A4E-876B-491BE46A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DD18-255D-44CE-A408-4D2EB05A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F976-C5B5-4720-8723-735E4362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96A7-F99B-4FED-8EC2-001AE5CD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3B5D-ED3E-4B9C-A8DD-9CDA0AED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9B7-4621-4734-8B1A-8967319F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303-FEB1-449E-BAD6-89E6B81E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ED5-F331-4D8E-B949-60B25C05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55E-EC47-4EF9-B0A6-55C22D11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A0A-E9B8-4384-AB12-D9B52C52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D93-C018-4F84-A91D-6793FF16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D1B-7C31-4F4D-9784-BFF5EA70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7EA3-6F64-4CDE-A4AF-4AD50D0E66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B177-1E5F-431F-9712-86F4B36813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granajes Cónicos y 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rnillo Sin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cciones: William Vidal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296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Coeficiente Elástico c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97496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9840" y="19810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17463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2209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7120" y="220968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4240" y="1905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85920" y="197496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 Resist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Espi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492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683040" y="199404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34440" y="2146320"/>
            <a:ext cx="49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6800" y="2149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73600" y="2603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4720" y="363528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34066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5840" y="3789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77040" y="379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8280" y="3595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640" y="450864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1720" y="42800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58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77040" y="4664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8280" y="4468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46240" y="613584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3240" y="59072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27360" y="6289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78560" y="6291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9800" y="6095880"/>
            <a:ext cx="275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600" y="609588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7680" y="58672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1800" y="6249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251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4240" y="60562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Espirale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869080" y="289548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3434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46483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18200" y="411480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4864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257800" cy="4113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-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4384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44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905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7920" y="25970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282564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82564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92320" y="252108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7400" y="3733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Resis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ornillo Sinfín - 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73200" y="1600200"/>
            <a:ext cx="419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utilizan cuando se debe cambiar de ángulo la dirección de la potencia a trans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n como dos conos en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o común: Cambio de dirección en 90°, aunque otros ángulos son utilizados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cuando el ruido no es un factor importante y son de costo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menclatura equivalente a engranajes 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580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5280" y="297180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15238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981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360" y="388620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160" y="4641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876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2480" y="5486400"/>
            <a:ext cx="2636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dientes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entradas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8760" y="5486400"/>
            <a:ext cx="283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 : distancia entre 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 :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Tornillo Sinfín – Corona - Defin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Sinfín Corona: Ángulos de presión de avance y alturas de di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867280" cy="3465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3800" y="5334120"/>
            <a:ext cx="23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4680" y="579132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" y="6248520"/>
            <a:ext cx="230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1360" y="259704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9720" y="312408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9720" y="3657600"/>
            <a:ext cx="190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56440" y="4251240"/>
            <a:ext cx="44582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 : fuerza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omponentes ortogonales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7520" y="175248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266688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60600" y="312408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0160" y="358128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16160" y="456552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10800" y="42670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6360" y="480060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15880" y="586728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45680" y="556272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4960" y="6095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6095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23623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46880" y="213372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7240" y="259092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429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1120" y="3193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4800" y="3657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1280" y="4419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43434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50292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0384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4100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324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410080"/>
            <a:ext cx="1371600" cy="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410080"/>
            <a:ext cx="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57200" y="5409720"/>
            <a:ext cx="137160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9625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800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3120" y="49528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87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4400" y="5638680"/>
            <a:ext cx="3465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i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2071800"/>
            <a:ext cx="6019560" cy="4329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88520" y="229248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2160" y="22096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22096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3124080"/>
            <a:ext cx="640080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ancho de cara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: factor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tamaño 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relación de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Esfuerz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10360" cy="2154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3908520"/>
            <a:ext cx="8001000" cy="2949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76320" y="2209680"/>
            <a:ext cx="6172200" cy="3676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15000" y="3006720"/>
            <a:ext cx="3505320" cy="24033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5146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2440" y="28954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40480" y="28954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962520"/>
            <a:ext cx="64008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Po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Helicoid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similar a cónicos rectos, pero se utilizan en situaciones de mayor velocidad de rotación y donde el ruido si es un factor importante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200808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Sinfín-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n capacidad de reducción d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nsmisión por deslizamiento puro, no rodadura p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menor de transmisión por efectos de roce en desli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84440"/>
            <a:ext cx="4038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4267080" cy="397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12720" y="21337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6560" y="18702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764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4680" y="33940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19800" y="31305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8720" y="3664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46195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16840" y="43848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21760" y="476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60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97080" y="213372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4400" y="281304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228600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2767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4840" y="421020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3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0541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480" y="251784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8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429000"/>
            <a:ext cx="28958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 : paso diame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 : ancho de cara (flex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 : factor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9384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652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49876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4224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2200" y="19652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041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2096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352680"/>
            <a:ext cx="4038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P :coeficiente elá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v :factor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 : factor geométrico (durabilidad de superfi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eguridad de los engra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ob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 : factor de seguridad 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Esfuerz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5473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laboratorio</cp:lastModifiedBy>
  <dcterms:modified xsi:type="dcterms:W3CDTF">2007-10-24T19:09:13Z</dcterms:modified>
  <cp:revision>29</cp:revision>
  <dc:subject/>
  <dc:title>ME56A - Diseño de Elementos de Máquinas</dc:title>
</cp:coreProperties>
</file>