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F3C-3C83-4723-8FEA-ED6BF0D9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A83-9D17-4EC5-8DD7-3E0DE9C8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795-47BB-4993-B8EA-77356A63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2EFF-A59E-45C0-B181-B6F824B2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4777-BB69-4902-A47C-D8300716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0217-E0E1-4C21-8DB5-7C98E090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AD85-EED7-4765-93AB-7CEC97EE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DC1C-F42F-48CF-A67D-A7AF119D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0679-7D12-4F8C-969A-69E8FDEC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3B7C-9541-4500-A005-42FC14E8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F1AA-C388-4BC6-8BC7-F37F7E1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422-40A6-43A8-A7AF-003B539A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8560-AC83-426A-AF38-B8A7FDA3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3417-1D1E-4F88-AFB2-39BEE7DE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5BF3-4408-43E8-90C7-4C548ABB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EFD2-C565-4FDD-B4E5-7D846492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EBC0-4FE0-4E9E-B759-65D76C8D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561-1D4E-4840-B6BA-F97BAF7A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2D4-30C4-4612-8043-84CA76CF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778-9532-4474-8C04-93DFB9C1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5BF-EB34-4562-B793-F7F83AB3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AE30-E1C5-42F4-BC2C-1158538E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ABE-9CE9-4548-8096-E67566F2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41E-5462-44F6-9253-82FE2649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9B30-07FE-48FB-BB73-FF7DE4A464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E20A-2DDE-4A2A-B65B-D7F7D94B43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granajes Cónicos y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rnillo Sin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54864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fesor: Roberto Corvalán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yudante: Darren Ledermann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cciones: William Vidal 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5273640"/>
            <a:ext cx="30481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Coeficiente Elástico c</a:t>
            </a:r>
            <a:r>
              <a:rPr b="0" lang="es-CL" sz="3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 Resistenc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Espir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09960" y="1600200"/>
            <a:ext cx="4924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Espirale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ngranajes Cónicos Espirales –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473200" y="1600200"/>
            <a:ext cx="419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Sinfín Corona: Ángulos de presión de avance y alturas de dien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Análisis de fuerz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676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Rend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Facto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Sinfín Corona: Po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95680" y="2008080"/>
            <a:ext cx="41911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684440"/>
            <a:ext cx="40384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Fuerz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- Esfuerz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Engranajes Cónicos Rectos – Factor Geométrico J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01:57Z</dcterms:created>
  <dc:creator>Darren Ledermann</dc:creator>
  <dc:description/>
  <dc:language>en-US</dc:language>
  <cp:lastModifiedBy>laboratorio</cp:lastModifiedBy>
  <dcterms:modified xsi:type="dcterms:W3CDTF">2007-10-24T19:09:13Z</dcterms:modified>
  <cp:revision>29</cp:revision>
  <dc:subject/>
  <dc:title>ME56A - Diseño de Elementos de Máquinas</dc:title>
</cp:coreProperties>
</file>