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983-CA09-470F-AE82-A932C8EA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41A-72A5-44CA-8EDB-6520327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31D-7ECF-4FBF-81BE-A5D9934C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3EA-F425-4DF9-B5F2-59D45C50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AA21-3DAB-4BCF-94CA-89460C8C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5501-463C-4B31-BFE9-2DD72711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2BFC-4B67-4780-AB43-452DEC1C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4726-1F6E-4218-B6CA-FEABB7F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D272-9B56-44B8-AE6E-D9B0923C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06DB-7686-4B2F-8F6A-9E3A2BF9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8102-AA2F-42FD-9098-F6C0202B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86A-34D0-459D-9880-A820140A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B5CE-20CA-47A4-98F5-2A858402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B886-0069-4808-9F87-23789ABF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CC54-DBB9-455C-8D80-EE2BD775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FB1-3F99-46D6-81B4-646A915E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006-2BCE-4C10-AC80-3C2B89FE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2B84-A3DB-4191-8E1A-9E4A7584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32A-1C45-460F-8C5E-FD8842B3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6F8-82A4-455F-A29D-CD136E72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AB3-D019-4263-A8FB-15EEAB68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DE57-37E9-4EB0-942D-085D295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C33C-B30F-4CD3-8A3B-2F6BBA00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2D9-61D1-4050-ACA9-17E49A35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26D6-A752-4406-9BC5-3CAA2B15A535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49CC-8BEA-4A69-9DEA-547F0CDF486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5105520"/>
            <a:ext cx="62481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or: Roberto Corvalá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yudante: Felipe Figueroa G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orrecciones: William Vidal G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laboratorio</cp:lastModifiedBy>
  <dcterms:modified xsi:type="dcterms:W3CDTF">2007-10-24T19:07:49Z</dcterms:modified>
  <cp:revision>21</cp:revision>
  <dc:subject/>
  <dc:title>ME56A – Diseño de Elementos de Máquinas</dc:title>
</cp:coreProperties>
</file>