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6858000" cy="9144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B92B-AEFC-4F22-9429-EA36DC05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14640" y="550764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84E5-E371-4B80-9ABE-012EA0B4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5752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4607-94E4-4B93-8C84-E6301F53E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084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20668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11464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084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20668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D886-203C-4B16-AABB-FDC3CC056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1977-98C0-4719-9196-457525986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5042-BBDC-4823-B070-42E264A5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FEB0-978A-4B00-B766-22F0D30B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ABA7-819F-4035-884B-D0E58135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489C-37E0-4E1B-94CF-7AC6159C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14640" y="812520"/>
            <a:ext cx="45720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0E23-B40C-4FB5-944F-8CB80F73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A85A-7C4B-475D-AF6F-8C1BE287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9B21-A360-4BF5-BDEA-5C95DA35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5752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3B5B-AC28-4140-A3BC-181F3EB7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FCA8-45DD-42BC-832D-736CB887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114640" y="550764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67EA-8CC3-47E4-9547-AEBB2CB8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45752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2077-DAE7-4E08-9D2E-CDC539FCD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6084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0668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11464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6084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20668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2EBB-9184-467A-8600-1DBB27D7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ECA5-F485-4451-9971-54B844DE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4833-9206-4482-8254-95DA8E51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102B-5F2F-45BA-8400-2B437B6F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14640" y="812520"/>
            <a:ext cx="45720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00A2-7666-440C-B376-86B4DCF0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1A56-7E2B-4E85-A3F6-F3A432CF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5752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3D6C-9589-459B-A135-39C42405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4365-ED64-4782-B133-A18D6540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171520" y="1125360"/>
            <a:ext cx="4343040" cy="1604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6" y="0"/>
                </a:moveTo>
                <a:arcTo wR="10800" hR="10800" stAng="-5398115" swAng="5398115"/>
                <a:lnTo>
                  <a:pt x="10800" y="10800"/>
                </a:lnTo>
                <a:close/>
              </a:path>
              <a:path fill="none" w="21600" h="21600">
                <a:moveTo>
                  <a:pt x="10806" y="0"/>
                </a:moveTo>
                <a:arcTo wR="10800" hR="10800" stAng="-5398115" swAng="5398115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1085760" indent="-217080">
              <a:spcBef>
                <a:spcPts val="700"/>
              </a:spcBef>
              <a:buClr>
                <a:srgbClr val="ff9966"/>
              </a:buClr>
              <a:buSzPct val="64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3" marL="1519920" indent="-217080">
              <a:spcBef>
                <a:spcPts val="700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4" marL="1954440" indent="-217080">
              <a:spcBef>
                <a:spcPts val="700"/>
              </a:spcBef>
              <a:buClr>
                <a:srgbClr val="ff99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5" marL="1954440" indent="-217080">
              <a:spcBef>
                <a:spcPts val="700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6" marL="1954440" indent="-217080">
              <a:spcBef>
                <a:spcPts val="700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85600" y="833112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525744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5977-5374-45A5-A1AA-98849CFB80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40" y="4614840"/>
            <a:ext cx="6859800" cy="0"/>
          </a:xfrm>
          <a:prstGeom prst="line">
            <a:avLst/>
          </a:prstGeom>
          <a:ln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171520" y="1125360"/>
            <a:ext cx="4343040" cy="1604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6" y="0"/>
                </a:moveTo>
                <a:arcTo wR="10800" hR="10800" stAng="-5398115" swAng="5398115"/>
                <a:lnTo>
                  <a:pt x="10800" y="10800"/>
                </a:lnTo>
                <a:close/>
              </a:path>
              <a:path fill="none" w="21600" h="21600">
                <a:moveTo>
                  <a:pt x="10806" y="0"/>
                </a:moveTo>
                <a:arcTo wR="10800" hR="10800" stAng="-5398115" swAng="5398115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86040" y="2398320"/>
            <a:ext cx="4798800" cy="203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22824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685600" y="833112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525744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0481-C33B-45B1-AD54-B3538F8B04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ff9966"/>
              </a:buClr>
              <a:buSzPct val="64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3366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ff9966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86040" y="3211560"/>
            <a:ext cx="4798800" cy="20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ción Numéric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28560" y="812520"/>
            <a:ext cx="6229440" cy="711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órmula de Trapecios para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ubinterval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10000"/>
                </a:solidFill>
                <a:latin typeface="Times New Roman"/>
              </a:rPr>
              <a:t>h=(b-a)/N,     x</a:t>
            </a:r>
            <a:r>
              <a:rPr b="0" i="1" lang="en-US" sz="2600" spc="-1" strike="noStrike" baseline="-25000">
                <a:solidFill>
                  <a:srgbClr val="010000"/>
                </a:solidFill>
                <a:latin typeface="Times New Roman"/>
              </a:rPr>
              <a:t>k</a:t>
            </a:r>
            <a:r>
              <a:rPr b="0" i="1" lang="en-US" sz="2600" spc="-1" strike="noStrike">
                <a:solidFill>
                  <a:srgbClr val="010000"/>
                </a:solidFill>
                <a:latin typeface="Times New Roman"/>
              </a:rPr>
              <a:t>=a+kh      k=0,1,2,...,N</a:t>
            </a: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órmula de Simpson para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ubinterval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10000"/>
                </a:solidFill>
                <a:latin typeface="Times New Roman"/>
              </a:rPr>
              <a:t>h=(b-a)/(2m),   x</a:t>
            </a:r>
            <a:r>
              <a:rPr b="0" i="1" lang="en-US" sz="2600" spc="-1" strike="noStrike" baseline="-25000">
                <a:solidFill>
                  <a:srgbClr val="010000"/>
                </a:solidFill>
                <a:latin typeface="Times New Roman"/>
              </a:rPr>
              <a:t>k</a:t>
            </a:r>
            <a:r>
              <a:rPr b="0" i="1" lang="en-US" sz="2600" spc="-1" strike="noStrike">
                <a:solidFill>
                  <a:srgbClr val="010000"/>
                </a:solidFill>
                <a:latin typeface="Times New Roman"/>
              </a:rPr>
              <a:t>=a+kh   k=0,1,2,...,2m</a:t>
            </a: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42960" y="2819520"/>
                <a:ext cx="545292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≃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09480" y="6546960"/>
                <a:ext cx="6131160" cy="18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≃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m</m:t>
                                    </m:r>
                                  </m:sup>
                                  <m:e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v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56800" y="2793600"/>
            <a:ext cx="5829480" cy="589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rror de la Fórmula de Simps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46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xtrapolación de Richards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523880" y="3429000"/>
                <a:ext cx="39801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V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521000" y="5332320"/>
                <a:ext cx="3584520" cy="23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≃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[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]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h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e>
                              <m:e/>
                            </m:d>
                          </m:e>
                        </m:eqArr>
                      </m:e>
                    </m:eqAr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I</m:t>
                    </m:r>
                    <m:r>
                      <m:t xml:space="preserve">≃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h</m:t>
                    </m:r>
                    <m:r>
                      <m:t xml:space="preserve">]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h</m:t>
                    </m:r>
                    <m:r>
                      <m:t xml:space="preserve">]</m:t>
                    </m:r>
                    <m:r>
                      <m:t xml:space="preserve">I</m:t>
                    </m:r>
                    <m:r>
                      <m:t xml:space="preserve">≃</m:t>
                    </m:r>
                    <m:f>
                      <m:num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h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t xml:space="preserve">h</m:t>
                        </m:r>
                        <m:r>
                          <m:t xml:space="preserve">]</m:t>
                        </m:r>
                      </m:num>
                      <m:den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  <m:limLow>
                      <m:e>
                        <m:r>
                          <m:t xml:space="preserve">=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def</m:t>
                        </m:r>
                      </m:lim>
                    </m:limLow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h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1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ción de Romber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80520" y="5334120"/>
            <a:ext cx="6172200" cy="28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xpresión general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rror de orde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h</a:t>
            </a:r>
            <a:r>
              <a:rPr b="0" i="1" lang="en-US" sz="2800" spc="-1" strike="noStrike" baseline="30000">
                <a:solidFill>
                  <a:srgbClr val="010000"/>
                </a:solidFill>
                <a:latin typeface="Times New Roman"/>
              </a:rPr>
              <a:t>2j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xacta para polinomios de grado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2j-1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600360" y="5486400"/>
                <a:ext cx="32180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1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abla de Romber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"/>
          <p:cNvSpPr/>
          <p:nvPr/>
        </p:nvSpPr>
        <p:spPr>
          <a:xfrm>
            <a:off x="1200240" y="2235240"/>
            <a:ext cx="54291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47760" y="2362320"/>
            <a:ext cx="6129360" cy="2933280"/>
            <a:chOff x="347760" y="2362320"/>
            <a:chExt cx="6129360" cy="2933280"/>
          </a:xfrm>
        </p:grpSpPr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347760" y="2362320"/>
                  <a:ext cx="6129360" cy="293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h</m:t>
                            </m:r>
                            <m:r>
                              <m:t xml:space="preserve">]</m:t>
                            </m:r>
                          </m:e>
                          <m:e/>
                          <m:e/>
                          <m:e/>
                        </m:mr>
                        <m:m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  <m:e/>
                          <m:e/>
                        </m:mr>
                        <m:m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  <m:e/>
                        </m:mr>
                        <m:m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</m:mr>
                        <m:mr>
                          <m:e>
                            <m:r>
                              <m:t xml:space="preserve">L</m:t>
                            </m:r>
                          </m:e>
                          <m:e>
                            <m:r>
                              <m:t xml:space="preserve">L</m:t>
                            </m:r>
                          </m:e>
                          <m:e>
                            <m:r>
                              <m:t xml:space="preserve">L</m:t>
                            </m:r>
                          </m:e>
                          <m:e>
                            <m:r>
                              <m:t xml:space="preserve">L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grpSp>
          <p:nvGrpSpPr>
            <p:cNvPr id="132" name=""/>
            <p:cNvGrpSpPr/>
            <p:nvPr/>
          </p:nvGrpSpPr>
          <p:grpSpPr>
            <a:xfrm>
              <a:off x="1569600" y="2716920"/>
              <a:ext cx="3724560" cy="1661760"/>
              <a:chOff x="1569600" y="2716920"/>
              <a:chExt cx="3724560" cy="1661760"/>
            </a:xfrm>
          </p:grpSpPr>
          <p:sp>
            <p:nvSpPr>
              <p:cNvPr id="133" name=""/>
              <p:cNvSpPr/>
              <p:nvPr/>
            </p:nvSpPr>
            <p:spPr>
              <a:xfrm>
                <a:off x="1569600" y="3267360"/>
                <a:ext cx="448200" cy="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69600" y="2716920"/>
                <a:ext cx="448200" cy="47160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569600" y="4378680"/>
                <a:ext cx="448200" cy="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569600" y="3823920"/>
                <a:ext cx="448200" cy="47592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569600" y="3822120"/>
                <a:ext cx="448200" cy="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69600" y="3269520"/>
                <a:ext cx="448200" cy="47556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175560" y="3822120"/>
                <a:ext cx="448560" cy="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175560" y="3269520"/>
                <a:ext cx="448560" cy="47556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45960" y="4378680"/>
                <a:ext cx="448200" cy="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845960" y="3823920"/>
                <a:ext cx="448200" cy="47592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175560" y="4378680"/>
                <a:ext cx="448560" cy="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175560" y="3823920"/>
                <a:ext cx="448560" cy="47592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02680"/>
            <a:ext cx="5410080" cy="101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1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goritmo ROMBER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472760"/>
            <a:ext cx="6305760" cy="660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atos de entrada: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a, b, n, to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roceso: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onstrucción de la tabla de Romber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k = 1, I(1,1) = trapecio(a,b,n)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;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Fila 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ientras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error &gt; to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k = k+1      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Fila k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I(k,1) = trapiter(a,b,2k-1n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ara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j = 2 : k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% Aplica el método de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Romber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    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I(k,j) = (4^(j -1)*I(k,j -1) - I(k -1,j -1)) /    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     /(4^(j -1) -1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in par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error = abs(I(k,j) - I(k,j -1)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in mientr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136980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órmulas de cuadratura con paso adaptativ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3352320"/>
            <a:ext cx="5791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Métodos adaptativos de cuadratura: Regla compuesta de Simps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lgoritmo de cuadratura adaptativa implementado en MATLAB (quad.m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étodos adaptativo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4520" y="1218960"/>
            <a:ext cx="6400800" cy="223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Variaciones funcionales irregulares en el intervalo de integració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ombinamos la Regla compuesta de Simpson,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h=(b-a)/2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, con la Regla de Simpson para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m=2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, de paso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h/2=(b-a)/4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62120" y="3809880"/>
                <a:ext cx="516096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v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η</m:t>
                        </m:r>
                        <m:r>
                          <m:t xml:space="preserve">∈</m:t>
                        </m:r>
                        <m:r>
                          <m:t xml:space="preserve">]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[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80880" y="5640480"/>
                <a:ext cx="6386760" cy="27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≃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v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</m:eqArr>
                    <m:r>
                      <m:t xml:space="preserve">∈</m:t>
                    </m:r>
                    <m:r>
                      <m:t xml:space="preserve">]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[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6400800" cy="88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stimación del error: si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tonc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rá una buena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proximación a I.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 otro caso, se aplica reiteradamente a los subintervalos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a,(a+b)/2[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y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(a+b)/2,b[ (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olerancia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TOL/2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09480" y="1092240"/>
                <a:ext cx="558828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S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,</m:t>
                                    </m:r>
                                    <m:f>
                                      <m:num>
                                        <m:r>
                                          <m:t xml:space="preserve">a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b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S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a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b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,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f>
                                  <m:num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,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886200" y="380880"/>
                <a:ext cx="2438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v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v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981080" y="4106880"/>
                <a:ext cx="46483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f>
                                  <m:num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,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nary>
                      </m:e>
                    </m:d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T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371600" y="3124080"/>
                <a:ext cx="49528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</m:d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T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903240" y="5226120"/>
                <a:ext cx="313524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812880"/>
            <a:ext cx="5619960" cy="101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Simpson con paso adaptativo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14440" y="1898640"/>
            <a:ext cx="5829120" cy="62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unction I = adapsimp(f,a,b,tol,nivel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 Integra  f  en [a,b] por el método 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 Simpson de paso adaptativ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 tol: error admitido (estimación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 nivel: profundidad máxima de la recursió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h = (b-a)/2;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Paso inici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 = a+h;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Punto medi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a = feval(f,a)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c = feval(f,c)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b = feval(f,b)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nt = h/3*(fa+4*fc+fb);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Simpson simp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ol = 10*tol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 = refina(f,a,c,fa,fc,fb,int,tol,nivel)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14440" y="248760"/>
            <a:ext cx="5829120" cy="10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Recursión sobre los intervalos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14080" y="1477800"/>
            <a:ext cx="5962680" cy="717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unction I = refina(f,a,c,fa,fc,fb,int,tol,nivel)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h = (c-a)/2;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d = a+h; e = c+h;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Puntos medi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d = feval(f,d)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e = feval(f,e)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nt1 = h/3*(fa+4*fd+fc);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Simpson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intervalo izq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nt2 = h/3*(fc+4*fe+fb);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Simpson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intervalo der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f abs(int-int1-int2)&lt;to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 = int1+int2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lseif nivel = = 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rror('Nivel excedido'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lse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 = refina(f,a,d,fa,fd,fc,int1,tol/2,nivel-1) +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fina(f,c,e,fc,fe,fb,int2,tol/2,nivel-1)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14640" y="93960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uadratura de Gaus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52480" y="2641680"/>
            <a:ext cx="49341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lección de nodos apropiad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just">
              <a:lnSpc>
                <a:spcPct val="21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sos particular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auss-Legendr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auss-Chebyshev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auss-Laguerr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auss-Hermit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ción Numéric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Justificación del problema y conceptos genera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órmulas de cuadratura con paso adaptativ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uadratura de Gaus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ción sobre intervalos finit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ción sobre intervalos infinit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ción en varias variab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3160" y="1981080"/>
            <a:ext cx="6379920" cy="213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02680"/>
            <a:ext cx="5410440" cy="10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uadratura de Gaus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OBJETIVOS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294840" indent="-294840" algn="just">
              <a:lnSpc>
                <a:spcPct val="12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lección de nodos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10000"/>
                </a:solidFill>
                <a:latin typeface="Times New Roman"/>
              </a:rPr>
              <a:t>1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, x</a:t>
            </a:r>
            <a:r>
              <a:rPr b="0" i="1" lang="en-US" sz="2400" spc="-1" strike="noStrike" baseline="-25000">
                <a:solidFill>
                  <a:srgbClr val="010000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,..., x</a:t>
            </a:r>
            <a:r>
              <a:rPr b="0" i="1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ara aumentar el grado de precisión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294840" indent="-294840" algn="just">
              <a:lnSpc>
                <a:spcPct val="12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Máximo grado de exactitud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28600" y="4343400"/>
            <a:ext cx="632448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ONCLUSIONES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Una fórmula de cuadratura con n nodos es exacta para polinomios de grado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2n-1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 y sólo si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-277200" algn="just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la fórmula es interpolatoria, y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-277200" algn="just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los nodos son las raices del n-esimo polinomio ortogonal respecto del producto escalar inducido por </a:t>
            </a:r>
            <a:r>
              <a:rPr b="0" i="1" lang="en-US" sz="2000" spc="-1" strike="noStrike">
                <a:solidFill>
                  <a:srgbClr val="010000"/>
                </a:solidFill>
                <a:latin typeface="Times New Roman"/>
              </a:rPr>
              <a:t>w(x)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en </a:t>
            </a:r>
            <a:r>
              <a:rPr b="0" lang="en-US" sz="2000" spc="-1" strike="noStrike">
                <a:solidFill>
                  <a:srgbClr val="0100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010000"/>
                </a:solidFill>
                <a:latin typeface="Times New Roman"/>
              </a:rPr>
              <a:t>a,b</a:t>
            </a:r>
            <a:r>
              <a:rPr b="0" lang="en-US" sz="2000" spc="-1" strike="noStrike">
                <a:solidFill>
                  <a:srgbClr val="010000"/>
                </a:solidFill>
                <a:latin typeface="Symbol"/>
                <a:ea typeface="Symbol"/>
              </a:rPr>
              <a:t>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No existe ninguna fórmula co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nodos exacta para todos los polinomios de grado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2n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33520" y="1143000"/>
                <a:ext cx="58370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173160" y="4267080"/>
            <a:ext cx="6379920" cy="464832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43080" y="228600"/>
            <a:ext cx="62863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0000"/>
          </a:bodyPr>
          <a:p>
            <a:pPr marL="684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órmula de cuadratura</a:t>
            </a:r>
            <a:endParaRPr b="0" lang="en-US" sz="4800" spc="-1" strike="noStrike">
              <a:solidFill>
                <a:srgbClr val="000080"/>
              </a:solidFill>
              <a:latin typeface="Times New Roman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4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413000" y="1143000"/>
                <a:ext cx="36925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454040" y="2133720"/>
                <a:ext cx="4260960" cy="13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'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i=1,2,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422360" y="3657600"/>
                <a:ext cx="461808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 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a&lt;</m:t>
                        </m:r>
                        <m:r>
                          <m:t xml:space="preserve">ξ</m:t>
                        </m:r>
                        <m:r>
                          <m:rPr>
                            <m:lit/>
                            <m:nor/>
                          </m:rPr>
                          <m:t xml:space="preserve">&lt;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75" name=""/>
          <p:cNvGraphicFramePr/>
          <p:nvPr/>
        </p:nvGraphicFramePr>
        <p:xfrm>
          <a:off x="84240" y="5643720"/>
          <a:ext cx="6816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5643720"/>
                    <a:ext cx="6816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228600" y="5486400"/>
            <a:ext cx="2054160" cy="276696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724280" y="7696080"/>
                <a:ext cx="1195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2289240" y="5486400"/>
            <a:ext cx="2279520" cy="276696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8480" y="5486400"/>
            <a:ext cx="2104920" cy="276696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5486400"/>
            <a:ext cx="6454800" cy="53352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880" y="101520"/>
            <a:ext cx="4572000" cy="11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auss-Legendr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60958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-1,1]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, los polinomios de Legendre forman una familia ortogonal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(x)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iene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raices reales distintas,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y los coeficientes de la fórmula de cuadratura,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68240" y="2438280"/>
                <a:ext cx="608976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x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819000" y="4549680"/>
                <a:ext cx="512460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O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rPr>
                            <m:lit/>
                            <m:nor/>
                          </m:rPr>
                          <m:t xml:space="preserve"></m:t>
                        </m:r>
                        <m:r>
                          <m:rPr>
                            <m:lit/>
                            <m:nor/>
                          </m:rPr>
                          <m:t xml:space="preserve">k=1,2,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066680" y="7237440"/>
                <a:ext cx="497376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≠</m:t>
                                </m:r>
                                <m:r>
                                  <m:t xml:space="preserve">i</m:t>
                                </m:r>
                              </m:sub>
                              <m:sup/>
                              <m:e/>
                            </m:nary>
                          </m:e>
                          <m:lim>
                            <m:r>
                              <m:t xml:space="preserve">n</m:t>
                            </m:r>
                          </m:lim>
                        </m:limLow>
                      </m:e>
                    </m:eqAr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533520" y="5791320"/>
          <a:ext cx="5886360" cy="400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791320"/>
                    <a:ext cx="588636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3886200" y="5715000"/>
            <a:ext cx="2590920" cy="304812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203040"/>
            <a:ext cx="6096240" cy="12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olinomios de Legendr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1523880"/>
            <a:ext cx="60195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</a:t>
            </a: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a,b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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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-1,1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</a:t>
            </a: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l cambio de variable es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3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y la fórmula de cuadratura queda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3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990720" y="2435400"/>
                <a:ext cx="536868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657360" y="4165560"/>
                <a:ext cx="60735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b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b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a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85800" y="5715000"/>
            <a:ext cx="5791320" cy="47484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5715000"/>
            <a:ext cx="457200" cy="304812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5715000"/>
            <a:ext cx="2743200" cy="304812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28240" y="609120"/>
            <a:ext cx="6343560" cy="853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JEMPLO: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mbio de variable a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[-1,1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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37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auss-Legendre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=2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460000"/>
              </a:lnSpc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auss-Legendre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=3</a:t>
            </a: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641680" y="304920"/>
                <a:ext cx="30733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101600" y="1828800"/>
                <a:ext cx="377532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07960" y="3710160"/>
                <a:ext cx="5969160" cy="10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773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773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400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57200" y="5638680"/>
                <a:ext cx="6248520" cy="25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55556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74596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8889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5556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74596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9364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254160"/>
            <a:ext cx="6000480" cy="11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auss-Chebyshev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85840" y="2945880"/>
            <a:ext cx="6229440" cy="37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lnSpc>
                <a:spcPct val="130000"/>
              </a:lnSpc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-1,1]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, los polinomios de Chebyshev forman una familia ortogonal,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 algn="just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T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(x)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iene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raices reales distintas,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922320" y="4492800"/>
                <a:ext cx="5313240" cy="13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,3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990720" y="7010280"/>
                <a:ext cx="424944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rPr>
                        <m:lit/>
                        <m:nor/>
                      </m:rPr>
                      <m:t xml:space="preserve"></m:t>
                    </m:r>
                    <m:r>
                      <m:rPr>
                        <m:lit/>
                        <m:nor/>
                      </m:rPr>
                      <m:t xml:space="preserve">k=0,1,2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,n-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208160" y="1371600"/>
                <a:ext cx="427824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»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85840" y="2971800"/>
            <a:ext cx="622944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 [0,+</a:t>
            </a:r>
            <a:r>
              <a:rPr b="0" lang="en-US" sz="2800" spc="-1" strike="noStrike">
                <a:solidFill>
                  <a:srgbClr val="00008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[, los polinomios de Laguerre son una familia ortogonal,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312120" indent="0" algn="just">
              <a:lnSpc>
                <a:spcPct val="5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(x)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iene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raices reales y distintas,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762120" y="4290840"/>
                <a:ext cx="515124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53341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auss-Laguerr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73200" y="6427800"/>
                <a:ext cx="5332320" cy="23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48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1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</m:t>
                        </m:r>
                        <m:r>
                          <m:rPr>
                            <m:lit/>
                            <m:nor/>
                          </m:rPr>
                          <m:t xml:space="preserve">k=</m:t>
                        </m:r>
                        <m:r>
                          <m:t xml:space="preserve">0,1,2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,n-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914400" y="1066680"/>
                <a:ext cx="39736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»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990720" y="1981080"/>
                <a:ext cx="40384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101520"/>
            <a:ext cx="54100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auss-Hermi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2336400"/>
            <a:ext cx="6229080" cy="39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9000"/>
          </a:bodyPr>
          <a:p>
            <a:pPr marL="20232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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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, los polinomios de Hermite forman una familia ortogonal,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(x)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tiene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raices reales y distintas en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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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,+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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, y los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oeficientes son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066680" y="3736800"/>
                <a:ext cx="497376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H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,1,2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855800" y="1333440"/>
                <a:ext cx="33256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≈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990720" y="6615000"/>
                <a:ext cx="50673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!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    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600" y="861840"/>
            <a:ext cx="531504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les impropia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67652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rácter de las integrales impropias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solución numérica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. impropias </a:t>
            </a:r>
            <a:r>
              <a:rPr b="0" lang="en-US" sz="2800" spc="-1" strike="noStrike">
                <a:solidFill>
                  <a:srgbClr val="00008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I. propia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mbio de variable,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esarrollo por series,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liminación de la singularidad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03040"/>
            <a:ext cx="5562720" cy="12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les Impropia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586728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a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f(x)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una función contínua con una asíntota vertical en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a,b]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. La integra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2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s una integral impropia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                          entonc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379520" y="7139160"/>
                <a:ext cx="204156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590920" y="2514600"/>
                <a:ext cx="15238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3465360" y="5562720"/>
            <a:ext cx="331632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27680" y="3962520"/>
            <a:ext cx="3513960" cy="6001920"/>
            <a:chOff x="1327680" y="3962520"/>
            <a:chExt cx="3513960" cy="6001920"/>
          </a:xfrm>
        </p:grpSpPr>
        <p:sp>
          <p:nvSpPr>
            <p:cNvPr id="226" name=""/>
            <p:cNvSpPr/>
            <p:nvPr/>
          </p:nvSpPr>
          <p:spPr>
            <a:xfrm>
              <a:off x="2761920" y="4991040"/>
              <a:ext cx="2033640" cy="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327680" y="4309920"/>
              <a:ext cx="3225960" cy="565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9" y="0"/>
                  </a:moveTo>
                  <a:arcTo wR="10800" hR="10800" stAng="-5403488" swAng="54034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9" y="0"/>
                  </a:moveTo>
                  <a:arcTo wR="10800" hR="10800" stAng="-5403488" swAng="5403488"/>
                </a:path>
              </a:pathLst>
            </a:custGeom>
            <a:noFill/>
            <a:ln cap="rnd"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672440" y="4990680"/>
              <a:ext cx="0" cy="2057400"/>
            </a:xfrm>
            <a:prstGeom prst="line">
              <a:avLst/>
            </a:prstGeom>
            <a:ln w="12600">
              <a:solidFill>
                <a:srgbClr val="01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65880" y="4903920"/>
              <a:ext cx="275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75080" y="4819680"/>
              <a:ext cx="0" cy="34272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19400" y="4530600"/>
              <a:ext cx="592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Times New Roman"/>
                </a:rPr>
                <a:t>b-</a:t>
              </a:r>
              <a:r>
                <a:rPr b="0" lang="en-US" sz="1800" spc="-1" strike="noStrike">
                  <a:solidFill>
                    <a:srgbClr val="010000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03480" y="3962520"/>
              <a:ext cx="690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Times New Roman"/>
                </a:rPr>
                <a:t>f(x)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43360" y="4903920"/>
              <a:ext cx="0" cy="17136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15120" y="4903920"/>
              <a:ext cx="27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53240" y="6245280"/>
              <a:ext cx="190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2209680" y="6399360"/>
                  <a:ext cx="182340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</m:sup>
                          </m:sSup>
                        </m:lim>
                      </m:limLow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7" name=""/>
            <p:cNvSpPr/>
            <p:nvPr/>
          </p:nvSpPr>
          <p:spPr>
            <a:xfrm>
              <a:off x="2441880" y="6500880"/>
              <a:ext cx="1907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473120" y="7848720"/>
                <a:ext cx="3456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ε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lim>
                    </m:limLow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roducció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930320"/>
            <a:ext cx="5486400" cy="721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Justificación del problema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l elíptica de segunda clas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efinición de funciones especiales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f9966"/>
              </a:buClr>
              <a:buSzPct val="64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unción de Bessel 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lnSpc>
                <a:spcPct val="350000"/>
              </a:lnSpc>
              <a:spcBef>
                <a:spcPts val="700"/>
              </a:spcBef>
              <a:buClr>
                <a:srgbClr val="ff9966"/>
              </a:buClr>
              <a:buSzPct val="64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unción error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iscretización de ecuaciones integra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600200" y="4863960"/>
                <a:ext cx="47466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q</m:t>
                        </m:r>
                      </m:e>
                    </m:nary>
                    <m:r>
                      <m:t xml:space="preserve">−</m:t>
                    </m:r>
                    <m:r>
                      <m:t xml:space="preserve">nq</m:t>
                    </m:r>
                    <m:r>
                      <m:t xml:space="preserve">)</m:t>
                    </m:r>
                    <m: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33720" y="6248520"/>
                <a:ext cx="39114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76040" y="4495320"/>
            <a:ext cx="637704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Si                              enton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uando estos límites existen, decimos que la integral impropia es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convergente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n otro caso, se dice que es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divergente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90720" y="5029200"/>
                <a:ext cx="17780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1" name=""/>
          <p:cNvGrpSpPr/>
          <p:nvPr/>
        </p:nvGrpSpPr>
        <p:grpSpPr>
          <a:xfrm>
            <a:off x="1905120" y="-1791720"/>
            <a:ext cx="2781360" cy="6467040"/>
            <a:chOff x="1905120" y="-1791720"/>
            <a:chExt cx="2781360" cy="6467040"/>
          </a:xfrm>
        </p:grpSpPr>
        <p:grpSp>
          <p:nvGrpSpPr>
            <p:cNvPr id="242" name=""/>
            <p:cNvGrpSpPr/>
            <p:nvPr/>
          </p:nvGrpSpPr>
          <p:grpSpPr>
            <a:xfrm>
              <a:off x="1905120" y="-1791720"/>
              <a:ext cx="2501280" cy="6467040"/>
              <a:chOff x="1905120" y="-1791720"/>
              <a:chExt cx="2501280" cy="6467040"/>
            </a:xfrm>
          </p:grpSpPr>
          <p:sp>
            <p:nvSpPr>
              <p:cNvPr id="243" name=""/>
              <p:cNvSpPr/>
              <p:nvPr/>
            </p:nvSpPr>
            <p:spPr>
              <a:xfrm>
                <a:off x="1965240" y="2459880"/>
                <a:ext cx="1951920" cy="0"/>
              </a:xfrm>
              <a:prstGeom prst="line">
                <a:avLst/>
              </a:prstGeom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2095200" y="768240"/>
                <a:ext cx="0" cy="1741680"/>
              </a:xfrm>
              <a:prstGeom prst="line">
                <a:avLst/>
              </a:prstGeom>
              <a:ln w="12600">
                <a:solidFill>
                  <a:srgbClr val="01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684240" y="2387160"/>
                <a:ext cx="290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1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458800" y="2316240"/>
                <a:ext cx="0" cy="286920"/>
              </a:xfrm>
              <a:prstGeom prst="line">
                <a:avLst/>
              </a:prstGeom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905120" y="2387160"/>
                <a:ext cx="2887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1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441520" y="2387160"/>
                <a:ext cx="6627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10000"/>
                    </a:solidFill>
                    <a:latin typeface="Times New Roman"/>
                  </a:rPr>
                  <a:t>a+</a:t>
                </a:r>
                <a:r>
                  <a:rPr b="0" lang="en-US" sz="1800" spc="-1" strike="noStrike">
                    <a:solidFill>
                      <a:srgbClr val="010000"/>
                    </a:solidFill>
                    <a:latin typeface="Symbol"/>
                    <a:ea typeface="Symbol"/>
                  </a:rPr>
                  <a:t></a:t>
                </a:r>
                <a:endParaRPr b="0" lang="en-US" sz="1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268440" y="1095840"/>
                <a:ext cx="1137960" cy="357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95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9551"/>
                  </a:path>
                </a:pathLst>
              </a:custGeom>
              <a:noFill/>
              <a:ln cap="rnd" w="1260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965600" y="1986480"/>
                <a:ext cx="1300680" cy="1794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773"/>
                    </a:moveTo>
                    <a:arcTo wR="10800" hR="10800" stAng="-8736" swAng="54087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773"/>
                    </a:moveTo>
                    <a:arcTo wR="10800" hR="10800" stAng="-8736" swAng="5408736"/>
                  </a:path>
                </a:pathLst>
              </a:custGeom>
              <a:noFill/>
              <a:ln cap="rnd" w="1260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129760" y="-1791720"/>
                <a:ext cx="978480" cy="556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62" y="21600"/>
                    </a:moveTo>
                    <a:arcTo wR="10800" hR="10800" stAng="5412169" swAng="538783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62" y="21600"/>
                    </a:moveTo>
                    <a:arcTo wR="10800" hR="10800" stAng="5412169" swAng="5387831"/>
                  </a:path>
                </a:pathLst>
              </a:custGeom>
              <a:noFill/>
              <a:ln cap="rnd" w="1260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2786040" y="3862440"/>
                  <a:ext cx="1900440" cy="55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+</m:t>
                              </m:r>
                            </m:sup>
                          </m:sSup>
                        </m:lim>
                      </m:limLow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=+</m:t>
                      </m:r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523880" y="5867280"/>
                <a:ext cx="3354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ε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lim>
                    </m:limLow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276720" y="228600"/>
            <a:ext cx="3124080" cy="1143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285840" y="812880"/>
            <a:ext cx="6400800" cy="795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JEMPL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10000"/>
                </a:solidFill>
                <a:latin typeface="Symbol"/>
                <a:ea typeface="Symbol"/>
              </a:rPr>
              <a:t>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=0.01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4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plicando cuadratura de Gauss,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=5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10000"/>
                </a:solidFill>
                <a:latin typeface="Symbol"/>
                <a:ea typeface="Symbol"/>
              </a:rPr>
              <a:t>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=0.0001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y cuadratura de Gauss,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=5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               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                    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no tiende a cero cuando    </a:t>
            </a:r>
            <a:r>
              <a:rPr b="0" i="1" lang="en-US" sz="3000" spc="-1" strike="noStrike">
                <a:solidFill>
                  <a:srgbClr val="010000"/>
                </a:solidFill>
                <a:latin typeface="Symbol"/>
                <a:ea typeface="Symbol"/>
              </a:rPr>
              <a:t>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 , luego                    no converge.</a:t>
            </a: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657600" y="304920"/>
                <a:ext cx="251136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457200" y="5378400"/>
                <a:ext cx="5640480" cy="17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515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666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065240" y="7134120"/>
                <a:ext cx="167796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895480" y="7923240"/>
                <a:ext cx="15256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2062080" y="1420920"/>
                <a:ext cx="4491000" cy="17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5187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28600" y="3635280"/>
                <a:ext cx="65977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665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276720" y="228600"/>
            <a:ext cx="3124080" cy="1143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285840" y="812880"/>
            <a:ext cx="6400800" cy="731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JEMPL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10000"/>
                </a:solidFill>
                <a:latin typeface="Symbol"/>
                <a:ea typeface="Symbol"/>
              </a:rPr>
              <a:t>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=0.01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3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plicando cuadratura de Gauss,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=5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10000"/>
                </a:solidFill>
                <a:latin typeface="Symbol"/>
                <a:ea typeface="Symbol"/>
              </a:rPr>
              <a:t>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=0.0001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y cuadratura de Gauss,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=5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505320" y="228600"/>
                <a:ext cx="28000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54040" y="2060640"/>
                <a:ext cx="53690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023840" y="3581280"/>
                <a:ext cx="4981680" cy="13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x</m:t>
                                    </m:r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≈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5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05</m:t>
                                        </m:r>
                                        <m:r>
                                          <m:t xml:space="preserve">(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e>
                                    </m:rad>
                                  </m:den>
                                </m:f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41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914400" y="5672160"/>
                <a:ext cx="476424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x</m:t>
                                    </m:r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x</m:t>
                                    </m:r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x</m:t>
                                    </m:r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8416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838080" y="7385040"/>
                <a:ext cx="5599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8416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8461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6057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. Impropias </a:t>
            </a:r>
            <a:r>
              <a:rPr b="1" lang="en-US" sz="4800" spc="-1" strike="noStrike">
                <a:solidFill>
                  <a:srgbClr val="336699"/>
                </a:solidFill>
                <a:latin typeface="Symbol"/>
                <a:ea typeface="Symbol"/>
              </a:rPr>
              <a:t>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I.Propia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5829120" cy="774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mbio de variabl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esarrollo por seri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4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28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liminación de la singularidad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800280" y="1905120"/>
                <a:ext cx="5411520" cy="13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/>
                    </m:eqArr>
                    <m:r>
                      <m:t xml:space="preserve">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n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533520" y="3962520"/>
                <a:ext cx="6019560" cy="23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x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828800" y="7343640"/>
                <a:ext cx="32529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            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812880"/>
            <a:ext cx="6305760" cy="93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les Infinita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52480" y="2641680"/>
            <a:ext cx="4648320" cy="55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les infinitas convergentes y  divergentes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Métodos de aproximación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escomposición en suma de integra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mbio de variabl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les Infinitas: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Métodos de Aproximació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626724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les sobre intervalos no acotados: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a,+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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,     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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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,b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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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,+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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.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3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onvergencia </a:t>
            </a:r>
            <a:r>
              <a:rPr b="0" lang="en-US" sz="2800" spc="-1" strike="noStrike">
                <a:solidFill>
                  <a:srgbClr val="00008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existe el límite y es un número real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905120" y="2362320"/>
                <a:ext cx="32860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lim>
                                <m:r>
                                  <m:t xml:space="preserve">b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∞</m:t>
                                </m:r>
                              </m:lim>
                            </m:limLow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lim>
                                <m:r>
                                  <m:t xml:space="preserve">a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lim>
                            </m:limLow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380880" y="4952880"/>
            <a:ext cx="60008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escomposición en suma de integrale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sulta conveniente doblar el intervalo en cada iteración: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=2</a:t>
            </a:r>
            <a:r>
              <a:rPr b="0" i="1" lang="en-US" sz="2800" spc="-1" strike="noStrike" baseline="30000">
                <a:solidFill>
                  <a:srgbClr val="01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973080" y="5943600"/>
                <a:ext cx="4665600" cy="19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t xml:space="preserve">…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⋯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T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276720" y="228600"/>
            <a:ext cx="3124080" cy="1143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457200" y="3886200"/>
          <a:ext cx="5715000" cy="472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86200"/>
                    <a:ext cx="571500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457200" y="3733920"/>
            <a:ext cx="5715000" cy="465768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228240" y="812880"/>
            <a:ext cx="6343560" cy="74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JEMPL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819440" y="1735200"/>
                <a:ext cx="33876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57200" y="3733920"/>
            <a:ext cx="5715000" cy="68580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" y="3733920"/>
            <a:ext cx="3024360" cy="464796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3733920" y="380880"/>
                <a:ext cx="23176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971800" y="2819520"/>
            <a:ext cx="3124080" cy="1143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228240" y="609480"/>
            <a:ext cx="6458040" cy="78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mbio de variabl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epende de la función a integrar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l cambio         transforma el intervalo                                     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                  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JEMPL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mbio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lnSpc>
                <a:spcPct val="6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plicando cuadratura de Gauss,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=5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590920" y="1600200"/>
                <a:ext cx="7142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066680" y="2133720"/>
                <a:ext cx="1752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≤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3657600" y="2133720"/>
                <a:ext cx="16574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297240" y="3048120"/>
                <a:ext cx="24940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43080" y="4968720"/>
                <a:ext cx="6375240" cy="242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r>
                                  <m:t xml:space="preserve">t</m:t>
                                </m:r>
                              </m:e>
                            </m:ra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ra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ra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ra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ra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≈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319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3273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2649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62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795320" y="4086360"/>
                <a:ext cx="355464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276720" y="228600"/>
            <a:ext cx="3124080" cy="1143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228240" y="812880"/>
            <a:ext cx="6458040" cy="731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JEMPL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mbio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lnSpc>
                <a:spcPct val="7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plicando Romberg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3836880" y="484200"/>
                <a:ext cx="20304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2068560" y="1916280"/>
                <a:ext cx="3890880" cy="98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34800" y="3257640"/>
                <a:ext cx="6069240" cy="483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t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5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Upp>
                        <m:r>
                          <m:t xml:space="preserve">0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36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4560" y="30456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ción Indefinid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2640" y="2819520"/>
            <a:ext cx="4800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l definida sobre un rango variable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ubdividir el intervalo de integración y aplicar cuadratura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olución del problema de valor inicial asociad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838080" y="1814400"/>
                <a:ext cx="547704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724040" y="7372440"/>
                <a:ext cx="36226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,     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80880" y="2057040"/>
            <a:ext cx="6058080" cy="708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artición del intervalo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a,b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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,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a=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&lt;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&lt;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&lt;...&lt;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-1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&lt;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=b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,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,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,...,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-1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,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nodo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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Symbol"/>
                <a:ea typeface="Symbol"/>
              </a:rPr>
              <a:t>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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Symbol"/>
                <a:ea typeface="Symbol"/>
              </a:rPr>
              <a:t></a:t>
            </a:r>
            <a:r>
              <a:rPr b="0" lang="en-US" sz="2400" spc="-1" strike="noStrike" baseline="-25000">
                <a:solidFill>
                  <a:srgbClr val="00008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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2,,...,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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8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oeficientes o pesos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rror de integración.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rado de precisión: mayor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 </a:t>
            </a:r>
            <a:r>
              <a:rPr b="0" i="1" lang="en-US" sz="3000" spc="-1" strike="noStrike">
                <a:solidFill>
                  <a:srgbClr val="010000"/>
                </a:solidFill>
                <a:latin typeface="Symbol"/>
                <a:ea typeface="Symbol"/>
              </a:rPr>
              <a:t>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al que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E</a:t>
            </a:r>
            <a:r>
              <a:rPr b="0" i="1" lang="en-US" sz="30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(x</a:t>
            </a:r>
            <a:r>
              <a:rPr b="0" i="1" lang="en-US" sz="3000" spc="-1" strike="noStrike" baseline="30000">
                <a:solidFill>
                  <a:srgbClr val="010000"/>
                </a:solidFill>
                <a:latin typeface="Times New Roman"/>
              </a:rPr>
              <a:t>k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)=0,  k=0,1,...,m </a:t>
            </a: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E</a:t>
            </a:r>
            <a:r>
              <a:rPr b="0" i="1" lang="en-US" sz="30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(x</a:t>
            </a:r>
            <a:r>
              <a:rPr b="0" i="1" lang="en-US" sz="3000" spc="-1" strike="noStrike" baseline="30000">
                <a:solidFill>
                  <a:srgbClr val="010000"/>
                </a:solidFill>
                <a:latin typeface="Times New Roman"/>
              </a:rPr>
              <a:t>m+1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)</a:t>
            </a:r>
            <a:r>
              <a:rPr b="0" i="1" lang="en-US" sz="3000" spc="-1" strike="noStrike">
                <a:solidFill>
                  <a:srgbClr val="010000"/>
                </a:solidFill>
                <a:latin typeface="Symbol"/>
                <a:ea typeface="Symbol"/>
              </a:rPr>
              <a:t>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0</a:t>
            </a: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62120" y="330120"/>
            <a:ext cx="533376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os genera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828800" y="990720"/>
                <a:ext cx="327672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905120" y="4267080"/>
                <a:ext cx="326052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981080" y="5943600"/>
                <a:ext cx="28958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jercici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35240" y="2082960"/>
            <a:ext cx="5140080" cy="66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lcúlese la función error como la integral de la función de distribución gaussiana de 0 a x: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y como solución del problema de valor inicial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913040" y="3878280"/>
                <a:ext cx="411804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2057400" y="6400800"/>
                <a:ext cx="395460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ción Múlti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86080" y="2336760"/>
            <a:ext cx="4533840" cy="482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ción múltiple sobre recintos rectangular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ción múltiple sobre regiones no rectangular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lgoritmo de Integración Múltipl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6627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cion Múltiple 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bre recintos rectangular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240" y="3276360"/>
            <a:ext cx="6458040" cy="55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plicamos la Regla de Simpson a  la integral                     considerando x como parámetro.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838080" y="2133720"/>
                <a:ext cx="551196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209680" y="3657600"/>
                <a:ext cx="16909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85800" y="4896000"/>
                <a:ext cx="5610240" cy="29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  <m:r>
                                  <m:t xml:space="preserve">+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den>
                        </m:f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η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151920" y="380520"/>
            <a:ext cx="6534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plicamos Simpson a cada una de estas integrales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685800" y="1295280"/>
                <a:ext cx="5322960" cy="18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2243160" y="3124080"/>
                <a:ext cx="26337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91960" y="4191120"/>
                <a:ext cx="6010560" cy="452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k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[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,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,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,2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r>
                          <m:t xml:space="preserve">4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+</m:t>
                        </m:r>
                        <m:r>
                          <m:t xml:space="preserve">8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,2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</m:e>
                        </m:nary>
                        <m:r>
                          <m:t xml:space="preserve">4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,2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r>
                          <m:t xml:space="preserve">8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,2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,2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r>
                          <m:t xml:space="preserve">4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,2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228240" y="533160"/>
            <a:ext cx="6286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xpresión del error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380880" y="1143000"/>
                <a:ext cx="632628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f>
                              <m:num>
                                <m:sSup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η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f>
                              <m:num>
                                <m:sSup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η</m:t>
                                    </m:r>
                                  </m:e>
                                </m:acc>
                              </m:e>
                            </m: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e>
                        </m:d>
                        <m:r>
                          <m:t xml:space="preserve">∈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152280" y="2666880"/>
            <a:ext cx="6458040" cy="65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oeficientes de la fórmula de cuadratura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447920" y="7315200"/>
                <a:ext cx="359892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h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,1,2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,1,2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26" name=""/>
          <p:cNvGrpSpPr/>
          <p:nvPr/>
        </p:nvGrpSpPr>
        <p:grpSpPr>
          <a:xfrm>
            <a:off x="76320" y="3200400"/>
            <a:ext cx="6933960" cy="3975840"/>
            <a:chOff x="76320" y="3200400"/>
            <a:chExt cx="6933960" cy="3975840"/>
          </a:xfrm>
        </p:grpSpPr>
        <p:sp>
          <p:nvSpPr>
            <p:cNvPr id="327" name=""/>
            <p:cNvSpPr/>
            <p:nvPr/>
          </p:nvSpPr>
          <p:spPr>
            <a:xfrm>
              <a:off x="5867280" y="6438960"/>
              <a:ext cx="11430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b=x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2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76320" y="3282840"/>
              <a:ext cx="6324480" cy="3893400"/>
              <a:chOff x="76320" y="3282840"/>
              <a:chExt cx="6324480" cy="3893400"/>
            </a:xfrm>
          </p:grpSpPr>
          <p:sp>
            <p:nvSpPr>
              <p:cNvPr id="329" name=""/>
              <p:cNvSpPr/>
              <p:nvPr/>
            </p:nvSpPr>
            <p:spPr>
              <a:xfrm>
                <a:off x="979560" y="3448080"/>
                <a:ext cx="4929120" cy="313704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979560" y="3448080"/>
                <a:ext cx="4929120" cy="49536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979560" y="3943440"/>
                <a:ext cx="4929120" cy="140328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979560" y="5346720"/>
                <a:ext cx="4929120" cy="66060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979560" y="3448080"/>
                <a:ext cx="493560" cy="313704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473120" y="3448080"/>
                <a:ext cx="492120" cy="313704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40160" y="3448080"/>
                <a:ext cx="657000" cy="313704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332320" y="3448080"/>
                <a:ext cx="576360" cy="313704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675320" y="3448080"/>
                <a:ext cx="657000" cy="313704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27280" y="6997680"/>
                <a:ext cx="901800" cy="0"/>
              </a:xfrm>
              <a:prstGeom prst="line">
                <a:avLst/>
              </a:prstGeom>
              <a:ln w="12600">
                <a:solidFill>
                  <a:srgbClr val="01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50880" y="4357800"/>
                <a:ext cx="0" cy="824040"/>
              </a:xfrm>
              <a:prstGeom prst="line">
                <a:avLst/>
              </a:prstGeom>
              <a:ln w="12600">
                <a:solidFill>
                  <a:srgbClr val="01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6320" y="328284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d=y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2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39760" y="3695760"/>
                <a:ext cx="123336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2m-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87440" y="501660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87440" y="567684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58760" y="625464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c=y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87440" y="666756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a=x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308240" y="666756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801800" y="666756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376360" y="666756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033720" y="666756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511520" y="666756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2n-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168880" y="666756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2n-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896760" y="3200400"/>
              <a:ext cx="19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96760" y="633744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08680" y="633744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965240" y="633744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197160" y="633744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675320" y="6337440"/>
              <a:ext cx="49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65240" y="320040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97160" y="320040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675320" y="3200400"/>
              <a:ext cx="49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743440" y="320040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473120" y="633744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40160" y="6337440"/>
              <a:ext cx="49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32320" y="633744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540160" y="3200400"/>
              <a:ext cx="49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73120" y="320040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51320" y="320040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96760" y="575964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08680" y="575964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65240" y="509904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197160" y="509904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675320" y="5099040"/>
              <a:ext cx="49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96760" y="369576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08680" y="377820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908680" y="509904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65240" y="575964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197160" y="575964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675320" y="5759640"/>
              <a:ext cx="49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965240" y="369576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97160" y="369576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75320" y="3695760"/>
              <a:ext cx="49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32320" y="509904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51320" y="5759640"/>
              <a:ext cx="657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57360" y="5759640"/>
              <a:ext cx="657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390680" y="5759640"/>
              <a:ext cx="657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251320" y="3695760"/>
              <a:ext cx="657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57360" y="3695760"/>
              <a:ext cx="657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390680" y="3695760"/>
              <a:ext cx="657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96760" y="509904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40160" y="5099040"/>
              <a:ext cx="49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473120" y="509904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51818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ción Múltiple 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bre recintos no rectangular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66680" y="3047760"/>
            <a:ext cx="4572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h=(b-a)/2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         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k=k(x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711360" y="2133720"/>
                <a:ext cx="541944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d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 </m:t>
                            </m:r>
                          </m:e>
                        </m:nary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dy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380880" y="3886200"/>
                <a:ext cx="6019920" cy="44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dx</m:t>
                                </m:r>
                                <m:r>
                                  <m:t xml:space="preserve">≈</m:t>
                                </m:r>
                              </m:e>
                            </m:nary>
                          </m:e>
                        </m:nary>
                        <m:r>
                          <m:t xml:space="preserve">≈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655164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goritmo de la 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l múlti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6305760" cy="632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trada: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f(x,y), c(x), d(x),  a, b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m, n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alida: aproximación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ASO 1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dividir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[a,b]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en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2n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subinterval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ASO 2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 cada nodo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x</a:t>
            </a:r>
            <a:r>
              <a:rPr b="0" i="1" lang="en-US" sz="3400" spc="-1" strike="noStrike" baseline="-25000">
                <a:solidFill>
                  <a:srgbClr val="01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66"/>
              </a:buClr>
              <a:buSzPct val="64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valuar la función</a:t>
            </a: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51"/>
              </a:spcBef>
              <a:buClr>
                <a:srgbClr val="ff9966"/>
              </a:buClr>
              <a:buSzPct val="64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lcular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(d(xi )-c(xi ))/(2m)</a:t>
            </a: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 algn="just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ASO 3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plicar la regla compuesta de Simpson respecto a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 algn="just">
              <a:spcBef>
                <a:spcPts val="8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ASO 4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obre el resultado obtenido del PASO 3 aplicar Simpson respecto a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  la variable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80"/>
                </a:solidFill>
                <a:latin typeface="Math1"/>
                <a:ea typeface="Math1"/>
              </a:rPr>
              <a:t>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   </a:t>
            </a:r>
            <a:r>
              <a:rPr b="0" i="1" lang="en-US" sz="3400" spc="-1" strike="noStrike">
                <a:solidFill>
                  <a:srgbClr val="010000"/>
                </a:solidFill>
                <a:latin typeface="Times New Roman"/>
              </a:rPr>
              <a:t>I</a:t>
            </a:r>
            <a:endParaRPr b="0" lang="en-US" sz="34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905120" y="1390680"/>
                <a:ext cx="350496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les de Contorn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sos Particular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Método de MonteCarl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59421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les de Contorn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6880" y="2006280"/>
            <a:ext cx="5713560" cy="55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Llamamos integral de contorno a una integral de la forma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endo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una curva en el plano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XY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 C está parametrizada, es posible transformar una integral de contorno en una integral ordinaria de una variable.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819000" y="3200400"/>
                <a:ext cx="550548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,     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étodo de Monte Carl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5467320" cy="69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l valor medio de la función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f(x)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en el intervalo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[a,b]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e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an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x</a:t>
            </a:r>
            <a:r>
              <a:rPr b="0" i="1" lang="en-US" sz="30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, x</a:t>
            </a:r>
            <a:r>
              <a:rPr b="0" i="1" lang="en-US" sz="3000" spc="-1" strike="noStrike" baseline="-25000">
                <a:solidFill>
                  <a:srgbClr val="010000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, …x</a:t>
            </a:r>
            <a:r>
              <a:rPr b="0" i="1" lang="en-US" sz="30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puntos cualesquiera en [a,b], resulta previsible qu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uando los valores de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x</a:t>
            </a:r>
            <a:r>
              <a:rPr b="0" i="1" lang="en-US" sz="3000" spc="-1" strike="noStrike" baseline="-25000">
                <a:solidFill>
                  <a:srgbClr val="01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son aleatorios, éste método es conocido como Método de Monte Carl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1828800" y="2743200"/>
                <a:ext cx="32004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125360" y="5334120"/>
                <a:ext cx="512316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14640" y="137124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órmulas de Newton-Cot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2640" y="3352680"/>
            <a:ext cx="5391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órmulas de cuadratura cerrada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órmulas de cuadratura abierta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órmula de Trapecios para N subinterval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órmula de Simpson para N subinterval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3961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jempl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228600" y="3733920"/>
          <a:ext cx="6319800" cy="479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733920"/>
                    <a:ext cx="6319800" cy="47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"/>
          <p:cNvSpPr/>
          <p:nvPr/>
        </p:nvSpPr>
        <p:spPr>
          <a:xfrm>
            <a:off x="838080" y="3733920"/>
            <a:ext cx="5715000" cy="464796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38080" y="3733920"/>
            <a:ext cx="5715000" cy="83808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38080" y="3733920"/>
            <a:ext cx="762120" cy="464796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600200" y="3733920"/>
            <a:ext cx="838080" cy="464796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438280" y="3733920"/>
            <a:ext cx="2133720" cy="464796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04920" y="1600200"/>
            <a:ext cx="59436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lculamos el perímetro de elipses de distintas excentricidades utilizando en todos los casos 60 puntos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3040" y="812520"/>
            <a:ext cx="6114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órmulas de cuadratura cerrada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2361960"/>
            <a:ext cx="6458040" cy="70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ados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+1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untos equiespaciados de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a,b], 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=a+jh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j=0,...,n h=(b-a)/(n+2)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. Entonces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h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]a,b[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al qu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ar y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10000"/>
                </a:solidFill>
                <a:latin typeface="Times New Roman"/>
              </a:rPr>
              <a:t>n+2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[a,b], s=(x-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)/h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54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mpar y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10000"/>
                </a:solidFill>
                <a:latin typeface="Times New Roman"/>
              </a:rPr>
              <a:t>n+1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a,b], s=(x-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)/h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85800" y="4317840"/>
                <a:ext cx="566748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⋯</m:t>
                            </m:r>
                          </m:e>
                        </m:nary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914400" y="6756480"/>
                <a:ext cx="542304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⋯</m:t>
                            </m:r>
                          </m:e>
                        </m:nary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1320" y="457200"/>
            <a:ext cx="5600520" cy="830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=1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gla del Trapeci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4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=2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gla de Simps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46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=3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gla de Simpson 3/8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41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=4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Newton-Cotes (5 puntos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888840" y="914400"/>
                <a:ext cx="427536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'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η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50960" y="2819520"/>
                <a:ext cx="5124240" cy="16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v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η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68280" y="6934320"/>
                <a:ext cx="6064200" cy="14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7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45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η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69800" y="4849920"/>
                <a:ext cx="6373800" cy="16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v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η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57080" y="406080"/>
            <a:ext cx="4971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órmulas de cuadratura abierta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480" y="1828440"/>
            <a:ext cx="674352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ados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+1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untos equiespaciados de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a,b],  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=a+(j+1)h, j=0,...,n  h=(b-a)/(n+2)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tonces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h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]a,b [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al qu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s par y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10000"/>
                </a:solidFill>
                <a:latin typeface="Times New Roman"/>
              </a:rPr>
              <a:t>n+2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[a,b], s=(x-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)/h</a:t>
            </a:r>
            <a:br>
              <a:rPr sz="2400"/>
            </a:b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3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s impar y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1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[a,b], s=(x-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)/h</a:t>
            </a:r>
            <a:br>
              <a:rPr sz="2800"/>
            </a:b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30080" y="4317840"/>
                <a:ext cx="5815080" cy="182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⋯</m:t>
                            </m:r>
                          </m:e>
                        </m:nary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728640" y="6908760"/>
                <a:ext cx="5950080" cy="18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⋯</m:t>
                            </m:r>
                          </m:e>
                        </m:nary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2720" y="609120"/>
            <a:ext cx="6057720" cy="772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=0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gla del Punto Medi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2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=1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2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=2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2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=3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838080" y="1905120"/>
                <a:ext cx="5629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h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η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η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85800" y="3152880"/>
                <a:ext cx="581184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η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28600" y="6985080"/>
                <a:ext cx="664704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4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v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η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47640" y="4952880"/>
                <a:ext cx="5448240" cy="16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v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η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4T17:10:36Z</dcterms:created>
  <dc:creator>Alicia Cordero Barbero</dc:creator>
  <dc:description/>
  <dc:language>en-US</dc:language>
  <cp:lastModifiedBy>Hugo</cp:lastModifiedBy>
  <cp:lastPrinted>1999-02-25T17:44:44Z</cp:lastPrinted>
  <dcterms:modified xsi:type="dcterms:W3CDTF">2007-09-06T01:23:09Z</dcterms:modified>
  <cp:revision>60</cp:revision>
  <dc:subject/>
  <dc:title>Integración Numérica</dc:title>
</cp:coreProperties>
</file>