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6858000" cy="9144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AC4-1421-4A41-95EB-6E8AEEE5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EEDD-C299-4A8D-9B02-C194C4B14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4E71-9A51-495C-8F30-279125E8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B81A-8C42-415D-8D82-F7D3DB2F3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54A1-0AA3-4BDE-9DB8-30A1FC8AB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2B74-088A-4D00-959D-B621AB5E9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B421-54D2-4EE0-9F42-1617AEAA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6760C-0A54-4543-9672-D929548E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2DB61-AA7E-420D-B991-0853E648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1D09-7E74-4A62-81C1-E84DE06F2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7427-4812-4EE9-B684-4367BC6A0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F431-1D8D-493A-B1E2-4303DFB93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3079-617A-443D-B7CB-D3D0211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7F3A3-DD3D-4D0D-9151-5ECAB5A8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9080-2F3D-41D4-961E-61F56160F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0F5C2-E39B-4FDB-A4B9-D465CA60B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8C9D1-2339-4B88-A232-BE68A256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B050-FE1C-4E10-94CD-1E6347D3D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E6DE-1BB2-44C9-8B69-5C020945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9F02-1583-4BD5-8794-F46C28B98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114640" y="812520"/>
            <a:ext cx="45720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92BC-0872-4E2F-A90A-3E42C5B55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891AD-878B-41D0-BA7A-0D9E663D1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C2ED-126C-4894-8B34-9D244DDE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B9B6-3C79-4037-8C5A-9173924B1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05600" indent="-2714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085760" indent="-217080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519920" indent="-217080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954440" indent="-217080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954440" indent="-21708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F129D-0597-49DC-A751-A10F2F4E5B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440" y="4614840"/>
            <a:ext cx="6859800" cy="0"/>
          </a:xfrm>
          <a:prstGeom prst="line">
            <a:avLst/>
          </a:prstGeom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171520" y="1125360"/>
            <a:ext cx="4343040" cy="16049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6" y="0"/>
                </a:moveTo>
                <a:arcTo wR="10800" hR="10800" stAng="-5398115" swAng="5398115"/>
                <a:lnTo>
                  <a:pt x="10800" y="10800"/>
                </a:lnTo>
                <a:close/>
              </a:path>
              <a:path fill="none" w="21600" h="21600">
                <a:moveTo>
                  <a:pt x="10806" y="0"/>
                </a:moveTo>
                <a:arcTo wR="10800" hR="10800" stAng="-5398115" swAng="5398115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86040" y="2398320"/>
            <a:ext cx="4798800" cy="203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2282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2685600" y="8331120"/>
            <a:ext cx="217188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DAF8-B517-4261-812D-230B1A8B8F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342720" y="2139480"/>
            <a:ext cx="6171840" cy="530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914400" algn="ctr"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3" marL="1371600" algn="ctr">
              <a:spcBef>
                <a:spcPts val="700"/>
              </a:spcBef>
              <a:buClr>
                <a:srgbClr val="336699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4" marL="1828800" algn="ctr">
              <a:spcBef>
                <a:spcPts val="700"/>
              </a:spcBef>
              <a:buClr>
                <a:srgbClr val="ff9966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5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6" marL="1828800">
              <a:spcBef>
                <a:spcPts val="700"/>
              </a:spcBef>
              <a:buClr>
                <a:srgbClr val="0099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86040" y="3211560"/>
            <a:ext cx="4798800" cy="20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28560" y="812520"/>
            <a:ext cx="6229440" cy="711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Trapecios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N,  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   k=0,1,2,...,N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h=(b-a)/(2m),   x</a:t>
            </a:r>
            <a:r>
              <a:rPr b="0" i="1" lang="en-US" sz="2600" spc="-1" strike="noStrike" baseline="-25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2600" spc="-1" strike="noStrike">
                <a:solidFill>
                  <a:srgbClr val="010000"/>
                </a:solidFill>
                <a:latin typeface="Times New Roman"/>
              </a:rPr>
              <a:t>=a+kh   k=0,1,2,...,2m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642960" y="2819520"/>
                <a:ext cx="5452920" cy="18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f</m:t>
                        </m:r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609480" y="6546960"/>
                <a:ext cx="6131160" cy="188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k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nary>
                                  <m:naryPr>
                                    <m:chr m:val="∑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  <m:r>
                                      <m:t xml:space="preserve">=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  <m:sup>
                                    <m:r>
                                      <m:t xml:space="preserve">m</m:t>
                                    </m:r>
                                  </m:sup>
                                  <m:e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  <m:r>
                                          <m:t xml:space="preserve">k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)</m:t>
                                    </m:r>
                                  </m:e>
                                </m:nary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m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</m:e>
                        </m:d>
                      </m:e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56800" y="2793600"/>
            <a:ext cx="5829480" cy="589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la Fórmu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trapolación de Richard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523880" y="3429000"/>
                <a:ext cx="39801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-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C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521000" y="5332320"/>
                <a:ext cx="3584520" cy="23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eqArr>
                          <m:e>
                            <m:d>
                              <m:dPr>
                                <m:begChr m:val=""/>
                                <m:endChr m:val="}"/>
                              </m:dPr>
                              <m:e>
                                <m:r>
                                  <m:t xml:space="preserve">I</m:t>
                                </m:r>
                                <m:r>
                                  <m:t xml:space="preserve">≃</m:t>
                                </m:r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  <m:r>
                                  <m:t xml:space="preserve">[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r>
                                  <m:t xml:space="preserve">]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h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e>
                              <m:e/>
                            </m:d>
                          </m:e>
                        </m:eqArr>
                      </m:e>
                    </m:eqAr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I</m:t>
                    </m:r>
                    <m:r>
                      <m:t xml:space="preserve">≃</m:t>
                    </m:r>
                    <m:r>
                      <m:rPr>
                        <m:lit/>
                        <m:nor/>
                      </m:rPr>
                      <m:t xml:space="preserve">16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]</m:t>
                    </m:r>
                    <m:r>
                      <m:t xml:space="preserve">I</m:t>
                    </m:r>
                    <m:r>
                      <m:t xml:space="preserve">≃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t xml:space="preserve">2</m:t>
                        </m:r>
                        <m:r>
                          <m:t xml:space="preserve">h</m:t>
                        </m:r>
                        <m:r>
                          <m:t xml:space="preserve">]</m:t>
                        </m:r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 </m:t>
                    </m:r>
                    <m:limLow>
                      <m:e>
                        <m:r>
                          <m:t xml:space="preserve">=</m:t>
                        </m:r>
                      </m:e>
                      <m:lim>
                        <m:r>
                          <m:rPr>
                            <m:lit/>
                            <m:nor/>
                          </m:rPr>
                          <m:t xml:space="preserve">def</m:t>
                        </m:r>
                      </m:lim>
                    </m:limLow>
                    <m:r>
                      <m:t xml:space="preserve"> 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80520" y="5334120"/>
            <a:ext cx="6172200" cy="28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gener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orde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2j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acta para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j-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600360" y="5486400"/>
                <a:ext cx="321804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,</m:t>
                            </m:r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4</m:t>
                            </m:r>
                          </m:e>
                          <m:sup>
                            <m:r>
                              <m:t xml:space="preserve">j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abla de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1200240" y="2235240"/>
            <a:ext cx="542916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47760" y="2362320"/>
            <a:ext cx="6129360" cy="2933280"/>
            <a:chOff x="347760" y="2362320"/>
            <a:chExt cx="6129360" cy="2933280"/>
          </a:xfrm>
        </p:grpSpPr>
        <mc:AlternateContent>
          <mc:Choice xmlns:a14="http://schemas.microsoft.com/office/drawing/2010/main" Requires="a14">
            <p:sp>
              <p:nvSpPr>
                <p:cNvPr id="131" name=""/>
                <p:cNvSpPr txBox="1"/>
                <p:nvPr/>
              </p:nvSpPr>
              <p:spPr>
                <a:xfrm>
                  <a:off x="347760" y="2362320"/>
                  <a:ext cx="6129360" cy="293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m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r>
                              <m:t xml:space="preserve">h</m:t>
                            </m:r>
                            <m:r>
                              <m:t xml:space="preserve">]</m:t>
                            </m:r>
                          </m:e>
                          <m:e/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/>
                        </m:mr>
                        <m:mr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S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  <m:r>
                              <m:t xml:space="preserve">[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  <m:r>
                              <m:t xml:space="preserve">]</m:t>
                            </m:r>
                          </m:e>
                        </m:mr>
                        <m:mr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  <m:e>
                            <m:r>
                              <m:t xml:space="preserve">L</m:t>
                            </m:r>
                          </m:e>
                        </m:mr>
                      </m:m>
                    </m:oMath>
                  </a14:m>
                </a:p>
              </p:txBody>
            </p:sp>
          </mc:Choice>
          <mc:Fallback/>
        </mc:AlternateContent>
        <p:grpSp>
          <p:nvGrpSpPr>
            <p:cNvPr id="132" name=""/>
            <p:cNvGrpSpPr/>
            <p:nvPr/>
          </p:nvGrpSpPr>
          <p:grpSpPr>
            <a:xfrm>
              <a:off x="1569600" y="2716920"/>
              <a:ext cx="3724560" cy="1661760"/>
              <a:chOff x="1569600" y="2716920"/>
              <a:chExt cx="3724560" cy="1661760"/>
            </a:xfrm>
          </p:grpSpPr>
          <p:sp>
            <p:nvSpPr>
              <p:cNvPr id="133" name=""/>
              <p:cNvSpPr/>
              <p:nvPr/>
            </p:nvSpPr>
            <p:spPr>
              <a:xfrm>
                <a:off x="1569600" y="326736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9600" y="2716920"/>
                <a:ext cx="448200" cy="47160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56960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56960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569600" y="382212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69600" y="3269520"/>
                <a:ext cx="44820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175560" y="382212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175560" y="3269520"/>
                <a:ext cx="448560" cy="47556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845960" y="4378680"/>
                <a:ext cx="44820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845960" y="3823920"/>
                <a:ext cx="44820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175560" y="4378680"/>
                <a:ext cx="448560" cy="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3175560" y="3823920"/>
                <a:ext cx="448560" cy="475920"/>
              </a:xfrm>
              <a:prstGeom prst="line">
                <a:avLst/>
              </a:prstGeom>
              <a:ln w="25560">
                <a:solidFill>
                  <a:srgbClr val="01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02680"/>
            <a:ext cx="5410080" cy="1016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1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ROMBER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880" y="1472760"/>
            <a:ext cx="6305760" cy="660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tos de entrada: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a, b, n,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roceso: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onstrucción de la tabla de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1, I(1,1) = trapecio(a,b,n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1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mientras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&gt; 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k = k+1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Fila k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1) = trapiter(a,b,2k-1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ra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j = 2 : k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% Aplica el método de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Romberg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I(k,j) = (4^(j -1)*I(k,j -1) - I(k -1,j -1)) /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    /(4^(j -1) -1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para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error = abs(I(k,j) - I(k,j -1)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in mientra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3520" y="1369800"/>
            <a:ext cx="615312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on paso adaptativ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3352320"/>
            <a:ext cx="5791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adaptativos de cuadratura: Regla compuest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cuadratura adaptativa implementado en MATLAB (quad.m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s adaptativo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4520" y="1218960"/>
            <a:ext cx="6400800" cy="223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Variaciones funcionales irregulares en el intervalo de integració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mbinamos la Regla compuesta de Simpson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con la Regla de Simpson par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m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de pas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/2=(b-a)/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762120" y="3809880"/>
                <a:ext cx="5160960" cy="159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r>
                          <m:t xml:space="preserve">η</m:t>
                        </m:r>
                        <m:r>
                          <m:t xml:space="preserve">∈</m:t>
                        </m:r>
                        <m:r>
                          <m:t xml:space="preserve">]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[</m:t>
                        </m:r>
                      </m:e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380880" y="5640480"/>
                <a:ext cx="6386760" cy="274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≃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3</m:t>
                                </m:r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den>
                        </m:f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{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</m:e>
                    </m:eqArr>
                    <m:r>
                      <m:t xml:space="preserve">∈</m:t>
                    </m:r>
                    <m:r>
                      <m:t xml:space="preserve">]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[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6400800" cy="883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timación del error: 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rá una buen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roximación a I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otro caso, se aplica reiteradamente a los subinterval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(a+b)/2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y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(a+b)/2,b[ (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olerancia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OL/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609480" y="1092240"/>
                <a:ext cx="5588280" cy="18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a</m:t>
                                    </m:r>
                                    <m:r>
                                      <m:t xml:space="preserve">,</m:t>
                                    </m:r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  <m:r>
                                  <m:t xml:space="preserve">−</m:t>
                                </m:r>
                                <m:r>
                                  <m:t xml:space="preserve">S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r>
                                          <m:t xml:space="preserve">a</m:t>
                                        </m:r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b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  <m:r>
                                      <m:t xml:space="preserve">,</m:t>
                                    </m:r>
                                    <m:r>
                                      <m:t xml:space="preserve">b</m:t>
                                    </m:r>
                                  </m:e>
                                </m:d>
                              </m:e>
                            </m:nary>
                          </m:e>
                        </m:d>
                        <m:r>
                          <m:t xml:space="preserve">≈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den>
                        </m:f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886200" y="380880"/>
                <a:ext cx="24382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h</m:t>
                        </m:r>
                      </m:e>
                    </m:acc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981080" y="4106880"/>
                <a:ext cx="46483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  <m:r>
                                  <m:t xml:space="preserve">,</m:t>
                                </m:r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,</m:t>
                                </m:r>
                                <m:r>
                                  <m:t xml:space="preserve">b</m:t>
                                </m:r>
                              </m:e>
                            </m:d>
                          </m:e>
                        </m:nary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1371600" y="3124080"/>
                <a:ext cx="49528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−</m:t>
                        </m:r>
                        <m:r>
                          <m:t xml:space="preserve">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</m:d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  <m:r>
                      <m:rPr>
                        <m:lit/>
                        <m:nor/>
                      </m:rPr>
                      <m:t xml:space="preserve">TO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903240" y="5226120"/>
                <a:ext cx="313524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,</m:t>
                        </m:r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320" y="812880"/>
            <a:ext cx="5619960" cy="101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Simpson con paso adaptativo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14440" y="1898640"/>
            <a:ext cx="5829120" cy="62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adapsimp(f,a,b,tol,nivel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Integra  f  en [a,b] por el método d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Simpson de paso adaptativ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tol: error admitido (estimación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 nivel: profundidad máxima de la recursión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b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aso inicia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 = a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 medio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a = feval(f,a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c = feval(f,c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b = feval(f,b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 = h/3*(fa+4*fc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simple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tol = 10*tol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14440" y="248760"/>
            <a:ext cx="582912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Arial Narrow"/>
              </a:rPr>
              <a:t>Recursión sobre los intervalos</a:t>
            </a:r>
            <a:endParaRPr b="1" lang="en-US" sz="3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14080" y="1477800"/>
            <a:ext cx="5962680" cy="717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unction I = refina(f,a,c,fa,fc,fb,int,tol,nivel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 = (c-a)/2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d = a+h; e = c+h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Puntos medio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d = feval(f,d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fe = feval(f,e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1 = h/3*(fa+4*fd+fc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izq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nt2 = h/3*(fc+4*fe+fb);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Simpson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% intervalo der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f abs(int-int1-int2)&lt;tol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int1+int2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if nivel = = 0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rror('Nivel excedido')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lse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I = refina(f,a,d,fa,fd,fc,int1,tol/2,nivel-1) +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refina(f,c,e,fc,fe,fb,int2,tol/2,nivel-1);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14640" y="93960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93416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 apropiad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2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Chebyshev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aguerr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Hermit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Numéric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 y conceptos gene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órmulas de cuadratura con paso adaptativ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dratura de Gaus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sobre intervalos infinit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en varias variab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3160" y="1981080"/>
            <a:ext cx="6379920" cy="213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202680"/>
            <a:ext cx="541044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uadratura de Gaus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609588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OBJETIVO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ección de no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1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2 </a:t>
            </a: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,..., x</a:t>
            </a:r>
            <a:r>
              <a:rPr b="0" i="1" lang="en-US" sz="24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a aumentar el grado de precisión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94840" indent="-29484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áximo grado de exactitu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228600" y="4343400"/>
            <a:ext cx="63244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CLUSION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Una fórmula de cuadratura con n nodos es exacta para polinomios de grado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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2n-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y sólo si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a fórmula es interpolatoria, y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los nodos son las raices del n-esimo polinomio ortogonal respecto del producto escalar inducido por 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w(x)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lang="en-US" sz="20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i="1" lang="en-US" sz="2000" spc="-1" strike="noStrike">
                <a:solidFill>
                  <a:srgbClr val="010000"/>
                </a:solidFill>
                <a:latin typeface="Times New Roman"/>
              </a:rPr>
              <a:t>a,b</a:t>
            </a:r>
            <a:r>
              <a:rPr b="0" lang="en-US" sz="20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0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existe ninguna fórmula co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exacta para todos los polinomios de grad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533520" y="1143000"/>
                <a:ext cx="58370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…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0" name=""/>
          <p:cNvSpPr/>
          <p:nvPr/>
        </p:nvSpPr>
        <p:spPr>
          <a:xfrm>
            <a:off x="173160" y="4267080"/>
            <a:ext cx="6379920" cy="46483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343080" y="228600"/>
            <a:ext cx="6286320" cy="7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20000"/>
          </a:bodyPr>
          <a:p>
            <a:pPr marL="684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 de cuadratura</a:t>
            </a:r>
            <a:endParaRPr b="0" lang="en-US" sz="4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lnSpc>
                <a:spcPct val="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68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1413000" y="1143000"/>
                <a:ext cx="369252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w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454040" y="2133720"/>
                <a:ext cx="426096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'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i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1422360" y="3657600"/>
                <a:ext cx="4618080" cy="13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ξ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w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a&lt;</m:t>
                        </m:r>
                        <m:r>
                          <m:t xml:space="preserve">ξ</m:t>
                        </m:r>
                        <m:r>
                          <m:rPr>
                            <m:lit/>
                            <m:nor/>
                          </m:rPr>
                          <m:t xml:space="preserve">&lt;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175" name=""/>
          <p:cNvGraphicFramePr/>
          <p:nvPr/>
        </p:nvGraphicFramePr>
        <p:xfrm>
          <a:off x="84240" y="5643720"/>
          <a:ext cx="6816600" cy="2687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5643720"/>
                    <a:ext cx="6816600" cy="268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7" name=""/>
          <p:cNvSpPr/>
          <p:nvPr/>
        </p:nvSpPr>
        <p:spPr>
          <a:xfrm>
            <a:off x="228600" y="5486400"/>
            <a:ext cx="205416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4724280" y="7696080"/>
                <a:ext cx="1195560" cy="4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"/>
          <p:cNvSpPr/>
          <p:nvPr/>
        </p:nvSpPr>
        <p:spPr>
          <a:xfrm>
            <a:off x="2289240" y="5486400"/>
            <a:ext cx="22795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78480" y="5486400"/>
            <a:ext cx="2104920" cy="2766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5486400"/>
            <a:ext cx="6454800" cy="5335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880" y="101520"/>
            <a:ext cx="45720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6095880" cy="571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Legendre forman una familia ortogon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os coeficientes de la fórmula de cuadratura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68240" y="2438280"/>
                <a:ext cx="608976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 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r>
                              <m:t xml:space="preserve">x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819000" y="4549680"/>
                <a:ext cx="512460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  <m:sSup>
                                  <m:e>
                                    <m:r>
                                      <m:t xml:space="preserve">n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O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n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1,2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"/>
              <p:cNvSpPr txBox="1"/>
              <p:nvPr/>
            </p:nvSpPr>
            <p:spPr>
              <a:xfrm>
                <a:off x="1066680" y="7237440"/>
                <a:ext cx="4973760" cy="15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Low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≠</m:t>
                                </m:r>
                                <m:r>
                                  <m:t xml:space="preserve">i</m:t>
                                </m:r>
                              </m:sub>
                              <m:sup/>
                              <m:e/>
                            </m:nary>
                          </m:e>
                          <m:lim>
                            <m:r>
                              <m:t xml:space="preserve">n</m:t>
                            </m:r>
                          </m:lim>
                        </m:limLow>
                      </m:e>
                    </m:eqAr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d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7" name=""/>
          <p:cNvGraphicFramePr/>
          <p:nvPr/>
        </p:nvGraphicFramePr>
        <p:xfrm>
          <a:off x="533520" y="5791320"/>
          <a:ext cx="5886360" cy="400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5791320"/>
                    <a:ext cx="5886360" cy="40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3886200" y="5715000"/>
            <a:ext cx="259092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203040"/>
            <a:ext cx="609624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olinomios de Legend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523880"/>
            <a:ext cx="601956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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de variable es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la fórmula de cuadratura qued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3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2435400"/>
                <a:ext cx="5368680" cy="91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t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+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657360" y="4165560"/>
                <a:ext cx="60735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b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E</m:t>
                            </m:r>
                            <m:r>
                              <m:t xml:space="preserve">(</m:t>
                            </m:r>
                            <m:r>
                              <m:t xml:space="preserve">f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685800" y="5715000"/>
            <a:ext cx="5791320" cy="47484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5715000"/>
            <a:ext cx="457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43000" y="5715000"/>
            <a:ext cx="2743200" cy="304812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8240" y="609120"/>
            <a:ext cx="6343560" cy="853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 a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-1,1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3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460000"/>
              </a:lnSpc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auss-Legendr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641680" y="304920"/>
                <a:ext cx="30733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1101600" y="1828800"/>
                <a:ext cx="3775320" cy="103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07960" y="3710160"/>
                <a:ext cx="5969160" cy="106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5773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09400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457200" y="5638680"/>
                <a:ext cx="6248520" cy="259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8889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0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55556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774596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5</m:t>
                                </m:r>
                                <m:sSup>
                                  <m:e>
                                    <m:r>
                                      <m:t xml:space="preserve">)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16</m:t>
                                </m:r>
                              </m:den>
                            </m:f>
                          </m:sup>
                        </m:sSup>
                        <m:r>
                          <m:t xml:space="preserve">]</m:t>
                        </m:r>
                      </m:e>
                      <m:e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09364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33520" y="254160"/>
            <a:ext cx="600048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Chebyshev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2945880"/>
            <a:ext cx="6229440" cy="375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lnSpc>
                <a:spcPct val="130000"/>
              </a:lnSpc>
              <a:spcBef>
                <a:spcPts val="64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-1,1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Chebyshev forma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922320" y="4492800"/>
                <a:ext cx="5313240" cy="13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2,3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990720" y="7010280"/>
                <a:ext cx="4249440" cy="79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n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</m:t>
                    </m:r>
                    <m:r>
                      <m:rPr>
                        <m:lit/>
                        <m:nor/>
                      </m:rPr>
                      <m:t xml:space="preserve"></m:t>
                    </m:r>
                    <m:r>
                      <m:rPr>
                        <m:lit/>
                        <m:nor/>
                      </m:rPr>
                      <m:t xml:space="preserve">k=0,1,2,</m:t>
                    </m:r>
                    <m:r>
                      <m:t xml:space="preserve">…</m:t>
                    </m:r>
                    <m:r>
                      <m:rPr>
                        <m:lit/>
                        <m:nor/>
                      </m:rPr>
                      <m:t xml:space="preserve">,n-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208160" y="1371600"/>
                <a:ext cx="4278240" cy="113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f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285840" y="2971800"/>
            <a:ext cx="622944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[0,+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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[, los polinomios de Laguerre son una familia ortogonal,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312120" indent="0" algn="just">
              <a:lnSpc>
                <a:spcPct val="5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290840"/>
                <a:ext cx="515124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685440" y="228240"/>
            <a:ext cx="53341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Laguerr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00" y="6427800"/>
                <a:ext cx="5332320" cy="233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j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4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f>
                                      <m:num>
                                        <m:r>
                                          <m:t xml:space="preserve">1</m:t>
                                        </m:r>
                                      </m:num>
                                      <m:den>
                                        <m:r>
                                          <m:t xml:space="preserve">2</m:t>
                                        </m:r>
                                      </m:den>
                                    </m:f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  <m:r>
                                      <m:t xml:space="preserve">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48</m:t>
                                </m:r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n</m:t>
                                        </m:r>
                                        <m:r>
                                          <m:t xml:space="preserve">+</m:t>
                                        </m:r>
                                        <m:f>
                                          <m:num>
                                            <m:r>
                                              <m:t xml:space="preserve">1</m:t>
                                            </m:r>
                                          </m:num>
                                          <m:den>
                                            <m:r>
                                              <m:t xml:space="preserve">2</m:t>
                                            </m:r>
                                          </m:den>
                                        </m:f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+</m:t>
                        </m:r>
                        <m:r>
                          <m:t xml:space="preserve">O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</m:t>
                        </m:r>
                        <m:r>
                          <m:rPr>
                            <m:lit/>
                            <m:nor/>
                          </m:rPr>
                          <m:t xml:space="preserve">k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rPr>
                            <m:lit/>
                            <m:nor/>
                          </m:rPr>
                          <m:t xml:space="preserve">,n-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914400" y="1066680"/>
                <a:ext cx="3973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»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990720" y="1981080"/>
                <a:ext cx="40384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n</m:t>
                                </m:r>
                                <m:r>
                                  <m:t xml:space="preserve">!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L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101520"/>
            <a:ext cx="54100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auss-Hermi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2336400"/>
            <a:ext cx="6229080" cy="398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9000"/>
          </a:bodyPr>
          <a:p>
            <a:pPr marL="20232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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los polinomios de Hermite forman una familia ortogonal,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tien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raices reales y distintas en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y los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so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marL="2023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066680" y="3736800"/>
                <a:ext cx="497376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        H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H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1855800" y="1333440"/>
                <a:ext cx="33256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990720" y="6615000"/>
                <a:ext cx="506736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n</m:t>
                        </m:r>
                        <m:r>
                          <m:t xml:space="preserve">!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      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,2</m:t>
                    </m:r>
                    <m:r>
                      <m:t xml:space="preserve">,</m:t>
                    </m:r>
                    <m:r>
                      <m:t xml:space="preserve">…</m:t>
                    </m:r>
                    <m:r>
                      <m:t xml:space="preserve">,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861840"/>
            <a:ext cx="53150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67652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rácter de las integrales impropia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olución numérica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. impropias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I. propi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,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203040"/>
            <a:ext cx="5562720" cy="124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mpropi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5867280" cy="64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función contínua con una asíntota vertical en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La integral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2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una integral impropia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                         entonc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1379520" y="7139160"/>
                <a:ext cx="204156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2590920" y="2514600"/>
                <a:ext cx="15238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465360" y="5562720"/>
            <a:ext cx="33163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27680" y="3962520"/>
            <a:ext cx="3513960" cy="6001920"/>
            <a:chOff x="1327680" y="3962520"/>
            <a:chExt cx="3513960" cy="6001920"/>
          </a:xfrm>
        </p:grpSpPr>
        <p:sp>
          <p:nvSpPr>
            <p:cNvPr id="226" name=""/>
            <p:cNvSpPr/>
            <p:nvPr/>
          </p:nvSpPr>
          <p:spPr>
            <a:xfrm>
              <a:off x="2761920" y="4991040"/>
              <a:ext cx="2033640" cy="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327680" y="4309920"/>
              <a:ext cx="3225960" cy="565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9" y="0"/>
                  </a:moveTo>
                  <a:arcTo wR="10800" hR="10800" stAng="-5403488" swAng="540348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9" y="0"/>
                  </a:moveTo>
                  <a:arcTo wR="10800" hR="10800" stAng="-5403488" swAng="5403488"/>
                </a:path>
              </a:pathLst>
            </a:custGeom>
            <a:noFill/>
            <a:ln cap="rnd"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4672440" y="4990680"/>
              <a:ext cx="0" cy="2057400"/>
            </a:xfrm>
            <a:prstGeom prst="line">
              <a:avLst/>
            </a:prstGeom>
            <a:ln w="12600">
              <a:solidFill>
                <a:srgbClr val="01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565880" y="4903920"/>
              <a:ext cx="2757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375080" y="4819680"/>
              <a:ext cx="0" cy="34272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019400" y="4530600"/>
              <a:ext cx="5925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b-</a:t>
              </a:r>
              <a:r>
                <a:rPr b="0" lang="en-US" sz="1800" spc="-1" strike="noStrike">
                  <a:solidFill>
                    <a:srgbClr val="010000"/>
                  </a:solidFill>
                  <a:latin typeface="Symbol"/>
                  <a:ea typeface="Symbol"/>
                </a:rPr>
                <a:t>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003480" y="3962520"/>
              <a:ext cx="6901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f(x)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943360" y="4903920"/>
              <a:ext cx="0" cy="171360"/>
            </a:xfrm>
            <a:prstGeom prst="line">
              <a:avLst/>
            </a:prstGeom>
            <a:ln w="12600">
              <a:solidFill>
                <a:srgbClr val="01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715120" y="4903920"/>
              <a:ext cx="2743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53240" y="6245280"/>
              <a:ext cx="1905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36" name=""/>
                <p:cNvSpPr txBox="1"/>
                <p:nvPr/>
              </p:nvSpPr>
              <p:spPr>
                <a:xfrm>
                  <a:off x="2209680" y="6399360"/>
                  <a:ext cx="1823400" cy="58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b</m:t>
                              </m:r>
                            </m:e>
                            <m:sup>
                              <m:r>
                                <m:t xml:space="preserve">−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37" name=""/>
            <p:cNvSpPr/>
            <p:nvPr/>
          </p:nvSpPr>
          <p:spPr>
            <a:xfrm>
              <a:off x="2441880" y="6500880"/>
              <a:ext cx="1907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8" name=""/>
              <p:cNvSpPr txBox="1"/>
              <p:nvPr/>
            </p:nvSpPr>
            <p:spPr>
              <a:xfrm>
                <a:off x="1473120" y="7848720"/>
                <a:ext cx="34560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roduc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43000" y="1930320"/>
            <a:ext cx="5486400" cy="721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Justificación del problema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elíptica de segunda clas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finición de funciones especi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de Bessel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43000" indent="-228600">
              <a:lnSpc>
                <a:spcPct val="350000"/>
              </a:lnSpc>
              <a:spcBef>
                <a:spcPts val="700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Función error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iscretización de ecuaciones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1600200" y="4863960"/>
                <a:ext cx="47466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z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r>
                          <m:t xml:space="preserve">q</m:t>
                        </m:r>
                      </m:e>
                    </m:nary>
                    <m:r>
                      <m:t xml:space="preserve">−</m:t>
                    </m:r>
                    <m:r>
                      <m:t xml:space="preserve">nq</m:t>
                    </m:r>
                    <m:r>
                      <m:t xml:space="preserve">)</m:t>
                    </m:r>
                    <m: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33720" y="6248520"/>
                <a:ext cx="391140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p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176040" y="4495320"/>
            <a:ext cx="6377040" cy="433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Si                              entonces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Cuando estos límites existen, decimos que la integral impropia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con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n otro caso, se dice que es </a:t>
            </a:r>
            <a:r>
              <a:rPr b="1" lang="en-US" sz="2400" spc="-1" strike="noStrike">
                <a:solidFill>
                  <a:srgbClr val="000080"/>
                </a:solidFill>
                <a:latin typeface="Times New Roman"/>
              </a:rPr>
              <a:t>divergent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990720" y="5029200"/>
                <a:ext cx="177804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41" name=""/>
          <p:cNvGrpSpPr/>
          <p:nvPr/>
        </p:nvGrpSpPr>
        <p:grpSpPr>
          <a:xfrm>
            <a:off x="1905120" y="-1791720"/>
            <a:ext cx="2781360" cy="6467040"/>
            <a:chOff x="1905120" y="-1791720"/>
            <a:chExt cx="2781360" cy="6467040"/>
          </a:xfrm>
        </p:grpSpPr>
        <p:grpSp>
          <p:nvGrpSpPr>
            <p:cNvPr id="242" name=""/>
            <p:cNvGrpSpPr/>
            <p:nvPr/>
          </p:nvGrpSpPr>
          <p:grpSpPr>
            <a:xfrm>
              <a:off x="1905120" y="-1791720"/>
              <a:ext cx="2501280" cy="6467040"/>
              <a:chOff x="1905120" y="-1791720"/>
              <a:chExt cx="2501280" cy="6467040"/>
            </a:xfrm>
          </p:grpSpPr>
          <p:sp>
            <p:nvSpPr>
              <p:cNvPr id="243" name=""/>
              <p:cNvSpPr/>
              <p:nvPr/>
            </p:nvSpPr>
            <p:spPr>
              <a:xfrm>
                <a:off x="1965240" y="2459880"/>
                <a:ext cx="195192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V="1">
                <a:off x="2095200" y="768240"/>
                <a:ext cx="0" cy="174168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lg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684240" y="2387160"/>
                <a:ext cx="2905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b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58800" y="2316240"/>
                <a:ext cx="0" cy="286920"/>
              </a:xfrm>
              <a:prstGeom prst="line">
                <a:avLst/>
              </a:prstGeom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905120" y="2387160"/>
                <a:ext cx="2887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441520" y="2387160"/>
                <a:ext cx="66276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10000"/>
                    </a:solidFill>
                    <a:latin typeface="Times New Roman"/>
                  </a:rPr>
                  <a:t>a+</a:t>
                </a:r>
                <a:r>
                  <a:rPr b="0" lang="en-US" sz="1800" spc="-1" strike="noStrike">
                    <a:solidFill>
                      <a:srgbClr val="010000"/>
                    </a:solidFill>
                    <a:latin typeface="Symbol"/>
                    <a:ea typeface="Symbol"/>
                  </a:rPr>
                  <a:t></a:t>
                </a:r>
                <a:endParaRPr b="0" lang="en-US" sz="18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268440" y="1095840"/>
                <a:ext cx="1137960" cy="3579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95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955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65600" y="1986480"/>
                <a:ext cx="1300680" cy="1794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773"/>
                    </a:moveTo>
                    <a:arcTo wR="10800" hR="10800" stAng="-8736" swAng="54087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773"/>
                    </a:moveTo>
                    <a:arcTo wR="10800" hR="10800" stAng="-8736" swAng="5408736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129760" y="-1791720"/>
                <a:ext cx="978480" cy="5569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2" y="21600"/>
                    </a:moveTo>
                    <a:arcTo wR="10800" hR="10800" stAng="5412169" swAng="538783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2" y="21600"/>
                    </a:moveTo>
                    <a:arcTo wR="10800" hR="10800" stAng="5412169" swAng="5387831"/>
                  </a:path>
                </a:pathLst>
              </a:custGeom>
              <a:noFill/>
              <a:ln cap="rnd" w="12600">
                <a:solidFill>
                  <a:srgbClr val="ff99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252" name=""/>
                <p:cNvSpPr txBox="1"/>
                <p:nvPr/>
              </p:nvSpPr>
              <p:spPr>
                <a:xfrm>
                  <a:off x="2786040" y="3862440"/>
                  <a:ext cx="1900440" cy="55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limLow>
                        <m:e>
                          <m:r>
                            <m:rPr>
                              <m:lit/>
                              <m:nor/>
                            </m:rPr>
                            <m:t xml:space="preserve">lim</m:t>
                          </m:r>
                        </m:e>
                        <m:lim>
                          <m:r>
                            <m:t xml:space="preserve">x</m:t>
                          </m:r>
                          <m:r>
                            <m:t xml:space="preserve">→</m:t>
                          </m:r>
                          <m:sSup>
                            <m:e>
                              <m:r>
                                <m:t xml:space="preserve">a</m:t>
                              </m:r>
                            </m:e>
                            <m:sup>
                              <m:r>
                                <m:t xml:space="preserve">+</m:t>
                              </m:r>
                            </m:sup>
                          </m:sSup>
                        </m:lim>
                      </m:limLow>
                      <m:r>
                        <m:t xml:space="preserve">f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rPr>
                          <m:lit/>
                          <m:nor/>
                        </m:rPr>
                        <m:t xml:space="preserve">=+</m:t>
                      </m:r>
                      <m:r>
                        <m:t xml:space="preserve">∞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1523880" y="5867280"/>
                <a:ext cx="335448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ε</m:t>
                        </m:r>
                        <m:r>
                          <m:t xml:space="preserve">→</m:t>
                        </m:r>
                        <m:sSup>
                          <m:e>
                            <m:r>
                              <m:t xml:space="preserve">0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</m:lim>
                    </m:limLow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95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 tiende a cero cuando   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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Times New Roman"/>
              </a:rPr>
              <a:t>0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, luego                    no converge.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3657600" y="304920"/>
                <a:ext cx="251136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457200" y="5378400"/>
                <a:ext cx="5640480" cy="178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53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67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1065240" y="7134120"/>
                <a:ext cx="1677960" cy="94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2895480" y="7923240"/>
                <a:ext cx="15256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2062080" y="1420920"/>
                <a:ext cx="4491000" cy="17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05187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228600" y="3635280"/>
                <a:ext cx="659772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π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r>
                                  <m:t xml:space="preserve">−</m:t>
                                </m:r>
                                <m:r>
                                  <m:t xml:space="preserve">0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.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01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0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0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t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e>
                                </m:d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6665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285840" y="812880"/>
            <a:ext cx="640080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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0.0001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y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3505320" y="228600"/>
                <a:ext cx="2800080" cy="110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554040" y="2060640"/>
                <a:ext cx="536904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1023840" y="3581280"/>
                <a:ext cx="4981680" cy="137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f>
                          <m:num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5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ad>
                                      <m:radPr>
                                        <m:degHide m:val="1"/>
                                      </m:radPr>
                                      <m:deg/>
                                      <m:e>
                                        <m:r>
                                          <m:t xml:space="preserve">0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.</m:t>
                                        </m:r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005</m:t>
                                        </m:r>
                                        <m:r>
                                          <m:t xml:space="preserve">(</m:t>
                                        </m:r>
                                        <m:sSub>
                                          <m:e>
                                            <m:r>
                                              <m:t xml:space="preserve">t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  <m:r>
                                          <m:t xml:space="preserve">1</m:t>
                                        </m:r>
                                        <m:r>
                                          <m:t xml:space="preserve">)</m:t>
                                        </m:r>
                                      </m:e>
                                    </m:rad>
                                  </m:den>
                                </m:f>
                              </m:e>
                            </m:nary>
                          </m:e>
                        </m:d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416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7" name=""/>
              <p:cNvSpPr txBox="1"/>
              <p:nvPr/>
            </p:nvSpPr>
            <p:spPr>
              <a:xfrm>
                <a:off x="914400" y="5672160"/>
                <a:ext cx="476424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x</m:t>
                                    </m:r>
                                  </m:e>
                                </m:rad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8416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838080" y="7385040"/>
                <a:ext cx="55990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18416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9984616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0577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. Impropias </a:t>
            </a:r>
            <a:r>
              <a:rPr b="1" lang="en-US" sz="4800" spc="-1" strike="noStrike">
                <a:solidFill>
                  <a:srgbClr val="336699"/>
                </a:solidFill>
                <a:latin typeface="Symbol"/>
                <a:ea typeface="Symbol"/>
              </a:rPr>
              <a:t>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I.Propia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743040" y="1295280"/>
            <a:ext cx="5829120" cy="774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arrollo por seri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4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8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iminación de la singularidad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800280" y="1905120"/>
                <a:ext cx="541152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n</m:t>
                                </m:r>
                              </m:sup>
                            </m:sSup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n</m:t>
                        </m:r>
                        <m:r>
                          <m:t xml:space="preserve">≥</m:t>
                        </m:r>
                        <m:r>
                          <m:t xml:space="preserve">2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/>
                    </m:eqArr>
                    <m:r>
                      <m:t xml:space="preserve"></m:t>
                    </m:r>
                    <m:r>
                      <m:t xml:space="preserve">⇒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n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t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"/>
              <p:cNvSpPr txBox="1"/>
              <p:nvPr/>
            </p:nvSpPr>
            <p:spPr>
              <a:xfrm>
                <a:off x="533520" y="3962520"/>
                <a:ext cx="6019560" cy="23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→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x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f>
                                  <m:num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3" name=""/>
              <p:cNvSpPr txBox="1"/>
              <p:nvPr/>
            </p:nvSpPr>
            <p:spPr>
              <a:xfrm>
                <a:off x="1828800" y="7343640"/>
                <a:ext cx="325296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          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t</m:t>
                            </m:r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812880"/>
            <a:ext cx="6305760" cy="939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52480" y="2641680"/>
            <a:ext cx="4648320" cy="551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infinitas convergentes y  divergentes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s de aproximación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6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66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Infinitas: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Métodos de Aproximació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62672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es sobre intervalos no acotados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,     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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-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+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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3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nvergencia </a:t>
            </a:r>
            <a:r>
              <a:rPr b="0" lang="en-US" sz="2800" spc="-1" strike="noStrike">
                <a:solidFill>
                  <a:srgbClr val="000080"/>
                </a:solidFill>
                <a:latin typeface="Symbol"/>
                <a:ea typeface="Symbol"/>
              </a:rPr>
              <a:t>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xiste el límite y es un número real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1905120" y="2362320"/>
                <a:ext cx="32860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b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a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∞</m:t>
                                </m:r>
                              </m:lim>
                            </m:limLow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380880" y="4952880"/>
            <a:ext cx="600084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scomposición en suma de integrale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sulta conveniente doblar el intervalo en cada iteración: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r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2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0" name=""/>
              <p:cNvSpPr txBox="1"/>
              <p:nvPr/>
            </p:nvSpPr>
            <p:spPr>
              <a:xfrm>
                <a:off x="973080" y="5943600"/>
                <a:ext cx="4665600" cy="193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…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⋯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 I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TOL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57200" y="3886200"/>
          <a:ext cx="5715000" cy="4722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86200"/>
                    <a:ext cx="571500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457200" y="3733920"/>
            <a:ext cx="5715000" cy="465768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343560" cy="741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819440" y="1735200"/>
                <a:ext cx="3387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 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457200" y="3733920"/>
            <a:ext cx="5715000" cy="68580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3733920"/>
            <a:ext cx="3024360" cy="4647960"/>
          </a:xfrm>
          <a:prstGeom prst="rect">
            <a:avLst/>
          </a:prstGeom>
          <a:noFill/>
          <a:ln w="1260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3733920" y="380880"/>
                <a:ext cx="23176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2971800" y="281952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228240" y="609480"/>
            <a:ext cx="6458040" cy="78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de variab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epende de la función a integrar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cambio         transforma el intervalo                                  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                 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6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cuadratura de Gauss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=5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2590920" y="1600200"/>
                <a:ext cx="71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1066680" y="2133720"/>
                <a:ext cx="175284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+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657600" y="2133720"/>
                <a:ext cx="165744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t</m:t>
                    </m:r>
                    <m:r>
                      <m:t xml:space="preserve">≤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297240" y="3048120"/>
                <a:ext cx="2494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43080" y="4968720"/>
                <a:ext cx="6375240" cy="242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x</m:t>
                                </m:r>
                              </m:e>
                            </m:rad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r>
                                  <m:t xml:space="preserve">t</m:t>
                                </m:r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og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ra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≈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00319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3273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62649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624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1795320" y="4086360"/>
                <a:ext cx="3554640" cy="94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t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3276720" y="228600"/>
            <a:ext cx="3124080" cy="11430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/>
          </p:nvPr>
        </p:nvSpPr>
        <p:spPr>
          <a:xfrm>
            <a:off x="228240" y="812880"/>
            <a:ext cx="6458040" cy="731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JEMP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mbio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lnSpc>
                <a:spcPct val="7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ndo Romberg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3836880" y="484200"/>
                <a:ext cx="2030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2068560" y="1916280"/>
                <a:ext cx="3890880" cy="98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t</m:t>
                            </m:r>
                          </m:e>
                        </m:rad>
                      </m:den>
                    </m:f>
                    <m:r>
                      <m:rPr>
                        <m:lit/>
                        <m:nor/>
                      </m:rPr>
                      <m:t xml:space="preserve">       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t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34800" y="3257640"/>
                <a:ext cx="6069240" cy="483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3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d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</m:e>
                      <m:e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e</m:t>
                                    </m:r>
                                  </m:e>
                                  <m:sup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  <m:r>
                                      <m:t xml:space="preserve">t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5</m:t>
                                    </m:r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t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limUpp>
                          <m:e>
                            <m:r>
                              <m:t xml:space="preserve">→</m:t>
                            </m:r>
                          </m:e>
                          <m:lim>
                            <m:r>
                              <m:t xml:space="preserve">t</m:t>
                            </m:r>
                            <m:r>
                              <m:t xml:space="preserve">→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Upp>
                        <m:r>
                          <m:t xml:space="preserve">0</m:t>
                        </m:r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5364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284560" y="30456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Indefinid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42640" y="281952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l definida sobre un rango variable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 algn="just">
              <a:lnSpc>
                <a:spcPct val="1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ubdividir el intervalo de integración y aplicar cuadratura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4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lución del problema de valor inicial asociad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"/>
              <p:cNvSpPr txBox="1"/>
              <p:nvPr/>
            </p:nvSpPr>
            <p:spPr>
              <a:xfrm>
                <a:off x="838080" y="1814400"/>
                <a:ext cx="547704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6" name=""/>
              <p:cNvSpPr txBox="1"/>
              <p:nvPr/>
            </p:nvSpPr>
            <p:spPr>
              <a:xfrm>
                <a:off x="1724040" y="7372440"/>
                <a:ext cx="36226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,       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380880" y="2057040"/>
            <a:ext cx="6058080" cy="708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tición del intervalo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,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a=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...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&lt;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b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...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-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,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   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odo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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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Symbol"/>
                <a:ea typeface="Symbol"/>
              </a:rPr>
              <a:t>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2,,...,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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 baseline="-25000">
                <a:solidFill>
                  <a:srgbClr val="00008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o pes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rror de integración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Grado de precisión: mayo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 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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r>
              <a:rPr b="0" lang="en-US" sz="26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k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=0,  k=0,1,...,m 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 algn="ctr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E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x</a:t>
            </a:r>
            <a:r>
              <a:rPr b="0" i="1" lang="en-US" sz="3000" spc="-1" strike="noStrike" baseline="30000">
                <a:solidFill>
                  <a:srgbClr val="010000"/>
                </a:solidFill>
                <a:latin typeface="Times New Roman"/>
              </a:rPr>
              <a:t>m+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)</a:t>
            </a:r>
            <a:r>
              <a:rPr b="0" i="1" lang="en-US" sz="3000" spc="-1" strike="noStrike">
                <a:solidFill>
                  <a:srgbClr val="010000"/>
                </a:solidFill>
                <a:latin typeface="Symbol"/>
                <a:ea typeface="Symbol"/>
              </a:rPr>
              <a:t>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0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330120"/>
            <a:ext cx="5333760" cy="81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os genera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1828800" y="990720"/>
                <a:ext cx="3276720" cy="94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1905120" y="4267080"/>
                <a:ext cx="326052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1981080" y="5943600"/>
                <a:ext cx="28958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rcici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35240" y="2082960"/>
            <a:ext cx="5140080" cy="660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úlese la función error como la integral de la función de distribución gaussiana de 0 a x: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y como solución del problema de valor inicial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1913040" y="3878280"/>
                <a:ext cx="41180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057400" y="6400800"/>
                <a:ext cx="3954600" cy="110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π</m:t>
                            </m:r>
                          </m:e>
                        </m:rad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        </m:t>
                    </m:r>
                    <m:r>
                      <m:t xml:space="preserve">y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86080" y="2336760"/>
            <a:ext cx="4533840" cy="482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cintos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ntegración múltiple sobre regiones no rectang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lgoritmo de Integración Múltipl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6627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o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240" y="3276360"/>
            <a:ext cx="645804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la Regla de Simpson a  la integral                     considerando x como parámetro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5" name=""/>
              <p:cNvSpPr txBox="1"/>
              <p:nvPr/>
            </p:nvSpPr>
            <p:spPr>
              <a:xfrm>
                <a:off x="838080" y="2133720"/>
                <a:ext cx="551196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∬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6" name=""/>
              <p:cNvSpPr txBox="1"/>
              <p:nvPr/>
            </p:nvSpPr>
            <p:spPr>
              <a:xfrm>
                <a:off x="2209680" y="3657600"/>
                <a:ext cx="16909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685800" y="4896000"/>
                <a:ext cx="5610240" cy="295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  <m:r>
                                  <m:t xml:space="preserve">+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η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653436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mos Simpson a cada una de estas integrales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685800" y="1295280"/>
                <a:ext cx="5322960" cy="18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f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,</m:t>
                                </m:r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2243160" y="3124080"/>
                <a:ext cx="263376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80</m:t>
                        </m:r>
                      </m:den>
                    </m:f>
                    <m:sSup>
                      <m:e>
                        <m:r>
                          <m:t xml:space="preserve">h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f>
                      <m:num>
                        <m:sSup>
                          <m:e>
                            <m:r>
                              <m:t xml:space="preserve">∂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91960" y="4191120"/>
                <a:ext cx="6010560" cy="452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e>
                            </m:nary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hk</m:t>
                            </m:r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  <m:r>
                          <m:t xml:space="preserve">[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n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</m:e>
                        </m:nary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0,2</m:t>
                                </m:r>
                                <m:r>
                                  <m:t xml:space="preserve">j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8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i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,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  <m:e>
                                <m:sSub>
                                  <m:e>
                                    <m:r>
                                      <m:t xml:space="preserve">f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n</m:t>
                                    </m:r>
                                    <m:r>
                                      <m:t xml:space="preserve">,</m:t>
                                    </m:r>
                                    <m:r>
                                      <m:t xml:space="preserve">2</m:t>
                                    </m:r>
                                    <m:r>
                                      <m:t xml:space="preserve">j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e>
                            </m:nary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,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r>
                          <m:t xml:space="preserve">4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,2</m:t>
                                </m:r>
                                <m:r>
                                  <m:t xml:space="preserve">m</m:t>
                                </m:r>
                              </m:sub>
                            </m:sSub>
                          </m:e>
                        </m:nary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  <m:r>
                              <m:t xml:space="preserve">,</m:t>
                            </m:r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sub>
                        </m:sSub>
                        <m:r>
                          <m:t xml:space="preserve">]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228240" y="533160"/>
            <a:ext cx="6286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xpresión del error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380880" y="1143000"/>
                <a:ext cx="6326280" cy="14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E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(</m:t>
                            </m:r>
                            <m:r>
                              <m:t xml:space="preserve">d</m:t>
                            </m:r>
                            <m:r>
                              <m:t xml:space="preserve">−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k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f>
                              <m:num>
                                <m:sSup>
                                  <m:e>
                                    <m:r>
                                      <m:t xml:space="preserve">∂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  <m:r>
                                  <m:t xml:space="preserve">f</m:t>
                                </m:r>
                              </m:num>
                              <m:den>
                                <m:r>
                                  <m:t xml:space="preserve">∂</m:t>
                                </m:r>
                                <m:sSup>
                                  <m:e>
                                    <m:r>
                                      <m:t xml:space="preserve">y</m:t>
                                    </m:r>
                                  </m:e>
                                  <m:sup>
                                    <m:r>
                                      <m:t xml:space="preserve">4</m:t>
                                    </m:r>
                                  </m:sup>
                                </m:sSup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μ</m:t>
                                    </m:r>
                                  </m:e>
                                </m:acc>
                                <m:r>
                                  <m:t xml:space="preserve">,</m:t>
                                </m:r>
                                <m:acc>
                                  <m:accPr>
                                    <m:chr m:val="^"/>
                                  </m:accPr>
                                  <m:e>
                                    <m:r>
                                      <m:t xml:space="preserve">η</m:t>
                                    </m:r>
                                  </m:e>
                                </m:acc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,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μ</m:t>
                                </m:r>
                              </m:e>
                            </m:acc>
                            <m:r>
                              <m:t xml:space="preserve">,</m:t>
                            </m:r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η</m:t>
                                </m:r>
                              </m:e>
                            </m:acc>
                          </m:e>
                        </m:d>
                        <m:r>
                          <m:t xml:space="preserve">∈</m:t>
                        </m:r>
                        <m:r>
                          <m:t xml:space="preserve">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152280" y="2666880"/>
            <a:ext cx="645804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oeficientes de la fórmula de cuadratura: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5" name=""/>
              <p:cNvSpPr txBox="1"/>
              <p:nvPr/>
            </p:nvSpPr>
            <p:spPr>
              <a:xfrm>
                <a:off x="1447920" y="7315200"/>
                <a:ext cx="3598920" cy="173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ih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</m:e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0,1,2</m:t>
                        </m:r>
                        <m:r>
                          <m:t xml:space="preserve">,</m:t>
                        </m:r>
                        <m:r>
                          <m:t xml:space="preserve">…</m:t>
                        </m:r>
                        <m:r>
                          <m:t xml:space="preserve">,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n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          </m:t>
                        </m:r>
                        <m:r>
                          <m:t xml:space="preserve">k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c</m:t>
                            </m:r>
                            <m:r>
                              <m:t xml:space="preserve">−</m:t>
                            </m:r>
                            <m:r>
                              <m:t xml:space="preserve">d</m:t>
                            </m:r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m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26" name=""/>
          <p:cNvGrpSpPr/>
          <p:nvPr/>
        </p:nvGrpSpPr>
        <p:grpSpPr>
          <a:xfrm>
            <a:off x="76320" y="3200400"/>
            <a:ext cx="6933960" cy="3975840"/>
            <a:chOff x="76320" y="3200400"/>
            <a:chExt cx="6933960" cy="3975840"/>
          </a:xfrm>
        </p:grpSpPr>
        <p:sp>
          <p:nvSpPr>
            <p:cNvPr id="327" name=""/>
            <p:cNvSpPr/>
            <p:nvPr/>
          </p:nvSpPr>
          <p:spPr>
            <a:xfrm>
              <a:off x="5867280" y="6438960"/>
              <a:ext cx="1143000" cy="5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000"/>
                  </a:solidFill>
                  <a:latin typeface="Times New Roman"/>
                </a:rPr>
                <a:t>b=x</a:t>
              </a:r>
              <a:r>
                <a:rPr b="0" lang="en-US" sz="2400" spc="-1" strike="noStrike" baseline="-25000">
                  <a:solidFill>
                    <a:srgbClr val="010000"/>
                  </a:solidFill>
                  <a:latin typeface="Times New Roman"/>
                </a:rPr>
                <a:t>2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76320" y="3282840"/>
              <a:ext cx="6324480" cy="3893400"/>
              <a:chOff x="76320" y="3282840"/>
              <a:chExt cx="6324480" cy="3893400"/>
            </a:xfrm>
          </p:grpSpPr>
          <p:sp>
            <p:nvSpPr>
              <p:cNvPr id="329" name=""/>
              <p:cNvSpPr/>
              <p:nvPr/>
            </p:nvSpPr>
            <p:spPr>
              <a:xfrm>
                <a:off x="979560" y="3448080"/>
                <a:ext cx="4929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979560" y="3448080"/>
                <a:ext cx="4929120" cy="49536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979560" y="3943440"/>
                <a:ext cx="4929120" cy="140328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979560" y="5346720"/>
                <a:ext cx="4929120" cy="66060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979560" y="3448080"/>
                <a:ext cx="4935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473120" y="3448080"/>
                <a:ext cx="49212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4016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332320" y="3448080"/>
                <a:ext cx="57636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675320" y="3448080"/>
                <a:ext cx="657000" cy="3137040"/>
              </a:xfrm>
              <a:prstGeom prst="rect">
                <a:avLst/>
              </a:prstGeom>
              <a:noFill/>
              <a:ln w="12600">
                <a:solidFill>
                  <a:srgbClr val="01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27280" y="6997680"/>
                <a:ext cx="901800" cy="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50880" y="4357800"/>
                <a:ext cx="0" cy="824040"/>
              </a:xfrm>
              <a:prstGeom prst="line">
                <a:avLst/>
              </a:prstGeom>
              <a:ln w="12600">
                <a:solidFill>
                  <a:srgbClr val="01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76320" y="3282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d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239760" y="3695760"/>
                <a:ext cx="123336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m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7440" y="501660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87440" y="56768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58760" y="625464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c=y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874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a=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0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30824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80180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7636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0337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4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51152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168880" y="6667560"/>
                <a:ext cx="1231920" cy="50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10000"/>
                    </a:solidFill>
                    <a:latin typeface="Times New Roman"/>
                  </a:rPr>
                  <a:t>x</a:t>
                </a:r>
                <a:r>
                  <a:rPr b="0" lang="en-US" sz="2400" spc="-1" strike="noStrike" baseline="-25000">
                    <a:solidFill>
                      <a:srgbClr val="010000"/>
                    </a:solidFill>
                    <a:latin typeface="Times New Roman"/>
                  </a:rPr>
                  <a:t>2n-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352" name=""/>
            <p:cNvSpPr/>
            <p:nvPr/>
          </p:nvSpPr>
          <p:spPr>
            <a:xfrm>
              <a:off x="896760" y="3200400"/>
              <a:ext cx="198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967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90868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96524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19716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67532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6524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19716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67532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743440" y="320040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473120" y="63374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40160" y="63374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332320" y="63374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540160" y="320040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731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51320" y="32004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967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0868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96524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1971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7532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967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08680" y="377820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4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90868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65240" y="57596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197160" y="57596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675320" y="57596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965240" y="369576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97160" y="369576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675320" y="369576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33232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5132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45736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390680" y="575964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5132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45736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390680" y="3695760"/>
              <a:ext cx="6573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96760" y="5099040"/>
              <a:ext cx="493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40160" y="5099040"/>
              <a:ext cx="49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473120" y="5099040"/>
              <a:ext cx="4921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cc"/>
                  </a:solidFill>
                  <a:latin typeface="Times New Roman"/>
                </a:rPr>
                <a:t>8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838080" y="228600"/>
            <a:ext cx="51818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just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ción Múltiple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bre recintos no rectangular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66680" y="304776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h=(b-a)/2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      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k=k(x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4" name=""/>
              <p:cNvSpPr txBox="1"/>
              <p:nvPr/>
            </p:nvSpPr>
            <p:spPr>
              <a:xfrm>
                <a:off x="711360" y="2133720"/>
                <a:ext cx="541944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      </m:t>
                            </m:r>
                          </m:e>
                        </m:nary>
                      </m:e>
                    </m:nary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dy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380880" y="3886200"/>
                <a:ext cx="6019920" cy="44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y</m:t>
                                </m:r>
                                <m:r>
                                  <m:t xml:space="preserve">)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ydx</m:t>
                                </m:r>
                                <m:r>
                                  <m:t xml:space="preserve">≈</m:t>
                                </m:r>
                              </m:e>
                            </m:nary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d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]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{"/>
                            <m:endChr m:val="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r>
                              <m:t xml:space="preserve">[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c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k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h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,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h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+</m:t>
                        </m:r>
                      </m:e>
                      <m:e>
                        <m:r>
                          <m:t xml:space="preserve">+</m:t>
                        </m:r>
                        <m:d>
                          <m:dPr>
                            <m:begChr m:val=""/>
                            <m:endChr m:val="}"/>
                          </m:dPr>
                          <m:e>
                            <m:f>
                              <m:num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c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,</m:t>
                                </m:r>
                                <m:r>
                                  <m:t xml:space="preserve">d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4560" y="75960"/>
            <a:ext cx="65516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goritmo de la 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 múlti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80880" y="2437920"/>
            <a:ext cx="6305760" cy="632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rada: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,y), c(x), d(x),  a, b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m, 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39480" indent="-339480">
              <a:spcBef>
                <a:spcPts val="75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alida: aproxima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1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dividir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2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2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 cada no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4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valuar la función</a:t>
            </a:r>
            <a:r>
              <a:rPr b="0" lang="en-US" sz="32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80"/>
              </a:solidFill>
              <a:latin typeface="Times New Roman"/>
            </a:endParaRPr>
          </a:p>
          <a:p>
            <a:pPr lvl="2" marL="1131480" indent="-226080">
              <a:spcBef>
                <a:spcPts val="751"/>
              </a:spcBef>
              <a:buClr>
                <a:srgbClr val="ff9966"/>
              </a:buClr>
              <a:buSzPct val="64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r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(d(xi )-c(xi ))/(2m)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3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aplicar la regla compuesta de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y</a:t>
            </a:r>
            <a:endParaRPr b="0" lang="en-US" sz="3000" spc="-1" strike="noStrike">
              <a:solidFill>
                <a:srgbClr val="000080"/>
              </a:solidFill>
              <a:latin typeface="Times New Roman"/>
            </a:endParaRPr>
          </a:p>
          <a:p>
            <a:pPr lvl="1" marL="735480" indent="-282960" algn="just">
              <a:spcBef>
                <a:spcPts val="8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ASO 4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obre el resultado obtenido del PASO 3 aplicar Simpson respecto a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la variabl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lang="en-US" sz="3000" spc="-1" strike="noStrike">
                <a:solidFill>
                  <a:srgbClr val="000080"/>
                </a:solidFill>
                <a:latin typeface="Math1"/>
                <a:ea typeface="Math1"/>
              </a:rPr>
              <a:t></a:t>
            </a:r>
            <a:r>
              <a:rPr b="0" lang="en-US" sz="30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i="1" lang="en-US" sz="34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34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1905120" y="1390680"/>
                <a:ext cx="350496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d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sos Particulare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Método de Monte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594216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grales de Contorn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6880" y="2006280"/>
            <a:ext cx="5713560" cy="553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Llamamos integral de contorno a una integral de la forma: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end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una curva en el plan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Y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 C está parametrizada, es posible transformar una integral de contorno en una integral ordinaria de una variable.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819000" y="3200400"/>
                <a:ext cx="5505480" cy="157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,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</m:nary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s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5943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étodo de Monte Car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440" y="1676160"/>
            <a:ext cx="5467320" cy="69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l valor medio de la funció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f(x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n el intervalo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[a,b]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es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ean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1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2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, …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puntos cualesquiera en [a,b], resulta previsible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uando los valores de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1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son aleatorios, éste método es conocido como Método de Monte Carl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1828800" y="2743200"/>
                <a:ext cx="320040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  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7" name=""/>
              <p:cNvSpPr txBox="1"/>
              <p:nvPr/>
            </p:nvSpPr>
            <p:spPr>
              <a:xfrm>
                <a:off x="1125360" y="5334120"/>
                <a:ext cx="5123160" cy="112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f</m:t>
                            </m:r>
                          </m:e>
                        </m:acc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≈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14640" y="137124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Newton-Cot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2640" y="3352680"/>
            <a:ext cx="53910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cerrad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s de cuadratura abierta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Trapecios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Fórmula de Simpson para N subintervalos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3961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6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jemplo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228600" y="3733920"/>
          <a:ext cx="6319800" cy="479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733920"/>
                    <a:ext cx="6319800" cy="479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1" name=""/>
          <p:cNvSpPr/>
          <p:nvPr/>
        </p:nvSpPr>
        <p:spPr>
          <a:xfrm>
            <a:off x="838080" y="3733920"/>
            <a:ext cx="571500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3733920"/>
            <a:ext cx="5715000" cy="83808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3733920"/>
            <a:ext cx="7621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00200" y="3733920"/>
            <a:ext cx="83808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438280" y="3733920"/>
            <a:ext cx="2133720" cy="46479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04920" y="1600200"/>
            <a:ext cx="5943600" cy="13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Calculamos el perímetro de elipses de distintas excentricidades utilizando en todos los casos 60 puntos.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43040" y="812520"/>
            <a:ext cx="6114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cerrad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2361960"/>
            <a:ext cx="6458040" cy="70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jh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,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j=0,...,n h=(b-a)/(n+2)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. 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54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" y="4317840"/>
                <a:ext cx="566748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914400" y="6756480"/>
                <a:ext cx="542304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71320" y="457200"/>
            <a:ext cx="5600520" cy="830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Trapec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6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 Simpson 3/8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41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4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Newton-Cotes (5 puntos)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88840" y="914400"/>
                <a:ext cx="4275360" cy="16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750960" y="2819520"/>
                <a:ext cx="512424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68280" y="6934320"/>
                <a:ext cx="6064200" cy="14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r>
                          <m:t xml:space="preserve">[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7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8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9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69800" y="4849920"/>
                <a:ext cx="6373800" cy="16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80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57080" y="406080"/>
            <a:ext cx="49719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órmulas de cuadratura abierta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1828440"/>
            <a:ext cx="6743520" cy="60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Dado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+1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puntos equiespaciados de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[a,b],  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j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=a+(j+1)h, j=0,...,n  h=(b-a)/(n+2)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ntonces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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h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]a,b [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tal que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30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2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400"/>
            </a:br>
            <a:r>
              <a:rPr b="0" i="1" lang="en-U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0">
              <a:lnSpc>
                <a:spcPct val="3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lvl="1" marL="743040" indent="-285840">
              <a:lnSpc>
                <a:spcPct val="70000"/>
              </a:lnSpc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Si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es impar y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f </a:t>
            </a:r>
            <a:r>
              <a:rPr b="0" i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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C</a:t>
            </a:r>
            <a:r>
              <a:rPr b="0" i="1" lang="en-US" sz="2800" spc="-1" strike="noStrike" baseline="30000">
                <a:solidFill>
                  <a:srgbClr val="010000"/>
                </a:solidFill>
                <a:latin typeface="Times New Roman"/>
              </a:rPr>
              <a:t>n+1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[a,b], s=(x-x</a:t>
            </a:r>
            <a:r>
              <a:rPr b="0" i="1" lang="en-US" sz="2800" spc="-1" strike="noStrike" baseline="-25000">
                <a:solidFill>
                  <a:srgbClr val="010000"/>
                </a:solidFill>
                <a:latin typeface="Times New Roman"/>
              </a:rPr>
              <a:t>0</a:t>
            </a: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)/h</a:t>
            </a:r>
            <a:br>
              <a:rPr sz="2800"/>
            </a:b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30080" y="4317840"/>
                <a:ext cx="5815080" cy="182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728640" y="6908760"/>
                <a:ext cx="5950080" cy="182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β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!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n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s</m:t>
                            </m:r>
                            <m:r>
                              <m:t xml:space="preserve">(</m:t>
                            </m:r>
                            <m:r>
                              <m:t xml:space="preserve">s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  <m:r>
                              <m:t xml:space="preserve">⋯</m:t>
                            </m:r>
                          </m:e>
                        </m:nary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−</m:t>
                        </m:r>
                        <m:r>
                          <m:t xml:space="preserve">n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4640" y="812520"/>
            <a:ext cx="4572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609120"/>
            <a:ext cx="6057720" cy="772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0</a:t>
            </a: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Regla del Punto Medio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29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1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2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0">
              <a:lnSpc>
                <a:spcPct val="2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10000"/>
                </a:solidFill>
                <a:latin typeface="Times New Roman"/>
              </a:rPr>
              <a:t>n=3</a:t>
            </a:r>
            <a:endParaRPr b="0" lang="en-US" sz="2800" spc="-1" strike="noStrike">
              <a:solidFill>
                <a:srgbClr val="00008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38080" y="1905120"/>
                <a:ext cx="56293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'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η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    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r>
                      <m:t xml:space="preserve">η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85800" y="3152880"/>
                <a:ext cx="5811840" cy="12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3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3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i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28600" y="6985080"/>
                <a:ext cx="66470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5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4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95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44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647640" y="4952880"/>
                <a:ext cx="5448240" cy="167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f>
                          <m:num>
                            <m:r>
                              <m:t xml:space="preserve">4</m:t>
                            </m:r>
                            <m:r>
                              <m:t xml:space="preserve">h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5</m:t>
                                </m:r>
                              </m:sup>
                            </m:sSup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45</m:t>
                            </m:r>
                          </m:den>
                        </m:f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v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η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       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η</m:t>
                        </m:r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04T17:10:36Z</dcterms:created>
  <dc:creator>Alicia Cordero Barbero</dc:creator>
  <dc:description/>
  <dc:language>en-US</dc:language>
  <cp:lastModifiedBy>Hugo</cp:lastModifiedBy>
  <cp:lastPrinted>1999-02-25T17:44:44Z</cp:lastPrinted>
  <dcterms:modified xsi:type="dcterms:W3CDTF">2007-09-06T01:23:09Z</dcterms:modified>
  <cp:revision>60</cp:revision>
  <dc:subject/>
  <dc:title>Integración Numérica</dc:title>
</cp:coreProperties>
</file>