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ED9-DDD9-4ECE-8966-A5278EE0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C71-F448-4B46-9625-D8053EA5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DE67-351D-44A2-A6FD-A9FAB148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08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0668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146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08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20668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F73B-892A-4167-8454-B6D994DF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D9C7-57DE-4766-AA0E-E11D183D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929C-8351-4EA6-93FD-4BB571AC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3E3E-B938-48DC-8F4D-A1B69EDA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1823-8DFE-4EB2-9BC6-1252FA5F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0787-38D6-40ED-AD5D-21960D96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14640" y="812520"/>
            <a:ext cx="45720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4AA6-C78F-49CD-95BC-354037B6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8761-1EB9-4E81-8F1E-878DF07C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3EE9-55E0-4CE5-AABE-2159DE24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E40A-987B-4832-9D5E-1CB594FD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0C83-590E-4CA3-92A5-79F009DF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A32E-9919-48B9-8AE9-BAF538C0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E4F5-028C-4337-A68B-34BC5E09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608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0668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1146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608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20668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3DC1-F262-4E81-8C6A-B27091D6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F95-66E5-417B-869E-1F35407D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B12-3FB1-45DF-A49E-48E56B87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FC26-AA75-472D-A240-DB759458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14640" y="812520"/>
            <a:ext cx="45720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317-54D6-48F0-9079-19B1B7CD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1E2-6082-48D0-9B70-9E8B5FFE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A1D-4586-4767-8ABF-C5FDFE25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676-7078-40F9-892A-EBB12627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171520" y="1125360"/>
            <a:ext cx="4343040" cy="1604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085760" indent="-217080"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3" marL="1519920" indent="-217080"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4" marL="1954440" indent="-217080">
              <a:spcBef>
                <a:spcPts val="700"/>
              </a:spcBef>
              <a:buClr>
                <a:srgbClr val="ff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5" marL="1954440" indent="-217080">
              <a:spcBef>
                <a:spcPts val="700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6" marL="1954440" indent="-217080">
              <a:spcBef>
                <a:spcPts val="700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856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257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2F6A-E02C-499D-BD2E-5DD2457086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0" y="4614840"/>
            <a:ext cx="6859800" cy="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171520" y="1125360"/>
            <a:ext cx="4343040" cy="1604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86040" y="2398320"/>
            <a:ext cx="4798800" cy="20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282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6856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5257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C2F2-1848-48E4-8029-71A94FABE7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ff9966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86040" y="3211560"/>
            <a:ext cx="4798800" cy="20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Numéric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28560" y="812520"/>
            <a:ext cx="6229440" cy="711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órmula de Trapecios par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10000"/>
                </a:solidFill>
                <a:latin typeface="Times New Roman"/>
              </a:rPr>
              <a:t>h=(b-a)/N,     x</a:t>
            </a:r>
            <a:r>
              <a:rPr b="0" i="1" lang="en-US" sz="2600" spc="-1" strike="noStrike" baseline="-25000">
                <a:solidFill>
                  <a:srgbClr val="010000"/>
                </a:solidFill>
                <a:latin typeface="Times New Roman"/>
              </a:rPr>
              <a:t>k</a:t>
            </a:r>
            <a:r>
              <a:rPr b="0" i="1" lang="en-US" sz="2600" spc="-1" strike="noStrike">
                <a:solidFill>
                  <a:srgbClr val="010000"/>
                </a:solidFill>
                <a:latin typeface="Times New Roman"/>
              </a:rPr>
              <a:t>=a+kh      k=0,1,2,...,N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órmula de Simpson par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10000"/>
                </a:solidFill>
                <a:latin typeface="Times New Roman"/>
              </a:rPr>
              <a:t>h=(b-a)/(2m),   x</a:t>
            </a:r>
            <a:r>
              <a:rPr b="0" i="1" lang="en-US" sz="2600" spc="-1" strike="noStrike" baseline="-25000">
                <a:solidFill>
                  <a:srgbClr val="010000"/>
                </a:solidFill>
                <a:latin typeface="Times New Roman"/>
              </a:rPr>
              <a:t>k</a:t>
            </a:r>
            <a:r>
              <a:rPr b="0" i="1" lang="en-US" sz="2600" spc="-1" strike="noStrike">
                <a:solidFill>
                  <a:srgbClr val="010000"/>
                </a:solidFill>
                <a:latin typeface="Times New Roman"/>
              </a:rPr>
              <a:t>=a+kh   k=0,1,2,...,2m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42960" y="2819520"/>
                <a:ext cx="545292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09480" y="6546960"/>
                <a:ext cx="6131160" cy="18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  <m:e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56800" y="2793600"/>
            <a:ext cx="5829480" cy="589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rror de la Fórmula de Simps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4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trapolación de Richards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523880" y="3429000"/>
                <a:ext cx="3980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521000" y="5332320"/>
                <a:ext cx="3584520" cy="23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≃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h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  <m:e/>
                            </m:d>
                          </m:e>
                        </m:eqArr>
                      </m:e>
                    </m:eqAr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≃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h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]</m:t>
                    </m:r>
                    <m:r>
                      <m:t xml:space="preserve">I</m:t>
                    </m:r>
                    <m:r>
                      <m:t xml:space="preserve">≃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]</m:t>
                        </m:r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limLow>
                      <m:e>
                        <m:r>
                          <m:t xml:space="preserve">=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def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h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de Romber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0520" y="5334120"/>
            <a:ext cx="6172200" cy="28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presión general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rror de orde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2j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acta para polinomios de grad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2j-1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00360" y="5486400"/>
                <a:ext cx="32180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abla de Romber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1200240" y="2235240"/>
            <a:ext cx="5429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47760" y="2362320"/>
            <a:ext cx="6129360" cy="2933280"/>
            <a:chOff x="347760" y="2362320"/>
            <a:chExt cx="6129360" cy="2933280"/>
          </a:xfrm>
        </p:grpSpPr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347760" y="2362320"/>
                  <a:ext cx="6129360" cy="293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h</m:t>
                            </m:r>
                            <m:r>
                              <m:t xml:space="preserve">]</m:t>
                            </m:r>
                          </m:e>
                          <m:e/>
                          <m:e/>
                          <m:e/>
                        </m:mr>
                        <m:m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/>
                          <m:e/>
                        </m:mr>
                        <m:m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/>
                        </m:mr>
                        <m:m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</m:mr>
                        <m:mr>
                          <m:e>
                            <m:r>
                              <m:t xml:space="preserve">L</m:t>
                            </m:r>
                          </m:e>
                          <m:e>
                            <m:r>
                              <m:t xml:space="preserve">L</m:t>
                            </m:r>
                          </m:e>
                          <m:e>
                            <m:r>
                              <m:t xml:space="preserve">L</m:t>
                            </m:r>
                          </m:e>
                          <m:e>
                            <m:r>
                              <m:t xml:space="preserve">L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grpSp>
          <p:nvGrpSpPr>
            <p:cNvPr id="132" name=""/>
            <p:cNvGrpSpPr/>
            <p:nvPr/>
          </p:nvGrpSpPr>
          <p:grpSpPr>
            <a:xfrm>
              <a:off x="1569600" y="2716920"/>
              <a:ext cx="3724560" cy="1661760"/>
              <a:chOff x="1569600" y="2716920"/>
              <a:chExt cx="3724560" cy="1661760"/>
            </a:xfrm>
          </p:grpSpPr>
          <p:sp>
            <p:nvSpPr>
              <p:cNvPr id="133" name=""/>
              <p:cNvSpPr/>
              <p:nvPr/>
            </p:nvSpPr>
            <p:spPr>
              <a:xfrm>
                <a:off x="1569600" y="3267360"/>
                <a:ext cx="44820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69600" y="2716920"/>
                <a:ext cx="448200" cy="47160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569600" y="4378680"/>
                <a:ext cx="44820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69600" y="3823920"/>
                <a:ext cx="448200" cy="47592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69600" y="3822120"/>
                <a:ext cx="44820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69600" y="3269520"/>
                <a:ext cx="448200" cy="47556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75560" y="3822120"/>
                <a:ext cx="44856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75560" y="3269520"/>
                <a:ext cx="448560" cy="47556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45960" y="4378680"/>
                <a:ext cx="44820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845960" y="3823920"/>
                <a:ext cx="448200" cy="47592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75560" y="4378680"/>
                <a:ext cx="44856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175560" y="3823920"/>
                <a:ext cx="448560" cy="47592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02680"/>
            <a:ext cx="5410080" cy="101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goritmo ROMBER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472760"/>
            <a:ext cx="6305760" cy="660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atos de entrada: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a, b, n, t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roceso: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trucción de la tabla de Romber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k = 1, I(1,1) = trapecio(a,b,n)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Fila 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ientras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error &gt; t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k = k+1  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Fila k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I(k,1) = trapiter(a,b,2k-1n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ra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j = 2 : k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% Aplica el método de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Romber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I(k,j) = (4^(j -1)*I(k,j -1) - I(k -1,j -1)) /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    /(4^(j -1) -1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in par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error = abs(I(k,j) - I(k,j -1)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in mientr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136980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s de cuadratura con paso adaptativ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335232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étodos adaptativos de cuadratura: Regla compuesta de Simps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lgoritmo de cuadratura adaptativa implementado en MATLAB (quad.m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étodos adaptativo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4520" y="1218960"/>
            <a:ext cx="6400800" cy="22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Variaciones funcionales irregulares en el intervalo de integració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mbinamos la Regla compuesta de Simpson,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=(b-a)/2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con la Regla de Simpson par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m=2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de pas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/2=(b-a)/4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62120" y="3809880"/>
                <a:ext cx="516096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η</m:t>
                        </m:r>
                        <m:r>
                          <m:t xml:space="preserve">∈</m:t>
                        </m:r>
                        <m:r>
                          <m:t xml:space="preserve">]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[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80880" y="5640480"/>
                <a:ext cx="6386760" cy="27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</m:eqArr>
                    <m:r>
                      <m:t xml:space="preserve">∈</m:t>
                    </m:r>
                    <m:r>
                      <m:t xml:space="preserve">]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[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6400800" cy="88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stimación del error: si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ton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rá una buena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roximación a I.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otro caso, se aplica reiteradamente a los subinterval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(a+b)/2[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y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(a+b)/2,b[ (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oleranci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TOL/2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09480" y="1092240"/>
                <a:ext cx="558828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S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,</m:t>
                                    </m:r>
                                    <m:f>
                                      <m:num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S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,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886200" y="380880"/>
                <a:ext cx="2438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981080" y="4106880"/>
                <a:ext cx="46483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nary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T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371600" y="3124080"/>
                <a:ext cx="49528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T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03240" y="5226120"/>
                <a:ext cx="31352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812880"/>
            <a:ext cx="5619960" cy="10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Simpson con paso adaptativo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4440" y="1898640"/>
            <a:ext cx="5829120" cy="62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unction I = adapsimp(f,a,b,tol,nivel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 Integra  f  en [a,b] por el método 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 Simpson de paso adaptativ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 tol: error admitido (estimación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 nivel: profundidad máxima de la recursió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h = (b-a)/2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Paso inic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 = a+h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Punto medi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a = feval(f,a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c = feval(f,c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b = feval(f,b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t = h/3*(fa+4*fc+fb)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Simpson sim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ol = 10*tol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 = refina(f,a,c,fa,fc,fb,int,tol,nivel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14440" y="248760"/>
            <a:ext cx="582912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Recursión sobre los intervalo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14080" y="1477800"/>
            <a:ext cx="5962680" cy="717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unction I = refina(f,a,c,fa,fc,fb,int,tol,nivel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h = (c-a)/2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d = a+h; e = c+h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Puntos medi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d = feval(f,d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e = feval(f,e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t1 = h/3*(fa+4*fd+fc)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Simpson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intervalo izq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t2 = h/3*(fc+4*fe+fb)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Simpson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intervalo de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f abs(int-int1-int2)&lt;t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 = int1+int2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lseif nivel = = 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rror('Nivel excedido'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lse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 = refina(f,a,d,fa,fd,fc,int1,tol/2,nivel-1) +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fina(f,c,e,fc,fe,fb,int2,tol/2,nivel-1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14640" y="93960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uadratura de Gaus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52480" y="2641680"/>
            <a:ext cx="49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ección de nodos apropiad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lnSpc>
                <a:spcPct val="21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sos particular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Legendr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Chebyshev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Laguerr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Hermit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Numéric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Justificación del problema y conceptos genera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órmulas de cuadratura con paso adaptativ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uadratura de Gaus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sobre intervalos finit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sobre intervalos infinit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en varias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3160" y="1981080"/>
            <a:ext cx="6379920" cy="213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02680"/>
            <a:ext cx="541044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uadratura de Gaus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OBJETIVO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94840" indent="-294840" algn="just">
              <a:lnSpc>
                <a:spcPct val="12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ección de nod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10000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, x</a:t>
            </a:r>
            <a:r>
              <a:rPr b="0" i="1" lang="en-US" sz="2400" spc="-1" strike="noStrike" baseline="-25000">
                <a:solidFill>
                  <a:srgbClr val="010000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,..., x</a:t>
            </a:r>
            <a:r>
              <a:rPr b="0" i="1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ara aumentar el grado de precisión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94840" indent="-294840" algn="just">
              <a:lnSpc>
                <a:spcPct val="12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áximo grado de exactitud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28600" y="4343400"/>
            <a:ext cx="632448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NCLUSIONE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Una fórmula de cuadratura con n nodos es exacta para polinomios de grado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2n-1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 y sólo si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la fórmula es interpolatoria, y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los nodos son las raices del n-esimo polinomio ortogonal respecto del producto escalar inducido por </a:t>
            </a:r>
            <a:r>
              <a:rPr b="0" i="1" lang="en-US" sz="2000" spc="-1" strike="noStrike">
                <a:solidFill>
                  <a:srgbClr val="010000"/>
                </a:solidFill>
                <a:latin typeface="Times New Roman"/>
              </a:rPr>
              <a:t>w(x)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en </a:t>
            </a:r>
            <a:r>
              <a:rPr b="0" lang="en-US" sz="2000" spc="-1" strike="noStrike">
                <a:solidFill>
                  <a:srgbClr val="01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10000"/>
                </a:solidFill>
                <a:latin typeface="Times New Roman"/>
              </a:rPr>
              <a:t>a,b</a:t>
            </a:r>
            <a:r>
              <a:rPr b="0" lang="en-US" sz="20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o existe ninguna fórmula co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odos exacta para todos los polinomios de grad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2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33520" y="1143000"/>
                <a:ext cx="58370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73160" y="4267080"/>
            <a:ext cx="6379920" cy="46483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43080" y="228600"/>
            <a:ext cx="62863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0000"/>
          </a:bodyPr>
          <a:p>
            <a:pPr marL="684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 de cuadratura</a:t>
            </a:r>
            <a:endParaRPr b="0" lang="en-US" sz="4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413000" y="1143000"/>
                <a:ext cx="3692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454040" y="2133720"/>
                <a:ext cx="426096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=1,2,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422360" y="3657600"/>
                <a:ext cx="461808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a&lt;</m:t>
                        </m:r>
                        <m:r>
                          <m:t xml:space="preserve">ξ</m:t>
                        </m:r>
                        <m:r>
                          <m:rPr>
                            <m:lit/>
                            <m:nor/>
                          </m:rPr>
                          <m:t xml:space="preserve">&lt;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75" name=""/>
          <p:cNvGraphicFramePr/>
          <p:nvPr/>
        </p:nvGraphicFramePr>
        <p:xfrm>
          <a:off x="84240" y="5643720"/>
          <a:ext cx="6816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5643720"/>
                    <a:ext cx="6816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228600" y="5486400"/>
            <a:ext cx="2054160" cy="276696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724280" y="7696080"/>
                <a:ext cx="1195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2289240" y="5486400"/>
            <a:ext cx="2279520" cy="276696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8480" y="5486400"/>
            <a:ext cx="2104920" cy="276696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5486400"/>
            <a:ext cx="6454800" cy="5335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101520"/>
            <a:ext cx="457200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auss-Legendr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6095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-1,1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los polinomios de Legendre forman una familia ortogonal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(x)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ien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raices reales distintas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 los coeficientes de la fórmula de cuadratura,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68240" y="2438280"/>
                <a:ext cx="608976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x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819000" y="4549680"/>
                <a:ext cx="51246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rPr>
                            <m:lit/>
                            <m:nor/>
                          </m:rPr>
                          <m:t xml:space="preserve"></m:t>
                        </m:r>
                        <m:r>
                          <m:rPr>
                            <m:lit/>
                            <m:nor/>
                          </m:rPr>
                          <m:t xml:space="preserve">k=1,2,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066680" y="7237440"/>
                <a:ext cx="497376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sub>
                              <m:sup/>
                              <m:e/>
                            </m:nary>
                          </m:e>
                          <m:lim>
                            <m:r>
                              <m:t xml:space="preserve">n</m:t>
                            </m:r>
                          </m:lim>
                        </m:limLow>
                      </m:e>
                    </m:eqAr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533520" y="5791320"/>
          <a:ext cx="5886360" cy="40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791320"/>
                    <a:ext cx="588636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3886200" y="5715000"/>
            <a:ext cx="2590920" cy="30481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03040"/>
            <a:ext cx="6096240" cy="12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olinomios de Legendr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523880"/>
            <a:ext cx="60195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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-1,1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 cambio de variable e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3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 la fórmula de cuadratura queda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3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990720" y="2435400"/>
                <a:ext cx="536868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57360" y="4165560"/>
                <a:ext cx="60735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b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85800" y="5715000"/>
            <a:ext cx="5791320" cy="47484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5715000"/>
            <a:ext cx="457200" cy="30481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5715000"/>
            <a:ext cx="2743200" cy="30481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6343560" cy="853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: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 a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[-1,1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37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Legendre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2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460000"/>
              </a:lnSpc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Legendre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3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641680" y="304920"/>
                <a:ext cx="3073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101600" y="1828800"/>
                <a:ext cx="37753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07960" y="3710160"/>
                <a:ext cx="5969160" cy="10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77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77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400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7200" y="5638680"/>
                <a:ext cx="62485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5555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74596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8889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555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74596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36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254160"/>
            <a:ext cx="600048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auss-Chebyshev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85840" y="2945880"/>
            <a:ext cx="6229440" cy="37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13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-1,1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los polinomios de Chebyshev forman una familia ortogonal,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 algn="just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T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(x)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ien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raices reales distintas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922320" y="4492800"/>
                <a:ext cx="5313240" cy="13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,3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990720" y="7010280"/>
                <a:ext cx="424944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rPr>
                        <m:lit/>
                        <m:nor/>
                      </m:rPr>
                      <m:t xml:space="preserve"></m:t>
                    </m:r>
                    <m:r>
                      <m:rPr>
                        <m:lit/>
                        <m:nor/>
                      </m:rPr>
                      <m:t xml:space="preserve">k=0,1,2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n-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208160" y="1371600"/>
                <a:ext cx="42782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»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85840" y="2971800"/>
            <a:ext cx="62294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[0,+</a:t>
            </a:r>
            <a:r>
              <a:rPr b="0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[, los polinomios de Laguerre son una familia ortogonal,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312120" indent="0" algn="just">
              <a:lnSpc>
                <a:spcPct val="5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(x)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ien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raices reales y distintas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62120" y="4290840"/>
                <a:ext cx="51512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5334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auss-Laguerr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73200" y="6427800"/>
                <a:ext cx="533232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1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</m:t>
                        </m:r>
                        <m:r>
                          <m:rPr>
                            <m:lit/>
                            <m:nor/>
                          </m:rPr>
                          <m:t xml:space="preserve">k=</m:t>
                        </m:r>
                        <m:r>
                          <m:t xml:space="preserve">0,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n-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14400" y="1066680"/>
                <a:ext cx="39736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»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990720" y="1981080"/>
                <a:ext cx="40384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10152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auss-Hermi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2336400"/>
            <a:ext cx="6229080" cy="39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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los polinomios de Hermite forman una familia ortogonal,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(x)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tien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raices reales y distintas en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+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y los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eficientes son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066680" y="3736800"/>
                <a:ext cx="497376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H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855800" y="1333440"/>
                <a:ext cx="33256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≈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990720" y="6615000"/>
                <a:ext cx="50673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!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 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861840"/>
            <a:ext cx="53150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impropi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652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rácter de las integrales impropias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solución numérica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. impropias </a:t>
            </a:r>
            <a:r>
              <a:rPr b="0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I. propi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sarrollo por series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iminación de la singularidad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03040"/>
            <a:ext cx="5562720" cy="12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Impropi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86728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a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una función contínua con una asíntota vertical en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 La integra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2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s una integral impropia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                          enton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379520" y="7139160"/>
                <a:ext cx="20415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514600"/>
                <a:ext cx="15238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465360" y="5562720"/>
            <a:ext cx="33163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27680" y="3962520"/>
            <a:ext cx="3513960" cy="6001920"/>
            <a:chOff x="1327680" y="3962520"/>
            <a:chExt cx="3513960" cy="6001920"/>
          </a:xfrm>
        </p:grpSpPr>
        <p:sp>
          <p:nvSpPr>
            <p:cNvPr id="226" name=""/>
            <p:cNvSpPr/>
            <p:nvPr/>
          </p:nvSpPr>
          <p:spPr>
            <a:xfrm>
              <a:off x="2761920" y="4991040"/>
              <a:ext cx="203364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27680" y="4309920"/>
              <a:ext cx="3225960" cy="565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9" y="0"/>
                  </a:moveTo>
                  <a:arcTo wR="10800" hR="10800" stAng="-5403488" swAng="5403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9" y="0"/>
                  </a:moveTo>
                  <a:arcTo wR="10800" hR="10800" stAng="-5403488" swAng="5403488"/>
                </a:path>
              </a:pathLst>
            </a:custGeom>
            <a:noFill/>
            <a:ln cap="rnd"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672440" y="4990680"/>
              <a:ext cx="0" cy="2057400"/>
            </a:xfrm>
            <a:prstGeom prst="line">
              <a:avLst/>
            </a:prstGeom>
            <a:ln w="1260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65880" y="4903920"/>
              <a:ext cx="275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75080" y="4819680"/>
              <a:ext cx="0" cy="34272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19400" y="4530600"/>
              <a:ext cx="59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imes New Roman"/>
                </a:rPr>
                <a:t>b-</a:t>
              </a:r>
              <a:r>
                <a:rPr b="0" lang="en-US" sz="18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03480" y="3962520"/>
              <a:ext cx="690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imes New Roman"/>
                </a:rPr>
                <a:t>f(x)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43360" y="4903920"/>
              <a:ext cx="0" cy="17136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15120" y="4903920"/>
              <a:ext cx="27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53240" y="6245280"/>
              <a:ext cx="190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2209680" y="6399360"/>
                  <a:ext cx="182340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</m:sup>
                          </m:sSup>
                        </m:lim>
                      </m:limLow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2441880" y="6500880"/>
              <a:ext cx="1907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473120" y="7848720"/>
                <a:ext cx="3456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lim>
                    </m:limLow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roducció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930320"/>
            <a:ext cx="5486400" cy="721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Justificación del problema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l elíptica de segunda clas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finición de funciones especiale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unción de Bessel 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lnSpc>
                <a:spcPct val="350000"/>
              </a:lnSpc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unción error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iscretización de ecuaciones integra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600200" y="4863960"/>
                <a:ext cx="4746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q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nq</m:t>
                    </m:r>
                    <m:r>
                      <m:t xml:space="preserve">)</m:t>
                    </m:r>
                    <m: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33720" y="6248520"/>
                <a:ext cx="39114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76040" y="4495320"/>
            <a:ext cx="637704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i                              ento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uando estos límites existen, decimos que la integral impropia es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convergent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n otro caso, se dice que es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divergent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90720" y="5029200"/>
                <a:ext cx="17780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1" name=""/>
          <p:cNvGrpSpPr/>
          <p:nvPr/>
        </p:nvGrpSpPr>
        <p:grpSpPr>
          <a:xfrm>
            <a:off x="1905120" y="-1791720"/>
            <a:ext cx="2781360" cy="6467040"/>
            <a:chOff x="1905120" y="-1791720"/>
            <a:chExt cx="2781360" cy="6467040"/>
          </a:xfrm>
        </p:grpSpPr>
        <p:grpSp>
          <p:nvGrpSpPr>
            <p:cNvPr id="242" name=""/>
            <p:cNvGrpSpPr/>
            <p:nvPr/>
          </p:nvGrpSpPr>
          <p:grpSpPr>
            <a:xfrm>
              <a:off x="1905120" y="-1791720"/>
              <a:ext cx="2501280" cy="6467040"/>
              <a:chOff x="1905120" y="-1791720"/>
              <a:chExt cx="2501280" cy="6467040"/>
            </a:xfrm>
          </p:grpSpPr>
          <p:sp>
            <p:nvSpPr>
              <p:cNvPr id="243" name=""/>
              <p:cNvSpPr/>
              <p:nvPr/>
            </p:nvSpPr>
            <p:spPr>
              <a:xfrm>
                <a:off x="1965240" y="2459880"/>
                <a:ext cx="1951920" cy="0"/>
              </a:xfrm>
              <a:prstGeom prst="line">
                <a:avLst/>
              </a:prstGeom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2095200" y="768240"/>
                <a:ext cx="0" cy="1741680"/>
              </a:xfrm>
              <a:prstGeom prst="line">
                <a:avLst/>
              </a:prstGeom>
              <a:ln w="12600">
                <a:solidFill>
                  <a:srgbClr val="01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684240" y="2387160"/>
                <a:ext cx="290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458800" y="2316240"/>
                <a:ext cx="0" cy="286920"/>
              </a:xfrm>
              <a:prstGeom prst="line">
                <a:avLst/>
              </a:prstGeom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05120" y="2387160"/>
                <a:ext cx="288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41520" y="2387160"/>
                <a:ext cx="6627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Times New Roman"/>
                  </a:rPr>
                  <a:t>a+</a:t>
                </a:r>
                <a:r>
                  <a:rPr b="0" lang="en-US" sz="1800" spc="-1" strike="noStrike">
                    <a:solidFill>
                      <a:srgbClr val="010000"/>
                    </a:solidFill>
                    <a:latin typeface="Symbol"/>
                    <a:ea typeface="Symbol"/>
                  </a:rPr>
                  <a:t>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68440" y="1095840"/>
                <a:ext cx="1137960" cy="357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95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9551"/>
                  </a:path>
                </a:pathLst>
              </a:custGeom>
              <a:noFill/>
              <a:ln cap="rnd" w="126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65600" y="1986480"/>
                <a:ext cx="1300680" cy="1794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73"/>
                    </a:moveTo>
                    <a:arcTo wR="10800" hR="10800" stAng="-8736" swAng="54087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73"/>
                    </a:moveTo>
                    <a:arcTo wR="10800" hR="10800" stAng="-8736" swAng="5408736"/>
                  </a:path>
                </a:pathLst>
              </a:custGeom>
              <a:noFill/>
              <a:ln cap="rnd" w="126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29760" y="-1791720"/>
                <a:ext cx="978480" cy="556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62" y="21600"/>
                    </a:moveTo>
                    <a:arcTo wR="10800" hR="10800" stAng="5412169" swAng="538783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62" y="21600"/>
                    </a:moveTo>
                    <a:arcTo wR="10800" hR="10800" stAng="5412169" swAng="5387831"/>
                  </a:path>
                </a:pathLst>
              </a:custGeom>
              <a:noFill/>
              <a:ln cap="rnd" w="126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2786040" y="3862440"/>
                  <a:ext cx="190044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</m:lim>
                      </m:limLow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=+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523880" y="5867280"/>
                <a:ext cx="3354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lim>
                    </m:limLow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276720" y="22860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85840" y="812880"/>
            <a:ext cx="6400800" cy="795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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0.01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4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ndo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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0.0001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y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o tiende a cero cuando    </a:t>
            </a: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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, luego                    no converge.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657600" y="304920"/>
                <a:ext cx="25113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57200" y="5378400"/>
                <a:ext cx="5640480" cy="17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515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666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065240" y="7134120"/>
                <a:ext cx="167796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895480" y="7923240"/>
                <a:ext cx="15256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062080" y="1420920"/>
                <a:ext cx="449100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5187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28600" y="3635280"/>
                <a:ext cx="65977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665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276720" y="22860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85840" y="812880"/>
            <a:ext cx="6400800" cy="731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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0.01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3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ndo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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0.0001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y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505320" y="228600"/>
                <a:ext cx="28000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54040" y="2060640"/>
                <a:ext cx="53690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023840" y="3581280"/>
                <a:ext cx="498168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≈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5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05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rad>
                                  </m:den>
                                </m:f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41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914400" y="5672160"/>
                <a:ext cx="476424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416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38080" y="7385040"/>
                <a:ext cx="5599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841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846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6057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. Impropias </a:t>
            </a:r>
            <a:r>
              <a:rPr b="1" lang="en-US" sz="4800" spc="-1" strike="noStrike">
                <a:solidFill>
                  <a:srgbClr val="336699"/>
                </a:solidFill>
                <a:latin typeface="Symbol"/>
                <a:ea typeface="Symbol"/>
              </a:rPr>
              <a:t>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I.Propia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5829120" cy="774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sarrollo por ser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4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iminación de la singularida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800280" y="1905120"/>
                <a:ext cx="541152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/>
                    </m:eqArr>
                    <m:r>
                      <m:t xml:space="preserve">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n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33520" y="3962520"/>
                <a:ext cx="6019560" cy="23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828800" y="7343640"/>
                <a:ext cx="32529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         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812880"/>
            <a:ext cx="630576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Infinit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52480" y="2641680"/>
            <a:ext cx="4648320" cy="55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les infinitas convergentes y  divergentes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étodos de aproximación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scomposición en suma de integra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Infinitas: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Métodos de Aproximació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62672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les sobre intervalos no acotados: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+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,     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b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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+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.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3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nvergencia </a:t>
            </a:r>
            <a:r>
              <a:rPr b="0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existe el límite y es un número real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905120" y="2362320"/>
                <a:ext cx="3286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b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∞</m:t>
                                </m:r>
                              </m:lim>
                            </m:limLow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a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lim>
                            </m:limLow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380880" y="4952880"/>
            <a:ext cx="6000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scomposición en suma de integrale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sulta conveniente doblar el intervalo en cada iteración: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2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973080" y="5943600"/>
                <a:ext cx="4665600" cy="19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⋯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T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276720" y="22860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57200" y="3886200"/>
          <a:ext cx="5715000" cy="47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86200"/>
                    <a:ext cx="57150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457200" y="3733920"/>
            <a:ext cx="5715000" cy="465768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228240" y="812880"/>
            <a:ext cx="6343560" cy="74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819440" y="1735200"/>
                <a:ext cx="3387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57200" y="3733920"/>
            <a:ext cx="5715000" cy="685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3733920"/>
            <a:ext cx="3024360" cy="464796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733920" y="380880"/>
                <a:ext cx="23176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971800" y="281952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6458040" cy="78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pende de la función a integrar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 cambio         transforma el intervalo                                   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                 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lnSpc>
                <a:spcPct val="6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ndo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590920" y="1600200"/>
                <a:ext cx="714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066680" y="2133720"/>
                <a:ext cx="1752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657600" y="2133720"/>
                <a:ext cx="16574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297240" y="3048120"/>
                <a:ext cx="24940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43080" y="4968720"/>
                <a:ext cx="6375240" cy="242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r>
                                  <m:t xml:space="preserve">t</m:t>
                                </m:r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319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3273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264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2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795320" y="4086360"/>
                <a:ext cx="35546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276720" y="22860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228240" y="812880"/>
            <a:ext cx="6458040" cy="731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lnSpc>
                <a:spcPct val="7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ndo Romberg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836880" y="484200"/>
                <a:ext cx="20304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068560" y="1916280"/>
                <a:ext cx="3890880" cy="98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34800" y="3257640"/>
                <a:ext cx="6069240" cy="483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5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Upp>
                        <m:r>
                          <m:t xml:space="preserve">0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36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4560" y="30456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Indefinid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281952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l definida sobre un rango variable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ubdividir el intervalo de integración y aplicar cuadratura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olución del problema de valor inicial asociad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838080" y="1814400"/>
                <a:ext cx="54770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724040" y="7372440"/>
                <a:ext cx="36226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,    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2057040"/>
            <a:ext cx="6058080" cy="708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artición del interval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,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a=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&lt;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&lt;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&lt;...&lt;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-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&lt;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b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...,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-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odo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Symbol"/>
                <a:ea typeface="Symbol"/>
              </a:rPr>
              <a:t>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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Symbol"/>
                <a:ea typeface="Symbol"/>
              </a:rPr>
              <a:t>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2,,...,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eficientes o pes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rror de integración.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rado de precisión: mayor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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al qu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(x</a:t>
            </a:r>
            <a:r>
              <a:rPr b="0" i="1" lang="en-US" sz="3000" spc="-1" strike="noStrike" baseline="30000">
                <a:solidFill>
                  <a:srgbClr val="010000"/>
                </a:solidFill>
                <a:latin typeface="Times New Roman"/>
              </a:rPr>
              <a:t>k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)=0,  k=0,1,...,m 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(x</a:t>
            </a:r>
            <a:r>
              <a:rPr b="0" i="1" lang="en-US" sz="3000" spc="-1" strike="noStrike" baseline="30000">
                <a:solidFill>
                  <a:srgbClr val="010000"/>
                </a:solidFill>
                <a:latin typeface="Times New Roman"/>
              </a:rPr>
              <a:t>m+1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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2120" y="330120"/>
            <a:ext cx="53337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os genera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828800" y="990720"/>
                <a:ext cx="327672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905120" y="4267080"/>
                <a:ext cx="32605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981080" y="5943600"/>
                <a:ext cx="28958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jercici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35240" y="2082960"/>
            <a:ext cx="5140080" cy="66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lcúlese la función error como la integral de la función de distribución gaussiana de 0 a x: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 como solución del problema de valor inicial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913040" y="3878280"/>
                <a:ext cx="41180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057400" y="6400800"/>
                <a:ext cx="395460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Múlti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86080" y="2336760"/>
            <a:ext cx="4533840" cy="482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múltiple sobre recintos rectangular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múltiple sobre regiones no rectangular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lgoritmo de Integración Múltipl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6627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on Múltiple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bre recintos rectangular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240" y="3276360"/>
            <a:ext cx="6458040" cy="55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mos la Regla de Simpson a  la integral                     considerando x como parámetro.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838080" y="2133720"/>
                <a:ext cx="551196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209680" y="3657600"/>
                <a:ext cx="16909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85800" y="4896000"/>
                <a:ext cx="5610240" cy="29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+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η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1920" y="380520"/>
            <a:ext cx="6534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mos Simpson a cada una de estas integrale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685800" y="1295280"/>
                <a:ext cx="5322960" cy="18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2243160" y="3124080"/>
                <a:ext cx="26337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91960" y="4191120"/>
                <a:ext cx="6010560" cy="45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k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[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,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,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,2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4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r>
                          <m:t xml:space="preserve">8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,2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e>
                        </m:nary>
                        <m:r>
                          <m:t xml:space="preserve">4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,2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8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,2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,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4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,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28240" y="533160"/>
            <a:ext cx="6286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presión del error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380880" y="1143000"/>
                <a:ext cx="63262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</m:d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152280" y="2666880"/>
            <a:ext cx="6458040" cy="65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eficientes de la fórmula de cuadratura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447920" y="7315200"/>
                <a:ext cx="359892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h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6" name=""/>
          <p:cNvGrpSpPr/>
          <p:nvPr/>
        </p:nvGrpSpPr>
        <p:grpSpPr>
          <a:xfrm>
            <a:off x="76320" y="3200400"/>
            <a:ext cx="6933960" cy="3975840"/>
            <a:chOff x="76320" y="3200400"/>
            <a:chExt cx="6933960" cy="3975840"/>
          </a:xfrm>
        </p:grpSpPr>
        <p:sp>
          <p:nvSpPr>
            <p:cNvPr id="327" name=""/>
            <p:cNvSpPr/>
            <p:nvPr/>
          </p:nvSpPr>
          <p:spPr>
            <a:xfrm>
              <a:off x="5867280" y="6438960"/>
              <a:ext cx="11430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b=x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2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76320" y="3282840"/>
              <a:ext cx="6324480" cy="3893400"/>
              <a:chOff x="76320" y="3282840"/>
              <a:chExt cx="6324480" cy="3893400"/>
            </a:xfrm>
          </p:grpSpPr>
          <p:sp>
            <p:nvSpPr>
              <p:cNvPr id="329" name=""/>
              <p:cNvSpPr/>
              <p:nvPr/>
            </p:nvSpPr>
            <p:spPr>
              <a:xfrm>
                <a:off x="979560" y="3448080"/>
                <a:ext cx="492912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979560" y="3448080"/>
                <a:ext cx="4929120" cy="49536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79560" y="3943440"/>
                <a:ext cx="4929120" cy="140328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979560" y="5346720"/>
                <a:ext cx="4929120" cy="66060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79560" y="3448080"/>
                <a:ext cx="49356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73120" y="3448080"/>
                <a:ext cx="49212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40160" y="3448080"/>
                <a:ext cx="65700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32320" y="3448080"/>
                <a:ext cx="57636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675320" y="3448080"/>
                <a:ext cx="65700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27280" y="6997680"/>
                <a:ext cx="901800" cy="0"/>
              </a:xfrm>
              <a:prstGeom prst="line">
                <a:avLst/>
              </a:prstGeom>
              <a:ln w="12600">
                <a:solidFill>
                  <a:srgbClr val="01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50880" y="4357800"/>
                <a:ext cx="0" cy="824040"/>
              </a:xfrm>
              <a:prstGeom prst="line">
                <a:avLst/>
              </a:prstGeom>
              <a:ln w="12600">
                <a:solidFill>
                  <a:srgbClr val="01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6320" y="328284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d=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39760" y="3695760"/>
                <a:ext cx="123336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m-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87440" y="501660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87440" y="567684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8760" y="625464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c=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8744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a=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30824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80180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37636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3372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51152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n-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16888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n-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896760" y="3200400"/>
              <a:ext cx="19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96760" y="63374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08680" y="63374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65240" y="63374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97160" y="63374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75320" y="63374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65240" y="320040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97160" y="320040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75320" y="320040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43440" y="320040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73120" y="63374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40160" y="63374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32320" y="63374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40160" y="320040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73120" y="320040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51320" y="320040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96760" y="57596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08680" y="57596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65240" y="50990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97160" y="50990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75320" y="50990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96760" y="369576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08680" y="377820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08680" y="50990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65240" y="57596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97160" y="57596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75320" y="57596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65240" y="369576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97160" y="369576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75320" y="369576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2320" y="50990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51320" y="575964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57360" y="575964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390680" y="575964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51320" y="369576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57360" y="369576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90680" y="369576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96760" y="50990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40160" y="50990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73120" y="50990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Múltiple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bre recintos no rectangular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680" y="30477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=(b-a)/2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      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k=k(x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711360" y="2133720"/>
                <a:ext cx="54194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d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</m:t>
                            </m:r>
                          </m:e>
                        </m:nary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dy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80880" y="3886200"/>
                <a:ext cx="6019920" cy="44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dx</m:t>
                                </m:r>
                                <m:r>
                                  <m:t xml:space="preserve">≈</m:t>
                                </m:r>
                              </m:e>
                            </m:nary>
                          </m:e>
                        </m:nary>
                        <m:r>
                          <m:t xml:space="preserve">≈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65516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goritmo de la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 múlti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6305760" cy="632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trada: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f(x,y), c(x), d(x),  a, b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m, 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alida: aproximación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O 1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dividir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[a,b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en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2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O 2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cada nodo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3400" spc="-1" strike="noStrike" baseline="-25000">
                <a:solidFill>
                  <a:srgbClr val="01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valuar la función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51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lcular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(d(xi )-c(xi ))/(2m)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 algn="just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O 3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r la regla compuesta de Simpson respecto a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 algn="just">
              <a:spcBef>
                <a:spcPts val="8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O 4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obre el resultado obtenido del PASO 3 aplicar Simpson respecto a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 la variable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80"/>
                </a:solidFill>
                <a:latin typeface="Math1"/>
                <a:ea typeface="Math1"/>
              </a:rPr>
              <a:t>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i="1" lang="en-US" sz="3400" spc="-1" strike="noStrike">
                <a:solidFill>
                  <a:srgbClr val="01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05120" y="1390680"/>
                <a:ext cx="35049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de Contorn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sos Particular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étodo de MonteCar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5942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de Contorn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6880" y="2006280"/>
            <a:ext cx="5713560" cy="55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Llamamos integral de contorno a una integral de la forma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endo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una curva en el plano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Y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 C está parametrizada, es posible transformar una integral de contorno en una integral ordinaria de una variable.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819000" y="3200400"/>
                <a:ext cx="55054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,   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étodo de Monte Carl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5467320" cy="69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 valor medio de la función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en el intervalo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[a,b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an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, x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, …x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puntos cualesquiera en [a,b], resulta previsible qu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uando los valores de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son aleatorios, éste método es conocido como Método de Monte Car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828800" y="2743200"/>
                <a:ext cx="32004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25360" y="5334120"/>
                <a:ext cx="51231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14640" y="13712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s de Newton-Cot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3352680"/>
            <a:ext cx="5391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órmulas de cuadratura cerrad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órmulas de cuadratura abiert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órmula de Trapecios para N 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órmula de Simpson para N 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3961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jempl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28600" y="3733920"/>
          <a:ext cx="6319800" cy="479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733920"/>
                    <a:ext cx="631980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838080" y="3733920"/>
            <a:ext cx="5715000" cy="4647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8080" y="3733920"/>
            <a:ext cx="5715000" cy="83808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3733920"/>
            <a:ext cx="762120" cy="4647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00200" y="3733920"/>
            <a:ext cx="838080" cy="4647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38280" y="3733920"/>
            <a:ext cx="2133720" cy="4647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920" y="1600200"/>
            <a:ext cx="59436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lculamos el perímetro de elipses de distintas excentricidades utilizando en todos los casos 60 puntos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3040" y="812520"/>
            <a:ext cx="6114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s de cuadratura cerrad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2361960"/>
            <a:ext cx="645804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ad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+1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untos equiespaciados d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], 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a+jh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j=0,...,n h=(b-a)/(n+2)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 Entonce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h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]a,b[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al qu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ar y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+2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[a,b], s=(x-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)/h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54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mpar y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+1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], s=(x-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)/h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" y="4317840"/>
                <a:ext cx="56674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14400" y="6756480"/>
                <a:ext cx="542304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1320" y="457200"/>
            <a:ext cx="5600520" cy="830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1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gla del Trapeci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4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2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gla de Simps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4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3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gla de Simpson 3/8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41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4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ewton-Cotes (5 puntos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88840" y="914400"/>
                <a:ext cx="42753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50960" y="2819520"/>
                <a:ext cx="512424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68280" y="6934320"/>
                <a:ext cx="606420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7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45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69800" y="4849920"/>
                <a:ext cx="637380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57080" y="406080"/>
            <a:ext cx="4971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s de cuadratura abiert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480" y="1828440"/>
            <a:ext cx="674352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ad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+1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untos equiespaciados d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],  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a+(j+1)h, j=0,...,n  h=(b-a)/(n+2)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tonce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h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]a,b [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al qu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s par y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+2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[a,b], s=(x-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)/h</a:t>
            </a:r>
            <a:br>
              <a:rPr sz="2400"/>
            </a:b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3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s impar y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[a,b], s=(x-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)/h</a:t>
            </a:r>
            <a:br>
              <a:rPr sz="2800"/>
            </a:b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30080" y="4317840"/>
                <a:ext cx="5815080" cy="182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28640" y="6908760"/>
                <a:ext cx="5950080" cy="18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2720" y="609120"/>
            <a:ext cx="6057720" cy="772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0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gla del Punto Medi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1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2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2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2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3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38080" y="1905120"/>
                <a:ext cx="5629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η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η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85800" y="3152880"/>
                <a:ext cx="581184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28600" y="6985080"/>
                <a:ext cx="664704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4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47640" y="4952880"/>
                <a:ext cx="544824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4T17:10:36Z</dcterms:created>
  <dc:creator>Alicia Cordero Barbero</dc:creator>
  <dc:description/>
  <dc:language>en-US</dc:language>
  <cp:lastModifiedBy>Hugo</cp:lastModifiedBy>
  <cp:lastPrinted>1999-02-25T17:44:44Z</cp:lastPrinted>
  <dcterms:modified xsi:type="dcterms:W3CDTF">2007-09-06T01:23:09Z</dcterms:modified>
  <cp:revision>60</cp:revision>
  <dc:subject/>
  <dc:title>Integración Numérica</dc:title>
</cp:coreProperties>
</file>