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B91-8960-4697-A24A-07B43CA2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1CD-9D7D-40C8-BF6E-C6C55DFE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0B7-1086-4E8B-A570-842CC8B5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0033-3C9E-4A4E-A890-23C3D67A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6BC7-0028-4594-A110-0AD4BC53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BF04-FD1D-4C64-A3D4-8D98E22C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2D3-FEF9-473F-BC64-38D07969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C6E-5631-4983-8A7F-7BB6249C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674-70D2-4379-99DE-3A59CF69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EC6-3EDA-43EB-B9F2-D1008A68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6FB-EF05-4C16-BF14-EF55B0D9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F6A-C7D3-4EF8-BD29-71E65C38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CA67-E63B-4F72-8190-384CB270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O DIFERENCIAL E INTEG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1471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DAD DE FUNCIONES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BILIDAD DE FUNCION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O DE PRIMITIVAS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L DE RIEMANN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LICACIONES DE LA INTEGRAL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VAS EN EL ESPACIO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   INTEGRALES IMPROPIAS Y SERIES  (2.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IMIENTO PARA 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l dominio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el conjunto de puntos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los cuales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cumple el álgebra de funciones continu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  D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_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, 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   Para cada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R –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eterminar si existe el limite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i existe, repara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e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 Sea  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C =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                        es el conjunto de puntos de continuidad de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84360" y="3284640"/>
                <a:ext cx="22392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500720" y="3500280"/>
                <a:ext cx="1833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6443640" y="3500280"/>
                <a:ext cx="1728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427640" y="4508640"/>
                <a:ext cx="18730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unt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300720" y="4508640"/>
                <a:ext cx="172872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eparado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84360" y="429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32000" y="5192640"/>
                <a:ext cx="158436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∪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80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Para desarrollar la etapa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e usa el algebra de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números reales.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                            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consider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se determina 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un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400"/>
            </a:b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numero real.                         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Para la etap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, se expres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en términos d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  básicas  que la  definen,  y se  determin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usando los  dominios  de  continuidad  de 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fun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Las etap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se trabajan con los resultados s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99ff"/>
                </a:solidFill>
                <a:latin typeface="Arial"/>
              </a:rPr>
              <a:t>el calculo de limites tratados en el primer semes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059280" y="1268280"/>
                <a:ext cx="25848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OREMA DE VALORES INTER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: 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   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continua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a)f(b)   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ntonces exist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 a, 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]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tal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b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implica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o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Caso  f(a)f(b) &lt;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: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 = (a+b)/2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 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=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    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definir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)f(d) &lt;</a:t>
            </a:r>
            <a:r>
              <a:rPr b="1" i="1" lang="es-CL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o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= d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,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d)f(b) &lt; 0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Repitiendo lo anterior se obtien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s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reciente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decrecient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   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  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implican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ambas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vergen a un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la continuidad d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segura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{f(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f(b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converge a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f(c))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0,  i.e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524720" y="1628640"/>
                <a:ext cx="41760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43280" y="1628640"/>
                <a:ext cx="4492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564000" y="213372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79640" y="3645000"/>
                <a:ext cx="2887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284720" y="530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3272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8000" y="4797360"/>
                <a:ext cx="2458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51640" y="5661000"/>
                <a:ext cx="24768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CION Y CONSECUENCIAS DEL TV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procedimiento iterativo en la demostración se conoce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método  de  la  bisecció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 se aplica a la resolución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cu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, entonces existe u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tal qu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( </a:t>
            </a:r>
            <a:r>
              <a:rPr b="1" i="1" lang="es-CL" sz="2000" spc="-1" strike="noStrike">
                <a:solidFill>
                  <a:srgbClr val="ff7c80"/>
                </a:solidFill>
                <a:latin typeface="Arial"/>
              </a:rPr>
              <a:t>Teorema del punto fijo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: A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intervalo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s continua y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-1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(inyec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 entonces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s  estrictamente monótona e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continua.  Si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,d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979640" y="420228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124000" y="3068640"/>
                <a:ext cx="4762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340000" y="530064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148360" y="530064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732720" y="5300640"/>
                <a:ext cx="2397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476360" y="566100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EOREMA DE WEIRTRASS (minimo y maxi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7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continua. Entonces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es acotada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 y alcanza sus valores minimo y maximo e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4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m.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Se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33cc"/>
                </a:solidFill>
                <a:latin typeface="Arial"/>
              </a:rPr>
              <a:t>in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  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Para 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tal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&lt;  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acotad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, por (B-W) exist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implica que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( dado     &gt; 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0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,  exis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IN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al que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- f(c)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&lt;    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ero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- 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h(n)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&lt;      +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1/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-  Si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   se tiene que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– m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&lt;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, i.e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= 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399ff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380360" y="2924280"/>
                <a:ext cx="3222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908000" y="2924280"/>
                <a:ext cx="2923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211640" y="299736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68360" y="1628640"/>
                <a:ext cx="43200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64000" y="4437000"/>
                <a:ext cx="236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04000" y="4437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236000" y="4437000"/>
                <a:ext cx="3268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0920" y="4437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0800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24360" y="4508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308720" y="364500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987640" y="5013360"/>
                <a:ext cx="2271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132000" y="5084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348000" y="4941720"/>
                <a:ext cx="1443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716360" y="501336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14836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516720" y="5013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732720" y="3645000"/>
                <a:ext cx="5032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020000" y="5084640"/>
                <a:ext cx="32364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835280" y="5734080"/>
                <a:ext cx="57600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195640" y="5734080"/>
                <a:ext cx="2206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580000" y="5661000"/>
                <a:ext cx="32400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211640" y="5661000"/>
                <a:ext cx="2192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219640" y="5661000"/>
                <a:ext cx="2192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78000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211640" y="2708280"/>
                <a:ext cx="18720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ENTARIOS SOBRE T. DE WEIRTR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alcanza su valor mínimo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en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si existe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ta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que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f(c)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y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c)    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todo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Para el caso del máximo se consider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 = sup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n la demostración,  o  se considera la función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g(x) = - f(x)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la  cual  es  continua  en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y  se  usa  la  propiedad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: x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= - min{g(x): x  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}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y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 denotan los valores mínimo y máximo d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el TVINTER y el T. de Wiertrass aseguran qu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 ) = [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,M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7020000" y="1700280"/>
                <a:ext cx="1998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564000" y="1989000"/>
                <a:ext cx="2080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219640" y="20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596360" y="2781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41128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386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INUIDAD UNI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: A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R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es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uniformemente</a:t>
            </a:r>
            <a:r>
              <a:rPr b="1" lang="es-E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continu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si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dado           existe             tal que para todo  x, y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que cumplen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 – y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      se tiene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(x) – f(y)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I &lt;</a:t>
            </a: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uniformemente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entonces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es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Reciproco no se cumple:                     es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pero no es uniformemente continua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+     )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Si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],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entonces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inuidad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cont. uniforme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ff7c80"/>
                </a:solidFill>
                <a:latin typeface="Arial"/>
              </a:rPr>
              <a:t>.</a:t>
            </a:r>
            <a:r>
              <a:rPr b="1" lang="es-ES" sz="2000" spc="-1" strike="noStrike">
                <a:solidFill>
                  <a:srgbClr val="3399ff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03280" y="1700280"/>
                <a:ext cx="79236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276720" y="1773360"/>
                <a:ext cx="79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380360" y="1844640"/>
                <a:ext cx="279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995640" y="2205000"/>
                <a:ext cx="295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7956720" y="220500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258920" y="1413000"/>
                <a:ext cx="360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780000" y="4221000"/>
                <a:ext cx="1296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524720" y="4292640"/>
                <a:ext cx="3603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940360" y="4653000"/>
                <a:ext cx="360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508720" y="5445000"/>
                <a:ext cx="79200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; discontinuidades reparables y 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par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funciones continu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compos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tinuidad de las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   modulo, raíz cuadrada, exponencial, logaritmo, seno y cos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Teorema del valor inter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 aplicación a la resolución de ecuaciones  (método de la bisección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 Weirtras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existencia de máximo y mín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Continuidad uniform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cont. + compacidad      cont. uniforme ),   funciones Lipschitziana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227640" y="5084640"/>
                <a:ext cx="43200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ABILIDAD DE 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en un punt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y aproximación lineal (ejemp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no-derivabil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Álgebra de derivad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suma, producto, cuociente, regla de la cadena, (derivada de la función inversa y derivada implíci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rivabilidad de funciones básicas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: identidad, constante, modulo, raíz cuadrada, exponencial, logaritmo, seno y co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Regla de Ferma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( máximos y mínimo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Método de Newto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 resolución de ecuaciones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eorema del valor medio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(aplicaciones), regla de L’Hopital, derivada y monotonia, derivada y convexi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35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EVIO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ONES Y SUBSUCE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función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     IR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(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real) si 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Dom(f )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infini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Notación: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= f( n),  n    Dom (f )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y   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converge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a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 dado     &gt; 0,  existe 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99ff"/>
                </a:solidFill>
                <a:latin typeface="Arial"/>
              </a:rPr>
              <a:t>0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IN  tal 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-     &lt;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,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(el numero      es el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limite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de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i exist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M&gt;0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tal que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a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   M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para todo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n    Dom ({ 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})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-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1" i="1" lang="es-CL" sz="18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una sucesión y         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una función creci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la función (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cesión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) 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   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(n)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es un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bsucesion </a:t>
            </a:r>
            <a:r>
              <a:rPr b="1" lang="es-CL" sz="1800" spc="-1" strike="noStrike">
                <a:solidFill>
                  <a:srgbClr val="0099ff"/>
                </a:solidFill>
                <a:latin typeface="Arial"/>
              </a:rPr>
              <a:t>de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771640" y="2133720"/>
                <a:ext cx="36036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348000" y="2421000"/>
                <a:ext cx="2412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508720" y="2421000"/>
                <a:ext cx="207720" cy="1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059280" y="2852640"/>
                <a:ext cx="233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211640" y="2924280"/>
                <a:ext cx="262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6012000" y="299736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268360" y="3141720"/>
                <a:ext cx="21924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771640" y="3141720"/>
                <a:ext cx="216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203640" y="3213000"/>
                <a:ext cx="25704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003640" y="321300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867280" y="3284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19640" y="3429000"/>
                <a:ext cx="2538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140360" y="5229360"/>
                <a:ext cx="261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80000" y="5516640"/>
                <a:ext cx="2156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211640" y="5589720"/>
                <a:ext cx="2016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859280" y="5300640"/>
                <a:ext cx="287280" cy="2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348000" y="5516640"/>
                <a:ext cx="503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651640" y="4005360"/>
                <a:ext cx="2188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867280" y="4005360"/>
                <a:ext cx="219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492360" y="436572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6084720" y="4076640"/>
                <a:ext cx="187560" cy="2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71640" y="2997360"/>
                <a:ext cx="14292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971640" y="4076640"/>
                <a:ext cx="14292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74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ea</a:t>
            </a:r>
            <a:r>
              <a:rPr b="0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una sucesión. Un punto (numero)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n IR es un </a:t>
            </a:r>
            <a:br>
              <a:rPr sz="2000"/>
            </a:b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punto de acumulación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d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si alguna subsucesion de </a:t>
            </a:r>
            <a:br>
              <a:rPr sz="2000"/>
            </a:b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converge a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 .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cotada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(-1)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80000"/>
              </a:lnSpc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convergent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un único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pu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de acumulación (es igual al limite de la suces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ff7c80"/>
                </a:solidFill>
                <a:latin typeface="Arial"/>
              </a:rPr>
              <a:t>Reciproco no se cumple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1/n,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pa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s-CL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= n,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n imp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Sin embargo, toda sucesión acotada con un único punt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acumulación, es convergente (converge a dicho pu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3.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(T. de Weirtrass)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Toda sucesión acotada admite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l menos 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      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punto de acumulación (</a:t>
            </a:r>
            <a:r>
              <a:rPr b="1" i="1" lang="es-CL" sz="2000" spc="-1" strike="noStrike">
                <a:solidFill>
                  <a:srgbClr val="0099ff"/>
                </a:solidFill>
                <a:latin typeface="Arial"/>
              </a:rPr>
              <a:t>al menos una subsucesion converge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a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: IR     IR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una función con domini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un punto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Se dice que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 </a:t>
            </a:r>
            <a:r>
              <a:rPr b="1" lang="es-CL" sz="2400" spc="-1" strike="noStrike">
                <a:solidFill>
                  <a:srgbClr val="ff7c80"/>
                </a:solidFill>
                <a:latin typeface="Arial"/>
              </a:rPr>
              <a:t>continua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si  para toda sucesión 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a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que converge al p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se cumple que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converge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.                                              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50752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es continua en cada punto de un conjunto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 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se dice que 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OP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ssi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   D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y  el limite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 ex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99ff"/>
                </a:solidFill>
                <a:latin typeface="Arial"/>
              </a:rPr>
              <a:t>y es igual a 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(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835280" y="549360"/>
                <a:ext cx="431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700360" y="1341360"/>
                <a:ext cx="2984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667640" y="3068640"/>
                <a:ext cx="28908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284720" y="479736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JEMPLOS DE FUNCIONES BASICAS CONTINU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1.    Funciones constantes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k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2.    Función identidad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x, 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modul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,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raíz cuadrada: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   x , x    0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exponencial: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e</a:t>
            </a:r>
            <a:r>
              <a:rPr b="1" i="1" lang="es-CL" sz="20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, 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logaritmo: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ln(x), x &gt; 0,  f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 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99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Función seno:     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sen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8.     Función coseno:          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(x) = cos(x), x 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, 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99ff"/>
                </a:solidFill>
                <a:latin typeface="Arial"/>
              </a:rPr>
              <a:t>es continua en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885080" y="765000"/>
                <a:ext cx="2858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148360" y="1989000"/>
                <a:ext cx="2077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932360" y="4581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572000" y="2997360"/>
                <a:ext cx="4316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/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64000" y="3068640"/>
                <a:ext cx="18756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48360" y="2349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435640" y="270828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19640" y="3429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651640" y="4149720"/>
                <a:ext cx="21744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5651640" y="450864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UNTOS DE DISCONTIN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218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e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 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función con domini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IR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 punt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iscontinuidad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si se cumple una de las sigu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     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sta definida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no existe el limite de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 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existe el limite de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en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y es distinto de </a:t>
            </a:r>
            <a:r>
              <a:rPr b="1" i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.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no-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Si se cumpl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,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es una discontinuidad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reparable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de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 y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repara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definiendo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f(c) = lim f(x)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(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79640" y="1700280"/>
                <a:ext cx="3049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796000" y="1628640"/>
                <a:ext cx="2379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116000" y="2708280"/>
                <a:ext cx="2430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∉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9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GEBRA DE FUNCIONES CONTIN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21844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ean </a:t>
            </a:r>
            <a:r>
              <a:rPr b="1" i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y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funciones continuas en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 L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funciones son continuas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+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  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/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co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(c)    0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Si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y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d = f( c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Entonces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g   f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   es continua en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2400" spc="-1" strike="noStrike">
                <a:solidFill>
                  <a:srgbClr val="0099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629400" y="2654280"/>
                <a:ext cx="76320" cy="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916360" y="3789360"/>
                <a:ext cx="3096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340000" y="5084640"/>
                <a:ext cx="2667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42920" y="3357720"/>
                <a:ext cx="25416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01:29:59Z</dcterms:created>
  <dc:creator>Jaime jr</dc:creator>
  <dc:description/>
  <dc:language>en-US</dc:language>
  <cp:lastModifiedBy>PCman</cp:lastModifiedBy>
  <dcterms:modified xsi:type="dcterms:W3CDTF">2007-08-09T02:58:07Z</dcterms:modified>
  <cp:revision>31</cp:revision>
  <dc:subject/>
  <dc:title>TEOREMA DE CAUCHY CAUCHY-GOURSAT</dc:title>
</cp:coreProperties>
</file>