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1BF-5CA0-46F8-8564-0406632F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A47-8C70-46C4-8382-8A4E3095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510-A888-4C14-BD99-C9BFD2E4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0B7-17A6-414F-9128-8BC43970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335-6067-4733-822B-77ABD23E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F46-5052-4014-AA2F-83870BC4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568-229C-455C-807C-5AC9895F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EA8-07ED-4B25-863A-683A0979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C16-6DE6-4E27-80F0-3BB57306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941-7CA1-4822-BA03-BE7BA36F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D6E-A254-408B-9380-293675AC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4AD-ACC4-475B-9FBB-8A872F2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69E-E99E-419D-A064-D81F228D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IFERENCIAL E INTEG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DAD DE FUNCIONES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BILIDAD DE FUNCION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O DE PRIMITIVAS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DE RIEMANN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ONES DE LA INTEGRAL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EN EL ESPACIO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  INTEGRALES IMPROPIAS Y SERI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IENTO PARA 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l dominio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el conjunto de puntos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los cuales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cumple el álgebra de funciones continu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  D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  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R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C =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                  es el conjunto de puntos de continuidad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84360" y="3284640"/>
                <a:ext cx="22392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00720" y="3500280"/>
                <a:ext cx="1833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443640" y="3500280"/>
                <a:ext cx="172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27640" y="4508640"/>
                <a:ext cx="18730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00720" y="4508640"/>
                <a:ext cx="17287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84360" y="429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5192640"/>
                <a:ext cx="15843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∪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Para desarrollar la etap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e usa el algebra de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números reales.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onsider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se determina 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un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numero real.       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Para la etap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se expre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en término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  básicas  que la  definen,  y se  determi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usando los  dominios  de  continuidad  de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Las etap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se trabajan con los resultados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 calculo de limites tratados en el primer se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59280" y="12682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EMA DE VALOR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: 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   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ntinua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a)f(b)   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implica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&lt;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= (a+b)/2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  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definir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f(d) &lt;</a:t>
            </a:r>
            <a:r>
              <a:rPr b="1" i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o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f(b) &lt; 0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Repitiendo lo anterior se obtien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s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reciente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decrecient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implic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ambas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vergen a un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la continuidad d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segura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onverge a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f(c))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0,  i.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524720" y="1628640"/>
                <a:ext cx="4176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43280" y="1628640"/>
                <a:ext cx="4492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64000" y="213372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79640" y="364500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284720" y="530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3272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1640" y="5661000"/>
                <a:ext cx="2476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CION Y CONSECUENCIAS DEL TV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procedimiento iterativo en la demostración se conoc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método  de  la  bisecció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se aplica a la resolu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cu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, entonces existe u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tal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(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Teorema del punto fijo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: A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intervalo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(inye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 entonces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s  estrictamente monóton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tinua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,d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79640" y="420228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24000" y="3068640"/>
                <a:ext cx="4762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40000" y="530064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148360" y="530064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732720" y="530064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76360" y="566100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OREMA DE WEIRTRASS (minimo y max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continua.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es acotada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y alcanza sus valores minimo y maxim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in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 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Para 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tal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&lt;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por (B-W) exist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implica qu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( dado     &gt;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exis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I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al que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- f(c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&lt;    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ero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- 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&lt;      +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se tiene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, i.e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99ff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380360" y="2924280"/>
                <a:ext cx="322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08000" y="2924280"/>
                <a:ext cx="2923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11640" y="299736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68360" y="1628640"/>
                <a:ext cx="432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64000" y="4437000"/>
                <a:ext cx="236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04000" y="4437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36000" y="4437000"/>
                <a:ext cx="326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0920" y="4437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24360" y="4508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308720" y="364500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5013360"/>
                <a:ext cx="227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5084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48000" y="4941720"/>
                <a:ext cx="144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71636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14836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732720" y="3645000"/>
                <a:ext cx="5032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20000" y="5084640"/>
                <a:ext cx="3236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5734080"/>
                <a:ext cx="5760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95640" y="5734080"/>
                <a:ext cx="2206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580000" y="5661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211640" y="5661000"/>
                <a:ext cx="21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19640" y="5661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8000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NTARIOS SOBRE T. DE WEIRT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lcanza su valor mínim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n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i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t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f(c)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y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   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odo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ara el caso del máximo se consider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sup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la demostración,  o  se considera la función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g(x) = -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la  cual  es  continua  en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se  usa  la  propieda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= - min{g(x): 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denotan los valores mínimo y máximo d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TVINTER y el T. de Wiertrass aseguran qu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) =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,M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20000" y="170028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989000"/>
                <a:ext cx="2080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219640" y="20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96360" y="2781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1128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INUIDAD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: A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e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uniformemente</a:t>
            </a:r>
            <a:r>
              <a:rPr b="1" lang="es-E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tinu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si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dado           existe             tal que para todo  x, y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que cumplen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 – 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      se tiene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x) – f(y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 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uniformemente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entonces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Reciproco no se cumple:                     es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pero no es uniformemente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tonces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inuidad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. uniforme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03280" y="1700280"/>
                <a:ext cx="792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1773360"/>
                <a:ext cx="79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380360" y="184464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95640" y="2205000"/>
                <a:ext cx="295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956720" y="220500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141300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80000" y="4221000"/>
                <a:ext cx="1296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524720" y="4292640"/>
                <a:ext cx="3603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940360" y="4653000"/>
                <a:ext cx="360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508720" y="5445000"/>
                <a:ext cx="79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; discontinuidades reparables y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funciones continu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compos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tinuidad de las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   modulo, raíz cuadrada, exponencial, logaritmo, seno y co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Teorema del valor inter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 aplicación a la resolución de ecuaciones  (método de la bisecció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 Weirtras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existencia de máximo y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uniform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cont. + compacidad      cont. uniforme ),   funciones Lipschitzian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27640" y="5084640"/>
                <a:ext cx="43200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BIL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y aproximación lineal (ejemp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-derivabil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derivad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regla de la cadena, (derivada de la función inversa y derivada implíci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de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modulo, raíz cuadrada, exponencial, logaritmo, seno y co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Regla de Ferma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( máximos y mínimo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Método de Newto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 resolución de ecuacione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l valor 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aplicaciones), regla de L’Hopital, derivada y monotonia, derivada y convexi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VIO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ONES Y SUBSUC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función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     IR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(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real) si 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Dom(f )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infini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Notación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= f( n),  n    Dom (f )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  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onverge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a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 dado     &gt; 0,  existe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99ff"/>
                </a:solidFill>
                <a:latin typeface="Arial"/>
              </a:rPr>
              <a:t>0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IN  tal 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-     &lt;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,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(el numero      es el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limite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de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&gt;0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tal que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M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 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-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sucesión y         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una función creci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la función (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)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(n)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bsucesion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71640" y="2133720"/>
                <a:ext cx="36036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348000" y="2421000"/>
                <a:ext cx="2412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508720" y="2421000"/>
                <a:ext cx="20772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2852640"/>
                <a:ext cx="23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211640" y="2924280"/>
                <a:ext cx="262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12000" y="299736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68360" y="3141720"/>
                <a:ext cx="219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771640" y="3141720"/>
                <a:ext cx="216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03640" y="3213000"/>
                <a:ext cx="257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03640" y="321300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867280" y="3284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19640" y="342900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140360" y="5229360"/>
                <a:ext cx="261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80000" y="5516640"/>
                <a:ext cx="2156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11640" y="5589720"/>
                <a:ext cx="2016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5300640"/>
                <a:ext cx="2872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48000" y="5516640"/>
                <a:ext cx="50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51640" y="4005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867280" y="4005360"/>
                <a:ext cx="219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492360" y="436572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084720" y="407664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71640" y="2997360"/>
                <a:ext cx="1429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71640" y="4076640"/>
                <a:ext cx="1429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4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una sucesión. Un punto (numero)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n IR es un </a:t>
            </a:r>
            <a:br>
              <a:rPr sz="2000"/>
            </a:b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punto de acumulación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si alguna subsucesion de </a:t>
            </a:r>
            <a:br>
              <a:rPr sz="2000"/>
            </a:b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un único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pu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 acumulación (es igual al limite de la suces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,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pa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n,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imp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n embargo, toda sucesión acotada con un único p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acumulación, es convergente (converge a dicho pu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(T. de Weirtrass)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acotada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l meno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punto de acumulación (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al menos una subsucesion converg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 IR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una función con domini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un punto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Se dice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 </a:t>
            </a:r>
            <a:r>
              <a:rPr b="1" lang="es-CL" sz="2400" spc="-1" strike="noStrike">
                <a:solidFill>
                  <a:srgbClr val="ff7c80"/>
                </a:solidFill>
                <a:latin typeface="Arial"/>
              </a:rPr>
              <a:t>continua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si  para toda sucesión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que converge al p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se cumple que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converge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continua en cada punto de un conj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 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ice que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 el limite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es igual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35280" y="549360"/>
                <a:ext cx="431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00360" y="1341360"/>
                <a:ext cx="29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667640" y="306864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4797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S DE FUNCIONES BASICAS CONTI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1.    Funciones constantes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k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2.    Función identidad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x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modul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raíz cuadrad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   x , x    0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exponencial: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,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logaritmo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ln(x), x &gt; 0,  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seno: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sen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8.     Función cosen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cos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885080" y="765000"/>
                <a:ext cx="285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148360" y="1989000"/>
                <a:ext cx="2077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32360" y="4581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0" y="299736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64000" y="3068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349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35640" y="27082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19640" y="3429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651640" y="4149720"/>
                <a:ext cx="217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51640" y="450864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NTOS DE DIS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 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función con domini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 pu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iscontinuida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si se cumple una de la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  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sta definida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xiste el limit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existe el limite de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y es distinto de 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.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-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 y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repar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definiendo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 = lim f(x)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(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79640" y="1700280"/>
                <a:ext cx="3049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96000" y="162864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2708280"/>
                <a:ext cx="243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EBRA DE FUNCIONES CONTIN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ean 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funciones continuas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funciones son continuas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+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/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co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(c)    0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 = f( c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ntonces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  f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29400" y="265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16360" y="3789360"/>
                <a:ext cx="3096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40000" y="50846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42920" y="3357720"/>
                <a:ext cx="25416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PCman</cp:lastModifiedBy>
  <dcterms:modified xsi:type="dcterms:W3CDTF">2007-08-09T02:58:07Z</dcterms:modified>
  <cp:revision>31</cp:revision>
  <dc:subject/>
  <dc:title>TEOREMA DE CAUCHY CAUCHY-GOURSAT</dc:title>
</cp:coreProperties>
</file>