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165A-1AF0-425E-8574-47605E32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F7C4-3318-4662-973B-AC4276FD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99C2-D26B-4199-92FC-E7A2F0AA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B743-005D-40D2-93A6-866DA973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A23C-20E4-4827-B767-6D476C1E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70F7-0290-41F8-8318-F99785A7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A2D1-4E82-430A-96F9-4FECDEE8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5148-35E6-483E-8243-E393153A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E760-4858-4A8E-B984-C56A8389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0246-4EA4-43D9-9C65-7D8CB0B8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259F-1CC1-41A8-8EA3-BDB36FB7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C040-70F6-4232-8CBC-BE5A8023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335B-505B-449A-BD15-B63D5C3A8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GESTIÓN DE 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4138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Área Control de la Contaminación de Suel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omisión Nacional del Medio Ambie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Octubre 200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24360" y="620640"/>
            <a:ext cx="12952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24000" y="1628640"/>
            <a:ext cx="4146120" cy="4927680"/>
            <a:chOff x="324000" y="1628640"/>
            <a:chExt cx="4146120" cy="4927680"/>
          </a:xfrm>
        </p:grpSpPr>
        <p:sp>
          <p:nvSpPr>
            <p:cNvPr id="105" name=""/>
            <p:cNvSpPr/>
            <p:nvPr/>
          </p:nvSpPr>
          <p:spPr>
            <a:xfrm>
              <a:off x="324000" y="1705680"/>
              <a:ext cx="4146120" cy="4796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4640" y="1628640"/>
              <a:ext cx="3526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CONFORMACION COMITÉ OPERATIVO NACIONAL  (DICIEMBRE 200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2200" y="1722960"/>
              <a:ext cx="3627720" cy="48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99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IN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INMINE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SERNAGEO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INV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IDE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INISTERIO DE ECONO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S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DG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SEREMI SALUD 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AChM </a:t>
              </a:r>
              <a:r>
                <a:rPr b="1" lang="es-ES" sz="1700" spc="-1" strike="noStrike">
                  <a:solidFill>
                    <a:srgbClr val="333399"/>
                  </a:solidFill>
                  <a:latin typeface="Arial"/>
                </a:rPr>
                <a:t>(Asoc. Chilena de Mun.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CDE </a:t>
              </a:r>
              <a:r>
                <a:rPr b="1" lang="es-ES" sz="1400" spc="-1" strike="noStrike">
                  <a:solidFill>
                    <a:srgbClr val="333399"/>
                  </a:solidFill>
                  <a:latin typeface="Arial"/>
                </a:rPr>
                <a:t>(Cons. de defensa del Estad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CONAM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889520" y="1562040"/>
            <a:ext cx="3962160" cy="1523880"/>
            <a:chOff x="4889520" y="1562040"/>
            <a:chExt cx="3962160" cy="1523880"/>
          </a:xfrm>
        </p:grpSpPr>
        <p:sp>
          <p:nvSpPr>
            <p:cNvPr id="109" name=""/>
            <p:cNvSpPr/>
            <p:nvPr/>
          </p:nvSpPr>
          <p:spPr>
            <a:xfrm>
              <a:off x="5118120" y="1562040"/>
              <a:ext cx="37335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0" name=""/>
            <p:cNvGraphicFramePr/>
            <p:nvPr/>
          </p:nvGraphicFramePr>
          <p:xfrm>
            <a:off x="4889520" y="1638000"/>
            <a:ext cx="1523880" cy="143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89520" y="1638000"/>
                      <a:ext cx="1523880" cy="14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"/>
            <p:cNvSpPr/>
            <p:nvPr/>
          </p:nvSpPr>
          <p:spPr>
            <a:xfrm>
              <a:off x="6337080" y="1972440"/>
              <a:ext cx="242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Formación de Exped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794120" y="3451680"/>
            <a:ext cx="423864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ETODOLOGIA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ordinación a cargo de CON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uniones periód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ortes sector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eneración de documentos de             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mités Regionale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nsulta 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41400" y="222120"/>
            <a:ext cx="787860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42920" y="189000"/>
            <a:ext cx="68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981000"/>
            <a:ext cx="77598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Proceso de elabora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126828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CONTEXTO Y DIAGNÓSTIC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628640"/>
            <a:ext cx="871380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blema de este tipo de contaminación presenta características particulares desde el punto de vista de la fuente y su comportamiento en los medios asoci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tos costos involucrados y en muchos casos la ausencia de responsables legales que asuman dichos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GSC tiene como fin mejorar la salud humana y la calidad ambiental, disminuyendo los riesgos asociados a la contaminación del suelo y las aguas subterráneas, esto media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identificación de sit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evaluación de los riesgos que implic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remediación de aquellos que presentan un 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     riesgo significativo. </a:t>
            </a:r>
            <a:r>
              <a:rPr b="1" lang="es-MX" sz="17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141300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Sistema e Instrumen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916280"/>
            <a:ext cx="849636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ación referente a los siguientes instrumentos específ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atastro de Sitios Contami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ción d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es de Remed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ponsabilidad por Dañ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141300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Catastro de 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1916280"/>
            <a:ext cx="8496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strumento principal de la primera etapa de GSC (identific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agnóstico ambiental con la finalidad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ientar el uso de recurso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remediación de sitios priori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tener a la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blación inform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oyar la gestión territoria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dirigir la ocupación del suelo urb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ar la calidad ambienta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n enfoque en el suelo y aguas subterráneas y prevenir su degrad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126828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Sistema e Instrumen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71640" y="141300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Sistema e Instrumen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1916280"/>
            <a:ext cx="849636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ación referente a los siguientes instrumentos específ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tastro de Sitios Contami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valuación d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es de Remed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ponsabilidad por Dañ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126828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Evaluación de Riesg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916280"/>
            <a:ext cx="882000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333399"/>
                </a:solidFill>
                <a:latin typeface="Arial"/>
              </a:rPr>
              <a:t>Riesgo ambiental: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 probabilidad de ocurrencia de efectos adversos sobre la salud humana o sobre los componentes del M.A. como consecuencia de la exposición a uno o más agentes físicos, químicos y biológ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valuación de Riesgo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gna magnitudes y probabilidades a los efectos adversos de la contaminación </a:t>
            </a:r>
            <a:r>
              <a:rPr b="0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fine si un SC merece ser intervenido ambientalmente y con qué urg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 y evalú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510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existencia de una 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ente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contam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510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t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ara la movilización y transporte de los contaminantes provenientes de la f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510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sic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s contaminantes (existencia de personas, o componentes del M.A. susceptibles a los contamina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5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112536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Sistema e Instrumen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141300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Sistema e Instrumen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1916280"/>
            <a:ext cx="849636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ación referente a los siguientes instrumentos específ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tastro de Sitios Contami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ción d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lanes de Remed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ponsabilidad por Dañ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126828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Planes de remedia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3284640"/>
            <a:ext cx="882000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C con riesgo significativo no aceptable </a:t>
            </a:r>
            <a:r>
              <a:rPr b="0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emed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minución del riesgo se logra interrumpiendo las vías de exposi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isminuir o eliminar la exposición del receptor a la fuente de contamin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derar uso específico del sitio, actual o pot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5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112536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Sistema e Instrumen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191628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333399"/>
                </a:solidFill>
                <a:latin typeface="Arial"/>
              </a:rPr>
              <a:t>Plan de Remediación: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 instrumento de gestión asociado a la etapa de remediación, base para la implementación de medidas de remediación sustentables y costo eficie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141300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Sistema e Instrumen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1916280"/>
            <a:ext cx="849636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ación referente a los siguientes instrumentos específ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tastro de Sitios Contami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ción d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es de Remed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sponsabilidad por Dañ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126828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Responsabilidad por daño Ambient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997360"/>
            <a:ext cx="8820000" cy="53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ción y valorización del daño (recuperación integral del impacto caus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 acciones a sab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166760" indent="-4492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acción indemnizatoria”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exige resarcimiento económico de los perjucios ocasionados por el daño ambiental, acción de índole patrimonial) </a:t>
            </a:r>
            <a:r>
              <a:rPr b="0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cción de 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66760" indent="-4492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acción ambiental”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exige reparación del M.A. dañado) </a:t>
            </a:r>
            <a:r>
              <a:rPr b="0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cción de h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66760" indent="-449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66760" indent="-449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aración: acción de reponer el M.A. o uno o más de sus componentes a una calidad similar a la que tenía con anterioridad al daño caus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166760" indent="-449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112536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Sistema e Instrumen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191628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333399"/>
                </a:solidFill>
                <a:latin typeface="Arial"/>
              </a:rPr>
              <a:t>Instrumento establecido en la Ley de bases (Título III) destinado a que quien cause un daño al M. A., lo repare de la forma establecida en esta misma 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9999"/>
                </a:solidFill>
                <a:latin typeface="Arial"/>
              </a:rPr>
              <a:t>Sitio Contamina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Área definida de suelo y/o agua subterránea que por la presencia de contaminantes presenta un riesgo a la salud de las personas o al medio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9999"/>
                </a:solidFill>
                <a:latin typeface="Arial"/>
              </a:rPr>
              <a:t>Origen de la contaminación de suelos y aguas sub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ala gestión de residu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(vertidos incontrolados, acumulaciones incorrectas, ruinas industriales,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alas prácticas en instalaciones industrial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(fugas, almacenamiento incorrecto,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ccident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n el transporte, almacenamiento y manipulación de productos quí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Emisión de contaminant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a la atmósfera que luego pueden infiltrarse al su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88920" y="371520"/>
            <a:ext cx="51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336699"/>
                </a:solidFill>
                <a:latin typeface="Arial"/>
              </a:rPr>
              <a:t>FUNDA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920" y="980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PRINCIPI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79200" y="1773360"/>
            <a:ext cx="8785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55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6699"/>
                </a:solidFill>
                <a:latin typeface="Arial"/>
              </a:rPr>
              <a:t>El que contamina pa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generador o responsable de un sitio con presencia de contaminante debe hacerse cargo de la gestión del mismo, de manera tal que minimice los riesgos significativos a la salud o medio ambiente si existies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3366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6699"/>
                </a:solidFill>
                <a:latin typeface="Arial"/>
              </a:rPr>
              <a:t>Equ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 la distribución de tareas, deberes y derechos con relación a la gestión de sitios contaminado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PRINCIPIOS (continuació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8760" y="1844640"/>
            <a:ext cx="8675640" cy="43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174680" indent="-45720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Participación Ciudad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deben establecer instancias de participación ciudadana en aquellos procesos que sea procedente. Además, se debe asegurar el acceso público a la información relativa a la gestión de sitios contaminados que cuente con la suficiente evidencia técnico-científ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174680" indent="-45720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174680" indent="-45720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Efici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á referido a enfrentar la gestión de sitios contaminados con el menor costo social posible, privilegiando aquellos instrumentos que permitan la mejor asignación de recurs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76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PRINCIPIOS (continuació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1741320"/>
            <a:ext cx="8713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5400" indent="-284040"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6699"/>
                </a:solidFill>
                <a:latin typeface="Arial"/>
              </a:rPr>
              <a:t>Gradua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540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540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os temas relevantes, a sabe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540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5400" indent="-284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s procesos de identificación, evaluación y remediación así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mo los instrumentos que para ellos se utilicen deben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siderar, de acuerdo a cada caso, una gradualidad en su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plic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540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5400" indent="-284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implementación de la presente Política específicamente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 lo referido a la ejecución de sus líneas de acción, debe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sponder a un proceso a realizar por etapas de trabajo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radu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540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540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95280" y="2284560"/>
            <a:ext cx="8354880" cy="30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Sentar las bases de un Sistema de Gestión de Sitios Contaminados en el país, que permita reducir los riesgos asociados a la salud de la población y medio ambiente a través de una gestión coordinada, sustentable y costo eficient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Objetivo General PNGS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Objetivos Específicos PNGS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-360" y="1484280"/>
            <a:ext cx="87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Generar una </a:t>
            </a: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Institucionalidad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para la Gestión de Sitios Contaminad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Fortalecer y armonizar el </a:t>
            </a: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marco normativo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para la Gestión Integral de Sitios Contaminados incluyendo su prevenci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Generar </a:t>
            </a: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instrumentos de gestión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sistemáticos y costo eficientes para la gestión de sitios contamina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rear las </a:t>
            </a: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capacidades necesarias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para la gestión integral de sitios contaminados a nivel paí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ropiciar el desarrollo de </a:t>
            </a: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mecanismos de financiamiento específicos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para la gestión de los sitios contamina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onstruir e implementar un </a:t>
            </a: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sistema de información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para la gestión de sitios contamina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romover una mayor </a:t>
            </a: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conciencia y participación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en relación a la gestión de sitios contamina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Lineamientos Gener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2200" y="1668240"/>
            <a:ext cx="8821800" cy="40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53640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GSC debe realizarse en form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adu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en diferentes niveles de evaluación que tomen en cuenta los conocimientos técnico- científicos más recientes y sobre la base de l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oriz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Esto es, que aquellos sitios que sean priorizados pasan a una siguiente etapa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criterios de identificación y evaluación requieren ser transparentes, sistemáticos y específicos asegurando que l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ueda s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n un respectivo nivel o etap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bases de datos e información que se generen, a su vez, deb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r claramente estructuradas y responder a un diseño d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gistr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standariza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Esto para facilitar su intercamb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68760" y="18900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decisiones de remediación son decisiones caso a caso, y deben basarse en un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nfoque de riesg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Los conceptos de remediación deben vincularse a la sustentabilidad y a los requerimientos del uso del sit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formación y capacit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metodológica y especializada, tanto para las autoridades como para otros sectores, es un requisito previo para la gestión eficiente y apropiada de los sitios contamin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gestión de sitios contaminados requiere la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teracción coordinad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tre el sector público, sector privado y com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1640" y="76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Lineamientos Generales (continuació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9999"/>
                </a:solidFill>
                <a:latin typeface="Arial"/>
              </a:rPr>
              <a:t>Efectos de Sitios con Presencia de Contaminan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0000"/>
                </a:solidFill>
                <a:latin typeface="Arial"/>
              </a:rPr>
              <a:t>Riesgo para la salud humana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inhalación, ingestión, contacto directo con la piel, uso de agua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0000"/>
                </a:solidFill>
                <a:latin typeface="Arial"/>
              </a:rPr>
              <a:t>Riesgo de contaminación de aguas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bterráneas, superficiales, atmósfera y sed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0000"/>
                </a:solidFill>
                <a:latin typeface="Arial"/>
              </a:rPr>
              <a:t>Riesgo físico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explosión, corrosión de estructuras o efectos en las propiedades mecánicas del sue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0000"/>
                </a:solidFill>
                <a:latin typeface="Arial"/>
              </a:rPr>
              <a:t>Riesgo indirecto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absorción y acumulación de contaminantes en cadena tróf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88920" y="371520"/>
            <a:ext cx="51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336699"/>
                </a:solidFill>
                <a:latin typeface="Arial"/>
              </a:rPr>
              <a:t>FUNDA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338472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64000" y="3213000"/>
            <a:ext cx="3311640" cy="186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916360" y="3068640"/>
            <a:ext cx="232560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4">
            <a:lum bright="-22000"/>
          </a:blip>
          <a:stretch/>
        </p:blipFill>
        <p:spPr>
          <a:xfrm>
            <a:off x="250920" y="2349360"/>
            <a:ext cx="3240000" cy="243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859280" y="692280"/>
            <a:ext cx="345780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88920" y="371520"/>
            <a:ext cx="51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336699"/>
                </a:solidFill>
                <a:latin typeface="Arial"/>
              </a:rPr>
              <a:t>FUNDA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1324080"/>
            <a:ext cx="8785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La Gestión de Sitios Contami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ne como fin último mejorar la calidad ambiental y salud humana disminuyendo los riesgos asociados a la contaminación de suelos y aguas subterráne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a ello, se de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6699"/>
                </a:solidFill>
                <a:latin typeface="Arial"/>
              </a:rPr>
              <a:t>Identifica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los sitios con presencia de contamina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6699"/>
                </a:solidFill>
                <a:latin typeface="Arial"/>
              </a:rPr>
              <a:t>Evalua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l riesgo que impli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6699"/>
                </a:solidFill>
                <a:latin typeface="Arial"/>
              </a:rPr>
              <a:t>Remediar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quellos con riesgo significa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0480" y="1604160"/>
            <a:ext cx="15296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Ma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Institu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90640" y="1604160"/>
            <a:ext cx="1589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Capac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Téc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41640" y="1604160"/>
            <a:ext cx="916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Mar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32440" y="1604160"/>
            <a:ext cx="20095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Mecanismos 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7640" y="1602720"/>
            <a:ext cx="1489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Siste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8240" y="240660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08320" y="239076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239076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240660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848720" y="240660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41400" y="171360"/>
            <a:ext cx="787860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99"/>
                </a:solidFill>
                <a:latin typeface="Arial"/>
              </a:rPr>
              <a:t>COMPONENTES DE UN SISTEMA DE GESTIÓN DE SITIOS CONTAMIN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3284640"/>
            <a:ext cx="4680000" cy="3168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85920" y="3438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DENTIFICAR : Sitio con presencia de contaminan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81400" y="5797440"/>
            <a:ext cx="35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REMEDIAR: Proyecto de remed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45040" y="4535640"/>
            <a:ext cx="44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VALUAR: Requiere remedi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Objetivos y urgencia de la remed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32440" y="4038480"/>
            <a:ext cx="502920" cy="503280"/>
          </a:xfrm>
          <a:prstGeom prst="downArrow">
            <a:avLst>
              <a:gd name="adj1" fmla="val 50000"/>
              <a:gd name="adj2" fmla="val 2501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32440" y="5262480"/>
            <a:ext cx="502920" cy="503280"/>
          </a:xfrm>
          <a:prstGeom prst="downArrow">
            <a:avLst>
              <a:gd name="adj1" fmla="val 50000"/>
              <a:gd name="adj2" fmla="val 2501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88920" y="371520"/>
            <a:ext cx="790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336699"/>
                </a:solidFill>
                <a:latin typeface="Arial"/>
              </a:rPr>
              <a:t>ORIGEN de la GSC en Chile ….así comenzó to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341360"/>
            <a:ext cx="6443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trabajo de la CONAMA asociado a la gestión de sitios contaminados tiene su origen en hacerse cargo de los pasivos ambientales conforme lo estipulado en la Política Ambiental para el Desarrollo Sustentable (199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gún experiencia internacional, GSC se acota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6699"/>
                </a:solidFill>
                <a:latin typeface="Arial"/>
              </a:rPr>
              <a:t>Considerar situaciones de contaminación en áreas geográficamente delimitadas donde los medios involucrados fuesen el suelo y las aguas subterrán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6699"/>
                </a:solidFill>
                <a:latin typeface="Arial"/>
              </a:rPr>
              <a:t>Ampliar cobertura en relación a incorporar en la gestión situaciones de contaminación surgidas en presente.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372360" y="1413000"/>
          <a:ext cx="2438280" cy="21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1413000"/>
                    <a:ext cx="2438280" cy="21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88920" y="371520"/>
            <a:ext cx="51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336699"/>
                </a:solidFill>
                <a:latin typeface="Arial"/>
              </a:rPr>
              <a:t>PRIMEROS AVAN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197000"/>
            <a:ext cx="72723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6699"/>
                </a:solidFill>
                <a:latin typeface="Arial"/>
              </a:rPr>
              <a:t>Temática en la Agenda Ambiental 2004-2006, </a:t>
            </a:r>
            <a:r>
              <a:rPr b="1" lang="es-MX" sz="16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1" lang="es-MX" sz="1600" spc="-1" strike="noStrike">
                <a:solidFill>
                  <a:srgbClr val="336699"/>
                </a:solidFill>
                <a:latin typeface="Arial"/>
              </a:rPr>
              <a:t> CONAMA coordina proceso de elaboración de Política Nacional para la Gestión de Sitios Contamin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Arial"/>
              </a:rPr>
              <a:t>Generar discusión respecto de esta gestión específica entre el sector público competente de forma coordinada y sistemá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Arial"/>
              </a:rPr>
              <a:t>Introducir en la discusión de la Política nuevos instrumentos de gest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6699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Evaluación de Riesgo aplicable caso a ca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6699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Normas de Referencia y Valores Guía, como parte del proceso de evaluación de sit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6699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Catastro de Sitios Contamin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6699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SEIA aplicable a proyectos de recuperación o reparación de terrenos que </a:t>
            </a:r>
            <a:r>
              <a:rPr b="1" lang="es-MX" sz="1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	</a:t>
            </a:r>
            <a:r>
              <a:rPr b="1" lang="es-MX" sz="1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contengan contamin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6699"/>
                </a:solidFill>
                <a:latin typeface="Arial"/>
              </a:rPr>
              <a:t>Desarrollo de Metodologías y Protoco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373880" y="1041480"/>
            <a:ext cx="162072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2200" y="981000"/>
            <a:ext cx="871380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CIÓN Y FUND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XTO Y DIAGNÓ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CIP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EAMIENTOS GENER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ÍNEAS DE 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084720" y="2852640"/>
            <a:ext cx="2603520" cy="3024360"/>
            <a:chOff x="6084720" y="2852640"/>
            <a:chExt cx="2603520" cy="3024360"/>
          </a:xfrm>
        </p:grpSpPr>
        <p:sp>
          <p:nvSpPr>
            <p:cNvPr id="96" name=""/>
            <p:cNvSpPr/>
            <p:nvPr/>
          </p:nvSpPr>
          <p:spPr>
            <a:xfrm>
              <a:off x="6084720" y="2852640"/>
              <a:ext cx="2603520" cy="302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7" name=""/>
            <p:cNvGraphicFramePr/>
            <p:nvPr/>
          </p:nvGraphicFramePr>
          <p:xfrm>
            <a:off x="6928920" y="3140640"/>
            <a:ext cx="1012680" cy="90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28920" y="3140640"/>
                      <a:ext cx="1012680" cy="9043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6225480" y="4490280"/>
              <a:ext cx="2391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 Narrow"/>
                </a:rPr>
                <a:t>POLITICA NACIONAL PARA LA GESTION DE SITIOS CONTAMIN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988920" y="181080"/>
            <a:ext cx="77598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1341360"/>
            <a:ext cx="77594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CONTENIDOS DEL DOCUMEN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20:00:05Z</dcterms:created>
  <dc:creator>Alvaro  Gonzalez Vasquez</dc:creator>
  <dc:description/>
  <dc:language>en-US</dc:language>
  <cp:lastModifiedBy>cjara</cp:lastModifiedBy>
  <dcterms:modified xsi:type="dcterms:W3CDTF">2007-10-23T14:21:17Z</dcterms:modified>
  <cp:revision>106</cp:revision>
  <dc:subject/>
  <dc:title>Presentación</dc:title>
</cp:coreProperties>
</file>