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CDD-F40D-4DB6-9182-80F26451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4A7-2D38-4428-8559-D60E30EC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845-BD86-49C3-A141-FA987D58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729-9F92-4FF1-AC95-5F7CA802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957-61D7-4518-AA8B-1852285A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51E-845C-4A89-AEEA-5CA27B16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687-C74E-4E21-BE80-38822425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2DC-5B70-4505-AC14-984F37D8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62F-D2B7-404E-8F21-86412E66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21D-7B99-4D10-A1EB-B44D3450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92C-B578-447B-8FCE-469E426A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101-BD90-4B2A-A0DA-145250EC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D9F8-D80F-40C5-935C-CF52C6644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ESTIÓN DE 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138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Área Control de la Contaminación de Suel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isión Nacional del Medio Ambie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Octubre 200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24360" y="620640"/>
            <a:ext cx="12952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1628640"/>
            <a:ext cx="4146120" cy="4927680"/>
            <a:chOff x="324000" y="1628640"/>
            <a:chExt cx="4146120" cy="4927680"/>
          </a:xfrm>
        </p:grpSpPr>
        <p:sp>
          <p:nvSpPr>
            <p:cNvPr id="105" name=""/>
            <p:cNvSpPr/>
            <p:nvPr/>
          </p:nvSpPr>
          <p:spPr>
            <a:xfrm>
              <a:off x="324000" y="1705680"/>
              <a:ext cx="4146120" cy="479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4640" y="1628640"/>
              <a:ext cx="352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ONFORMACION COMITÉ OPERATIVO NACIONAL  (DICIEMBRE 200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2200" y="1722960"/>
              <a:ext cx="3627720" cy="48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99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MINE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ERNAGEO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V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DE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ISTERIO DE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D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EREMI SALUD 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AChM </a:t>
              </a:r>
              <a:r>
                <a:rPr b="1" lang="es-ES" sz="1700" spc="-1" strike="noStrike">
                  <a:solidFill>
                    <a:srgbClr val="333399"/>
                  </a:solidFill>
                  <a:latin typeface="Arial"/>
                </a:rPr>
                <a:t>(Asoc. Chilena de Mun.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CDE </a:t>
              </a:r>
              <a:r>
                <a:rPr b="1" lang="es-ES" sz="1400" spc="-1" strike="noStrike">
                  <a:solidFill>
                    <a:srgbClr val="333399"/>
                  </a:solidFill>
                  <a:latin typeface="Arial"/>
                </a:rPr>
                <a:t>(Cons. de defensa del Esta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CONAM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889520" y="1562040"/>
            <a:ext cx="3962160" cy="1523880"/>
            <a:chOff x="4889520" y="1562040"/>
            <a:chExt cx="3962160" cy="1523880"/>
          </a:xfrm>
        </p:grpSpPr>
        <p:sp>
          <p:nvSpPr>
            <p:cNvPr id="109" name=""/>
            <p:cNvSpPr/>
            <p:nvPr/>
          </p:nvSpPr>
          <p:spPr>
            <a:xfrm>
              <a:off x="5118120" y="1562040"/>
              <a:ext cx="37335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4889520" y="1638000"/>
            <a:ext cx="1523880" cy="143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89520" y="1638000"/>
                      <a:ext cx="152388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6337080" y="1972440"/>
              <a:ext cx="242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ormación de Exped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794120" y="3451680"/>
            <a:ext cx="423864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ETODOLOGIA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ordinación a cargo de CON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uniones perió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ortes secto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neración de documentos de             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mités Regional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ult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41400" y="222120"/>
            <a:ext cx="78786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18900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981000"/>
            <a:ext cx="7759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Proceso de elabo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CONTEXTO Y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28640"/>
            <a:ext cx="87138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blema de este tipo de contaminación presenta características particulares desde el punto de vista de la fuente y su comportamiento en los medios asoci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os costos involucrados y en muchos casos la ausencia de responsables legales que asuman dichos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GSC tiene como fin mejorar la salud humana y la calidad ambiental, disminuyendo los riesgos asociados a la contaminación del suelo y las aguas subterráneas, esto me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identificación de si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evaluación de los riesgos que impli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remediación de aquellos que presentan un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    riesgo significativo. </a:t>
            </a:r>
            <a:r>
              <a:rPr b="1" lang="es-MX" sz="17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Catastro de 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916280"/>
            <a:ext cx="849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mento principal de la primera etapa de GSC (identif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agnóstico ambiental con la finalidad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r el uso de recurs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remediación de sitios priori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er a la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blación infor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ar la gestión territori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dirigir la ocupación del suel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ar la calidad ambient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 enfoque en el suelo y aguas subterráneas y prevenir su degra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Evaluación de Ries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916280"/>
            <a:ext cx="882000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Riesgo ambiental: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 probabilidad de ocurrencia de efectos adversos sobre la salud humana o sobre los componentes del M.A. como consecuencia de la exposición a uno o más agentes físicos, químicos y bioló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valuación de Riesg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 magnitudes y probabilidades a los efectos adversos de la contaminación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fine si un SC merece ser intervenido ambientalmente y con qué ur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 y evalú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xistencia de una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nt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conta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t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ra la movilización y transporte de los contaminantes provenientes de la f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si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s contaminantes (existencia de personas, o componentes del M.A. susceptibles a los contamin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1125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Planes de remedi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3284640"/>
            <a:ext cx="8820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C con riesgo significativo no aceptable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me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minución del riesgo se logra interrumpiendo las vías de ex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isminuir o eliminar la exposición del receptor a la fuente de contamin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ar uso específico del sitio, actual o pot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1125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916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Plan de Remediación: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 instrumento de gestión asociado a la etapa de remediación, base para la implementación de medidas de remediación sustentables y costo efi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126828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Responsabilidad por daño Ambient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997360"/>
            <a:ext cx="882000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y valorización del daño (recuperación integral del impacto caus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 acciones 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acción indemnizatoria”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xige resarcimiento económico de los perjucios ocasionados por el daño ambiental, acción de índole patrimonial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ión de 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acción ambiental”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xige reparación del M.A. dañado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ión de h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aración: acción de reponer el M.A. o uno o más de sus componentes a una calidad similar a la que tenía con anterioridad al daño cau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125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916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Instrumento establecido en la Ley de bases (Título III) destinado a que quien cause un daño al M. A., lo repare de la forma establecida en esta mism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9999"/>
                </a:solidFill>
                <a:latin typeface="Arial"/>
              </a:rPr>
              <a:t>Sitio Contamin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rea definida de suelo y/o agua subterránea que por la presencia de contaminantes presenta un riesgo a la salud de las personas o al medi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9999"/>
                </a:solidFill>
                <a:latin typeface="Arial"/>
              </a:rPr>
              <a:t>Origen de la contaminación de suelos y aguas sub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la gestión de residu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(vertidos incontrolados, acumulaciones incorrectas, ruinas industriale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las prácticas en instalaciones industri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(fugas, almacenamiento incorrecto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ccide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n el transporte, almacenamiento y manipulación de productos quí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Emisión de contamina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a la atmósfera que luego pueden infiltrarse al su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FUND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PRINCIP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9200" y="177336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55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</a:rPr>
              <a:t>El que contamina pa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generador o responsable de un sitio con presencia de contaminante debe hacerse cargo de la gestión del mismo, de manera tal que minimice los riesgos significativos a la salud o medio ambiente si existies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</a:rPr>
              <a:t>Equ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 la distribución de tareas, deberes y derechos con relación a la gestión de sitios contaminado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PRINCIPIOS (continuació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8760" y="1844640"/>
            <a:ext cx="867564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174680" indent="-45720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Participación Ciudad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deben establecer instancias de participación ciudadana en aquellos procesos que sea procedente. Además, se debe asegurar el acceso público a la información relativa a la gestión de sitios contaminados que cuente con la suficiente evidencia técnico-científ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74680" indent="-45720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74680" indent="-45720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Efic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á referido a enfrentar la gestión de sitios contaminados con el menor costo social posible, privilegiando aquellos instrumentos que permitan la mejor asignación de recur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PRINCIPIOS (continuació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741320"/>
            <a:ext cx="871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5400" indent="-284040"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</a:rPr>
              <a:t>Gradua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s temas relevantes, a sab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procesos de identificación, evaluación y remediación así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mo los instrumentos que para ellos se utilicen deben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iderar, de acuerdo a cada caso, una gradualidad en su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plic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implementación de la presente Política específicament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 lo referido a la ejecución de sus líneas de acción, deb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ponder a un proceso a realizar por etapas de trabaj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rad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95280" y="2284560"/>
            <a:ext cx="835488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Sentar las bases de un Sistema de Gestión de Sitios Contaminados en el país, que permita reducir los riesgos asociados a la salud de la población y medio ambiente a través de una gestión coordinada, sustentable y costo efici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Objetivo General PNGS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Objetivos Específicos PNGS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-360" y="1484280"/>
            <a:ext cx="87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Generar una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Institucionalidad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de Sitios Contaminad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ortalecer y armonizar el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marco normativ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Integral de Sitios Contaminados incluyendo su preven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Generar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instrumentos de gest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sistemáticos y costo eficientes para la gestión de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rear las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capacidades necesaria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integral de sitios contaminados a nivel paí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opiciar el desarrollo de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mecanismos de financiamiento específic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de los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onstruir e implementar un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sistema de informac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de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omover una mayor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conciencia y participac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en relación a la gestión de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Lineamiento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2200" y="1668240"/>
            <a:ext cx="8821800" cy="40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53640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GSC debe realizarse en form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d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en diferentes niveles de evaluación que tomen en cuenta los conocimientos técnico- científicos más recientes y sobre la base de l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oriz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Esto es, que aquellos sitios que sean priorizados pasan a una siguiente etapa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criterios de identificación y evaluación requieren ser transparentes, sistemáticos y específicos asegurando que l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ueda s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 un respectivo nivel o etap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bases de datos e información que se generen, a su vez, deb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r claramente estructuradas y responder a un diseño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str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andariz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Esto para facilitar su inter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68760" y="18900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 remediación son decisiones caso a caso, y deben basarse en un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foque de riesg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Los conceptos de remediación deben vincularse a la sustentabilidad y a los requerimientos del uso del si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ción y capacit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etodológica y especializada, tanto para las autoridades como para otros sectores, es un requisito previo para la gestión eficiente y apropiada de los sitios contamin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gestión de sitios contaminados requiere la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racción coordinad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tre el sector público, sector privado y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Lineamientos Generales (continuació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9999"/>
                </a:solidFill>
                <a:latin typeface="Arial"/>
              </a:rPr>
              <a:t>Efectos de Sitios con Presencia de Contaminan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para la salud human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nhalación, ingestión, contacto directo con la piel, uso de agua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de contaminación de agua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bterráneas, superficiales, atmósfera y sed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físic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explosión, corrosión de estructuras o efectos en las propiedades mecánicas del sue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indirect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bsorción y acumulación de contaminantes en cadena tróf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FUND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338472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311640" cy="18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16360" y="3068640"/>
            <a:ext cx="232560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">
            <a:lum bright="-22000"/>
          </a:blip>
          <a:stretch/>
        </p:blipFill>
        <p:spPr>
          <a:xfrm>
            <a:off x="250920" y="2349360"/>
            <a:ext cx="3240000" cy="243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859280" y="692280"/>
            <a:ext cx="345780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FUND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324080"/>
            <a:ext cx="8785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La Gestión de Sitios Contami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 como fin último mejorar la calidad ambiental y salud humana disminuyendo los riesgos asociados a la contaminación de suelos y aguas subterrán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ello, se 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6699"/>
                </a:solidFill>
                <a:latin typeface="Arial"/>
              </a:rPr>
              <a:t>Identifica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los sitios con presencia de contamin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6699"/>
                </a:solidFill>
                <a:latin typeface="Arial"/>
              </a:rPr>
              <a:t>Evalua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riesgo que impli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6699"/>
                </a:solidFill>
                <a:latin typeface="Arial"/>
              </a:rPr>
              <a:t>Remediar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quellos con riesgo signific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0480" y="1604160"/>
            <a:ext cx="1529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90640" y="1604160"/>
            <a:ext cx="1589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Capa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41640" y="1604160"/>
            <a:ext cx="916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Mar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32440" y="1604160"/>
            <a:ext cx="2009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Mecanismos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7640" y="1602720"/>
            <a:ext cx="148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Siste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8240" y="240660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8320" y="239076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239076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240660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48720" y="24066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41400" y="171360"/>
            <a:ext cx="78786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99"/>
                </a:solidFill>
                <a:latin typeface="Arial"/>
              </a:rPr>
              <a:t>COMPONENTES DE UN SISTEMA DE GESTIÓN DE SITIOS CONTA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284640"/>
            <a:ext cx="4680000" cy="3168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85920" y="3438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DENTIFICAR : Sitio con presencia de contaminan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81400" y="579744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EMEDIAR: Proyecto de re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5040" y="453564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VALUAR: Requiere remedi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bjetivos y urgencia de la re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32440" y="4038480"/>
            <a:ext cx="502920" cy="5032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32440" y="5262480"/>
            <a:ext cx="502920" cy="5032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8920" y="371520"/>
            <a:ext cx="790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ORIGEN de la GSC en Chile ….así comenzó 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41360"/>
            <a:ext cx="64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trabajo de la CONAMA asociado a la gestión de sitios contaminados tiene su origen en hacerse cargo de los pasivos ambientales conforme lo estipulado en la Política Ambiental para el Desarrollo Sustentable (199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gún experiencia internacional, GSC se acota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6699"/>
                </a:solidFill>
                <a:latin typeface="Arial"/>
              </a:rPr>
              <a:t>Considerar situaciones de contaminación en áreas geográficamente delimitadas donde los medios involucrados fuesen el suelo y las agu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6699"/>
                </a:solidFill>
                <a:latin typeface="Arial"/>
              </a:rPr>
              <a:t>Ampliar cobertura en relación a incorporar en la gestión situaciones de contaminación surgidas en presente.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72360" y="1413000"/>
          <a:ext cx="2438280" cy="21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413000"/>
                    <a:ext cx="243828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PRIMEROS AVAN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97000"/>
            <a:ext cx="7272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Temática en la Agenda Ambiental 2004-2006, </a:t>
            </a:r>
            <a:r>
              <a:rPr b="1" lang="es-MX" sz="16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 CONAMA coordina proceso de elaboración de Política Nacional para la Gestión de Sitios Cont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Generar discusión respecto de esta gestión específica entre el sector público competente de forma coordinada y siste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Introducir en la discusión de la Política nuevos instrumentos de gest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Evaluación de Riesgo aplicable caso a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Normas de Referencia y Valores Guía, como parte del proceso de evaluación de sit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SEIA aplicable a proyectos de recuperación o reparación de terrenos que 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	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contengan contami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Desarrollo de Metodologías y Protoco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373880" y="1041480"/>
            <a:ext cx="16207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2200" y="981000"/>
            <a:ext cx="87138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CIÓN Y FUND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O Y 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MIENTOS GENE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ÍNEAS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84720" y="2852640"/>
            <a:ext cx="2603520" cy="3024360"/>
            <a:chOff x="6084720" y="2852640"/>
            <a:chExt cx="2603520" cy="3024360"/>
          </a:xfrm>
        </p:grpSpPr>
        <p:sp>
          <p:nvSpPr>
            <p:cNvPr id="96" name=""/>
            <p:cNvSpPr/>
            <p:nvPr/>
          </p:nvSpPr>
          <p:spPr>
            <a:xfrm>
              <a:off x="6084720" y="2852640"/>
              <a:ext cx="2603520" cy="302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928920" y="3140640"/>
            <a:ext cx="1012680" cy="90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28920" y="3140640"/>
                      <a:ext cx="1012680" cy="904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6225480" y="4490280"/>
              <a:ext cx="2391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 Narrow"/>
                </a:rPr>
                <a:t>POLITICA NACIONAL PARA LA GESTION DE SITIOS CONTAMIN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988920" y="181080"/>
            <a:ext cx="77598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341360"/>
            <a:ext cx="7759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CONTENIDOS DEL DOCUM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20:00:05Z</dcterms:created>
  <dc:creator>Alvaro  Gonzalez Vasquez</dc:creator>
  <dc:description/>
  <dc:language>en-US</dc:language>
  <cp:lastModifiedBy>cjara</cp:lastModifiedBy>
  <dcterms:modified xsi:type="dcterms:W3CDTF">2007-10-23T14:21:17Z</dcterms:modified>
  <cp:revision>106</cp:revision>
  <dc:subject/>
  <dc:title>Presentación</dc:title>
</cp:coreProperties>
</file>