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media/image8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BDE3-C925-4A11-884B-60D613CE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AD3-B5E1-456E-9A18-EB546670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A80-9C6A-4CA0-8FF7-49D869D70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ABA-0F2B-44E6-BD76-1946DABE8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B513-038D-4C35-8F21-7AF5A90A9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FDD8-B02D-4EA4-B3AD-805EFB1FE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3D1F-4AFB-4E91-9C03-5AC952F6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DC3-6F3D-4E0F-AD77-1C2B59CA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84B8-8778-45CF-826F-0413DB8E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ED31-64D1-4E09-9F36-3DDDC360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92A1-833D-422F-981D-EF1A1EFF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4F4-4425-46C1-850E-A650492C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C694-1832-4157-B30E-36550D7356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GESTIÓN DE </a:t>
            </a:r>
            <a:br>
              <a:rPr sz="2800"/>
            </a:b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41385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Área Control de la Contaminación de Suel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Comisión Nacional del Medio Ambien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Octubre 200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24360" y="620640"/>
            <a:ext cx="1295280" cy="11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24000" y="1628640"/>
            <a:ext cx="4146120" cy="4927680"/>
            <a:chOff x="324000" y="1628640"/>
            <a:chExt cx="4146120" cy="4927680"/>
          </a:xfrm>
        </p:grpSpPr>
        <p:sp>
          <p:nvSpPr>
            <p:cNvPr id="105" name=""/>
            <p:cNvSpPr/>
            <p:nvPr/>
          </p:nvSpPr>
          <p:spPr>
            <a:xfrm>
              <a:off x="324000" y="1705680"/>
              <a:ext cx="4146120" cy="4796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4640" y="1628640"/>
              <a:ext cx="352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8000"/>
                  </a:solidFill>
                  <a:latin typeface="Arial"/>
                </a:rPr>
                <a:t>CONFORMACION COMITÉ OPERATIVO NACIONAL  (DICIEMBRE 200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2200" y="1722960"/>
              <a:ext cx="3627720" cy="48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buClr>
                  <a:srgbClr val="0099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S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MINER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ERNAGEO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V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DE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O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MINISTERIO DE ECONOM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DG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SEREMI SALUD 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AChM </a:t>
              </a:r>
              <a:r>
                <a:rPr b="1" lang="es-ES" sz="1700" spc="-1" strike="noStrike">
                  <a:solidFill>
                    <a:srgbClr val="333399"/>
                  </a:solidFill>
                  <a:latin typeface="Arial"/>
                </a:rPr>
                <a:t>(Asoc. Chilena de Mun.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333399"/>
                  </a:solidFill>
                  <a:latin typeface="Arial"/>
                </a:rPr>
                <a:t>CDE </a:t>
              </a:r>
              <a:r>
                <a:rPr b="1" lang="es-ES" sz="1400" spc="-1" strike="noStrike">
                  <a:solidFill>
                    <a:srgbClr val="333399"/>
                  </a:solidFill>
                  <a:latin typeface="Arial"/>
                </a:rPr>
                <a:t>(Cons. de defensa del Estad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333399"/>
                  </a:solidFill>
                  <a:latin typeface="Arial"/>
                </a:rPr>
                <a:t>CONAM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4889520" y="1562040"/>
            <a:ext cx="3962160" cy="1523880"/>
            <a:chOff x="4889520" y="1562040"/>
            <a:chExt cx="3962160" cy="1523880"/>
          </a:xfrm>
        </p:grpSpPr>
        <p:sp>
          <p:nvSpPr>
            <p:cNvPr id="109" name=""/>
            <p:cNvSpPr/>
            <p:nvPr/>
          </p:nvSpPr>
          <p:spPr>
            <a:xfrm>
              <a:off x="5118120" y="1562040"/>
              <a:ext cx="37335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0" name=""/>
            <p:cNvGraphicFramePr/>
            <p:nvPr/>
          </p:nvGraphicFramePr>
          <p:xfrm>
            <a:off x="4889520" y="1638000"/>
            <a:ext cx="1523880" cy="143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89520" y="1638000"/>
                      <a:ext cx="1523880" cy="143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2" name=""/>
            <p:cNvSpPr/>
            <p:nvPr/>
          </p:nvSpPr>
          <p:spPr>
            <a:xfrm>
              <a:off x="6337080" y="1972440"/>
              <a:ext cx="242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Formación de Exped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4794120" y="3451680"/>
            <a:ext cx="423864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METODOLOGIA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ordinación a cargo de CON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euniones periód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portes secto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neración de documentos de              av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mités Regionales de 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sulta Púb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41400" y="222120"/>
            <a:ext cx="7878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42920" y="189000"/>
            <a:ext cx="68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981000"/>
            <a:ext cx="77598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Proceso de elabor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ONTEXTO Y DIAGNÓSTIC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28640"/>
            <a:ext cx="8713800" cy="54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l problema de este tipo de contaminación presenta características particulares desde el punto de vista de la fuente y su comportamiento en los medios asoci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tos costos involucrados y en muchos casos la ausencia de responsables legales que asuman dichos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GSC tiene como fin mejorar la salud humana y la calidad ambiental, disminuyendo los riesgos asociados a la contaminación del suelo y las aguas subterráneas, esto media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identificación de sit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evaluación de los riesgos que impli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remediación de aquellos que presentan un 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     riesgo significativo. </a:t>
            </a:r>
            <a:r>
              <a:rPr b="1" lang="es-MX" sz="17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atastro de 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916280"/>
            <a:ext cx="8496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rumento principal de la primera etapa de GSC (identif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agnóstico ambiental con la finalidad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ientar el uso de recurs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remediación de sitios priori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tener a la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blación infor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oyar la gestión territori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y dirigir la ocupación del suelo urb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ar la calidad ambient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 enfoque en el suelo y aguas subterráneas y prevenir su degrad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Evaluación de Riesg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4000" y="1916280"/>
            <a:ext cx="88200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Riesgo ambiental: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 probabilidad de ocurrencia de efectos adversos sobre la salud humana o sobre los componentes del M.A. como consecuencia de la exposición a uno o más agentes físicos, químicos y biológ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valuación de Riesgo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igna magnitudes y probabilidades a los efectos adversos de la contaminación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fine si un SC merece ser intervenido ambientalmente y con qué urg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 y evalú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existencia de 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e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conta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t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ara la movilización y transporte de los contaminantes provenientes de la fu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a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sición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los contaminantes (existencia de personas, o componentes del M.A. susceptibles a los contamin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71640" y="126828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Planes de remediació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4000" y="3284640"/>
            <a:ext cx="88200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C con riesgo significativo no aceptable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emed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sminución del riesgo se logra interrumpiendo las vías de exposi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isminuir o eliminar la exposición del receptor a la fuente de contamin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iderar uso específico del sitio, actual o poten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648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03520" indent="-3510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916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Plan de Remediación:</a:t>
            </a:r>
            <a:r>
              <a:rPr b="0" lang="es-MX" sz="2000" spc="-1" strike="noStrike">
                <a:solidFill>
                  <a:srgbClr val="333399"/>
                </a:solidFill>
                <a:latin typeface="Arial"/>
              </a:rPr>
              <a:t> instrumento de gestión asociado a la etapa de remediación, base para la implementación de medidas de remediación sustentables y costo efici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41300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916280"/>
            <a:ext cx="849636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formación referente a los siguientes instrumentos específic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del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anes de Remedi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86000" indent="-45720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Responsabilidad por Dañ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268280"/>
            <a:ext cx="626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Responsabilidad por daño Ambient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997360"/>
            <a:ext cx="8820000" cy="53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aluación y valorización del daño (recuperación integral del impacto caus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 acciones a sab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cción indemnizatoria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xige resarcimiento económico de los perjucios ocasionados por el daño ambiental, acción de índole patrimonial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ión de 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acción ambiental”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exige reparación del M.A. dañado) </a:t>
            </a:r>
            <a:r>
              <a:rPr b="0" lang="es-MX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cción de 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paración: acción de reponer el M.A. o uno o más de sus componentes a una calidad similar a la que tenía con anterioridad al daño cau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928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166760" indent="-4492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1125360"/>
            <a:ext cx="51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Sistema e Instrument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9640" y="1916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333399"/>
                </a:solidFill>
                <a:latin typeface="Arial"/>
              </a:rPr>
              <a:t>Instrumento establecido en la Ley de bases (Título III) destinado a que quien cause un daño al M. A., lo repare de la forma establecida en esta misma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126792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Sitio Contaminad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Área definida de suelo y/o agua subterránea que por la presencia de contaminantes presenta un riesgo a la salud de las personas o al medio amb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Origen de la contaminación de suelos y aguas sub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la gestión de residuo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vertidos incontrolados, acumulaciones incorrectas, ruinas industriales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Malas prácticas en instalaciones industrial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(fugas, almacenamiento incorrecto, et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Acci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n el transporte, almacenamiento y manipulación de productos quím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Emisión de contamina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a la atmósfera que luego pueden infiltrarse al sue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42920" y="980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79200" y="1773360"/>
            <a:ext cx="8785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55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El que contamina pag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l generador o responsable de un sitio con presencia de contaminante debe hacerse cargo de la gestión del mismo, de manera tal que minimice los riesgos significativos a la salud o medio ambiente si existies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Equ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la distribución de tareas, deberes y derechos con relación a la gestión de sitios contaminados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836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8760" y="1844640"/>
            <a:ext cx="8675640" cy="43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Participación Ciudada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deben establecer instancias de participación ciudadana en aquellos procesos que sea procedente. Además, se debe asegurar el acceso público a la información relativa a la gestión de sitios contaminados que cuente con la suficiente evidencia técnico-científ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174680" indent="-45720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Eficienc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stá referido a enfrentar la gestión de sitios contaminados con el menor costo social posible, privilegiando aquellos instrumentos que permitan la mejor asignación de recurs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PRINCIPIO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741320"/>
            <a:ext cx="871380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25400" indent="-284040"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336699"/>
                </a:solidFill>
                <a:latin typeface="Arial"/>
              </a:rPr>
              <a:t>Gradualid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Dos temas relevantes, a sabe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os procesos de identificación, evaluación y remediación así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mo los instrumentos que para ellos se utilicen deben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considerar, de acuerdo a cada caso, una gradualidad en su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aplicaci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La implementación de la presente Política específicament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en lo referido a la ejecución de sus líneas de acción, debe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responder a un proceso a realizar por etapas de trabajo 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gradual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725400" indent="-284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395280" y="2284560"/>
            <a:ext cx="8354880" cy="30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Arial"/>
              </a:rPr>
              <a:t>Sentar las bases de un Sistema de Gestión de Sitios Contaminados en el país, que permita reducir los riesgos asociados a la salud de la población y medio ambiente a través de una gestión coordinada, sustentable y costo eficiente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Objetivo General PNGS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Objetivos Específicos PNGS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-360" y="1484280"/>
            <a:ext cx="87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enerar una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Sitios Contaminad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Fortalecer y armonizar el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marco normativ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Integral de Sitios Contaminados incluyendo su preven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Generar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instrumentos de gest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sistemáticos y costo eficientes par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rear las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capacidades necesaria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integral de sitios contaminados a nivel paí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piciar el desarrollo de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mecanismos de financiamiento específicos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los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Construir e implementar un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sistema de inform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mover una mayor </a:t>
            </a:r>
            <a:r>
              <a:rPr b="1" i="1" lang="es-ES" sz="1900" spc="-1" strike="noStrike">
                <a:solidFill>
                  <a:srgbClr val="000000"/>
                </a:solidFill>
                <a:latin typeface="Arial"/>
              </a:rPr>
              <a:t>conciencia y participación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en relación a la gestión de sitios contaminado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7164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ineamientos Genera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2200" y="1668240"/>
            <a:ext cx="8821800" cy="40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53640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GSC debe realizarse en form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du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en diferentes niveles de evaluación que tomen en cuenta los conocimientos técnico- científicos más recientes y sobre la base de l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oriz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Esto es, que aquellos sitios que sean priorizados pasan a una siguiente etapa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357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s criterios de identificación y evaluación requieren ser transparentes, sistemáticos y específicos asegurando que la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ció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pueda se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ar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en un respectivo nivel o etap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bases de datos e información que se generen, a su vez, deb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r claramente estructuradas y responder a un diseño de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r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andariza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Esto para facilitar su inter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536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68760" y="18900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decisiones de remediación son decisiones caso a caso, y deben basarse en un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enfoque de riesg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Los conceptos de remediación deben vincularse a la sustentabilidad y a los requerimientos del uso del sit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formación y capacitació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metodológica y especializada, tanto para las autoridades como para otros sectores, es un requisito previo para la gestión eficiente y apropiada de los sitios contamin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gestión de sitios contaminados requiere la 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interacción coordinad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tre el sector público, sector privado y com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765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9999"/>
                </a:solidFill>
                <a:latin typeface="Arial"/>
              </a:rPr>
              <a:t>Lineamientos Generales (continuació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97480" y="200160"/>
            <a:ext cx="65174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300" spc="-1" strike="noStrike">
                <a:solidFill>
                  <a:srgbClr val="009999"/>
                </a:solidFill>
                <a:latin typeface="Arial"/>
              </a:rPr>
              <a:t>Efectos de Sitios con Presencia de Contaminan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para la salud humana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inhalación, ingestión, contacto directo con la piel, uso de agua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de contaminación de aguas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ubterráneas, superficiales, atmósfera y sedi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físic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explosión, corrosión de estructuras o efectos en las propiedades mecánicas del sue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200" spc="-1" strike="noStrike">
                <a:solidFill>
                  <a:srgbClr val="000000"/>
                </a:solidFill>
                <a:latin typeface="Arial"/>
              </a:rPr>
              <a:t>Riesgo indirecto</a:t>
            </a: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absorción y acumulación de contaminantes en cadena trófi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338472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364000" y="3213000"/>
            <a:ext cx="3311640" cy="186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2916360" y="3068640"/>
            <a:ext cx="2325600" cy="3352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4">
            <a:lum bright="-22000"/>
          </a:blip>
          <a:stretch/>
        </p:blipFill>
        <p:spPr>
          <a:xfrm>
            <a:off x="250920" y="2349360"/>
            <a:ext cx="3240000" cy="243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4859280" y="692280"/>
            <a:ext cx="345780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FUNDAMEN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324080"/>
            <a:ext cx="87854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6699"/>
                </a:solidFill>
                <a:latin typeface="Arial"/>
              </a:rPr>
              <a:t>La Gestión de Sitios Contami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iene como fin último mejorar la calidad ambiental y salud humana disminuyendo los riesgos asociados a la contaminación de suelos y aguas subterráne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ra ello, se de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Identifica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los sitios con presencia de contaminan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Evalua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el riesgo que implic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336699"/>
                </a:solidFill>
                <a:latin typeface="Arial"/>
              </a:rPr>
              <a:t>Remediar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quellos con riesgo signific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0480" y="1604160"/>
            <a:ext cx="15296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ar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nstitu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90640" y="1604160"/>
            <a:ext cx="158904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Capac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Técn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41640" y="1604160"/>
            <a:ext cx="9169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ar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Le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32440" y="1604160"/>
            <a:ext cx="200952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Mecanismos 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7640" y="1602720"/>
            <a:ext cx="1489680" cy="642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Sistem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  <a:ea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8240" y="24066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08320" y="239076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9880" y="239076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38680" y="24066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2406600"/>
            <a:ext cx="609480" cy="685800"/>
          </a:xfrm>
          <a:prstGeom prst="downArrow">
            <a:avLst>
              <a:gd name="adj1" fmla="val 50000"/>
              <a:gd name="adj2" fmla="val 28131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41400" y="171360"/>
            <a:ext cx="787860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336699"/>
                </a:solidFill>
                <a:latin typeface="Arial"/>
              </a:rPr>
              <a:t>COMPONENTES DE UN SISTEMA DE GESTIÓN DE SITIOS CONTAMIN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124000" y="3284640"/>
            <a:ext cx="4680000" cy="3168720"/>
          </a:xfrm>
          <a:prstGeom prst="rect">
            <a:avLst/>
          </a:prstGeom>
          <a:solidFill>
            <a:srgbClr val="ffffcc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85920" y="3438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DENTIFICAR : Sitio con presencia de contaminan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81400" y="5797440"/>
            <a:ext cx="35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REMEDIAR: Proyecto de re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5040" y="4535640"/>
            <a:ext cx="442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VALUAR: Requiere remediació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Objetivos y urgencia de la remed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32440" y="4038480"/>
            <a:ext cx="502920" cy="5032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32440" y="5262480"/>
            <a:ext cx="502920" cy="503280"/>
          </a:xfrm>
          <a:prstGeom prst="downArrow">
            <a:avLst>
              <a:gd name="adj1" fmla="val 50000"/>
              <a:gd name="adj2" fmla="val 25018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88920" y="371520"/>
            <a:ext cx="790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ORIGEN de la GSC en Chile ….así comenzó 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341360"/>
            <a:ext cx="6443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trabajo de la CONAMA asociado a la gestión de sitios contaminados tiene su origen en hacerse cargo de los pasivos ambientales conforme lo estipulado en la Política Ambiental para el Desarrollo Sustentable (1998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gún experiencia internacional, GSC se acota 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6699"/>
                </a:solidFill>
                <a:latin typeface="Arial"/>
              </a:rPr>
              <a:t>Considerar situaciones de contaminación en áreas geográficamente delimitadas donde los medios involucrados fuesen el suelo y las aguas subterrán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336699"/>
                </a:solidFill>
                <a:latin typeface="Arial"/>
              </a:rPr>
              <a:t>Ampliar cobertura en relación a incorporar en la gestión situaciones de contaminación surgidas en presente.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72360" y="1413000"/>
          <a:ext cx="2438280" cy="211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413000"/>
                    <a:ext cx="2438280" cy="211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88920" y="371520"/>
            <a:ext cx="511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336699"/>
                </a:solidFill>
                <a:latin typeface="Arial"/>
              </a:rPr>
              <a:t>PRIMEROS AVAN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197000"/>
            <a:ext cx="72723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Temática en la Agenda Ambiental 2004-2006, </a:t>
            </a:r>
            <a:r>
              <a:rPr b="1" lang="es-MX" sz="1600" spc="-1" strike="noStrike">
                <a:solidFill>
                  <a:srgbClr val="336699"/>
                </a:solidFill>
                <a:latin typeface="Wingdings"/>
                <a:ea typeface="Wingdings"/>
              </a:rPr>
              <a:t>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 CONAMA coordina proceso de elaboración de Política Nacional para la Gestión de Sitios Cont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Generar discusión respecto de esta gestión específica entre el sector público competente de forma coordinada y sistemá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99"/>
                </a:solidFill>
                <a:latin typeface="Arial"/>
              </a:rPr>
              <a:t>Introducir en la discusión de la Política nuevos instrumentos de gestió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Evaluación de Riesgo aplicable caso a ca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Normas de Referencia y Valores Guía, como parte del proceso de evaluación de sit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atastro de Sitios Contamin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457200" algn="just">
              <a:lnSpc>
                <a:spcPct val="100000"/>
              </a:lnSpc>
              <a:buClr>
                <a:srgbClr val="336699"/>
              </a:buClr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SEIA aplicable a proyectos de recuperación o reparación de terrenos que 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	</a:t>
            </a:r>
            <a:r>
              <a:rPr b="1" lang="es-MX" sz="1600" spc="-1" strike="noStrike">
                <a:solidFill>
                  <a:srgbClr val="336699"/>
                </a:solidFill>
                <a:latin typeface="Arial"/>
                <a:ea typeface="ＭＳ Ｐゴシック"/>
              </a:rPr>
              <a:t>contengan contamina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336699"/>
                </a:solidFill>
                <a:latin typeface="Arial"/>
              </a:rPr>
              <a:t>Desarrollo de Metodologías y Protoco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373880" y="1041480"/>
            <a:ext cx="162072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152280"/>
            <a:ext cx="304920" cy="1067040"/>
          </a:xfrm>
          <a:prstGeom prst="rect">
            <a:avLst/>
          </a:prstGeom>
          <a:solidFill>
            <a:srgbClr val="33669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914400"/>
            <a:ext cx="50292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2200" y="981000"/>
            <a:ext cx="871380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RODUCCIÓN Y FUND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EXTO Y DIAGNÓ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NCIP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NEAMIENTOS GENER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ÍNEAS DE 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6084720" y="2852640"/>
            <a:ext cx="2603520" cy="3024360"/>
            <a:chOff x="6084720" y="2852640"/>
            <a:chExt cx="2603520" cy="3024360"/>
          </a:xfrm>
        </p:grpSpPr>
        <p:sp>
          <p:nvSpPr>
            <p:cNvPr id="96" name=""/>
            <p:cNvSpPr/>
            <p:nvPr/>
          </p:nvSpPr>
          <p:spPr>
            <a:xfrm>
              <a:off x="6084720" y="2852640"/>
              <a:ext cx="2603520" cy="302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  <a:effectLst>
              <a:outerShdw dist="153753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7" name=""/>
            <p:cNvGraphicFramePr/>
            <p:nvPr/>
          </p:nvGraphicFramePr>
          <p:xfrm>
            <a:off x="6928920" y="3140640"/>
            <a:ext cx="1012680" cy="904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28920" y="3140640"/>
                      <a:ext cx="1012680" cy="9043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53753" dir="2700000" blurRad="0" rotWithShape="0">
                        <a:srgbClr val="80808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6225480" y="4490280"/>
              <a:ext cx="23918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Arial Narrow"/>
                </a:rPr>
                <a:t>POLITICA NACIONAL PARA LA GESTION DE SITIOS CONTAMIN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988920" y="181080"/>
            <a:ext cx="7759800" cy="7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POLÍTICA NACIONAL PARA LA GESTIÓN DE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336699"/>
                </a:solidFill>
                <a:latin typeface="Arial"/>
              </a:rPr>
              <a:t>SITIOS CONTAMIN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341360"/>
            <a:ext cx="775944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300" spc="-1" strike="noStrike">
                <a:solidFill>
                  <a:srgbClr val="009999"/>
                </a:solidFill>
                <a:latin typeface="Arial"/>
              </a:rPr>
              <a:t>CONTENIDOS DEL DOCUMENT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20:00:05Z</dcterms:created>
  <dc:creator>Alvaro  Gonzalez Vasquez</dc:creator>
  <dc:description/>
  <dc:language>en-US</dc:language>
  <cp:lastModifiedBy>cjara</cp:lastModifiedBy>
  <dcterms:modified xsi:type="dcterms:W3CDTF">2007-10-23T14:21:17Z</dcterms:modified>
  <cp:revision>106</cp:revision>
  <dc:subject/>
  <dc:title>Presentación</dc:title>
</cp:coreProperties>
</file>