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945-44F5-4C5A-A8DE-C190E170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B3E-66FF-461C-8EED-DC28B538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3B1-ABCB-4FAB-8A80-9462A307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81B-FAC4-41B9-BCB6-5BEDC7C8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8C0-7318-4754-BF9C-373D173E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009-16BC-4F1D-9C00-C0C75455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FDA-8239-4712-9E37-3D0BD3A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789-E344-403E-A12F-D7D4C229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4E7-6CBB-4862-B6A9-38AA9BB4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579-DD16-44B3-A67D-74169EE6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819-4597-458A-A18A-34D95B66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DE3-27AD-4EB7-BF77-972D9B3A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DBEE-19D1-4195-98EA-8DE4185C3F2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Se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para una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4000" y="189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Crist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Ing Quimica</cp:lastModifiedBy>
  <dcterms:modified xsi:type="dcterms:W3CDTF">2007-09-26T15:51:11Z</dcterms:modified>
  <cp:revision>12</cp:revision>
  <dc:subject/>
  <dc:title>Operaciones de Refinamiento Final</dc:title>
</cp:coreProperties>
</file>