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853-FA32-4602-8807-2B2C219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8B3-40E6-4EDC-944D-8300DD1D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D47-E256-4585-951B-0C5EC020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918-5AE2-4A60-A903-35AEE79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F2D-8ABB-4DCC-A250-CF6E3DC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02F-34C3-408E-AC06-AA06844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573-058F-449C-ADA4-E39DA6E8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979-6F2C-4693-AF5B-4F49369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50E-05D0-45FE-BF57-371FDD32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9E0-E816-4F52-94C4-E76C97E2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C86-55F1-4D14-9A75-08EAC61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A76-4DCA-4772-9893-F76AC8DB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1B09-090F-4FDF-9691-DD5DC88372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7-09-26T15:51:11Z</dcterms:modified>
  <cp:revision>12</cp:revision>
  <dc:subject/>
  <dc:title>Operaciones de Refinamiento Final</dc:title>
</cp:coreProperties>
</file>