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D0A29-6A5A-4734-BED7-652406F40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49074-2882-4AC8-A08A-8EFC4726B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8BC2D-CFA1-44D2-8CA7-7ED7352C0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CE471-05FC-47A3-BCB9-5CA2D21A0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E207A-4A1D-4930-8AAD-AA7D58030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3C94A-EA8F-462E-9FC8-ED7973FAF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49157-54BC-4918-8524-9180BE42E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F03FF-A3F1-4291-8D2C-676609540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AA15A-4DCF-40DF-944C-259568308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C6D09-618E-49E1-B1FB-DE7CDFA31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0347D-8624-49E1-A8A7-8117EE469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B188-6F32-4312-BB15-BF7962296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A69C-0A94-4657-A94A-404761D373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duction of stages due to affinity adsorption</a:t>
            </a:r>
            <a:endParaRPr b="0" lang="en-US" sz="36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  (4 MPa)</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r>
              <a:rPr b="0" lang="es-ES_tradnl" sz="3000" spc="-1" strike="noStrike" u="sng">
                <a:solidFill>
                  <a:srgbClr val="990033"/>
                </a:solidFill>
                <a:uFillTx/>
                <a:latin typeface="Comic Sans MS"/>
                <a:ea typeface="Times New Roman"/>
              </a:rPr>
              <a:t>20-40 MPa</a:t>
            </a: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40 MP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7-09-11T20:12:29Z</dcterms:modified>
  <cp:revision>53</cp:revision>
  <dc:subject/>
  <dc:title>Cromatografía en Lecho Fijo</dc:title>
</cp:coreProperties>
</file>