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E5DCA-B5A7-4465-A95A-BDDAFD0DC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9A656-1EC1-4144-B9DC-6D1EE2156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AE1CF-5CB7-4B03-86B1-C14CD972E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19B6F-031F-4166-9384-37C744134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9B586-5790-4D71-B5BF-3F79C624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7EB5-912E-4467-888E-6DE58AA66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7474B-6DCD-4392-BB36-9630E2D0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0F10-DA87-47F1-8F04-2D7DDD929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44899-38B4-4DBF-8EB4-07D6E155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A7F4-1990-4D39-9CC7-E08D4B42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B452A-3CE7-47B4-8B1A-8730532E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64A7-8766-4ED3-9E12-9633780A2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424E-DE42-45CA-88AE-35F70C0BE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1T20:12:29Z</dcterms:modified>
  <cp:revision>53</cp:revision>
  <dc:subject/>
  <dc:title>Cromatografía en Lecho Fijo</dc:title>
</cp:coreProperties>
</file>